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gif" ContentType="image/gif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356F-0D70-4F25-8B28-DD1CF0CEB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0281-3DDC-4F4A-B639-49ACA170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377E-980A-4CC8-AD07-747A8E00B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602B-DAA2-4DD6-8DF1-4549B4BA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4005-FF39-448D-9B02-5EE80FED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ABA2-FC59-4F2D-90D6-E693AE4E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7BD0-8947-4582-A3A8-41CC2D39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8544-E36A-4FC6-8D17-971965E9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1FCE-D8C0-40DB-87C2-EAC39893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D12C-E310-4AEE-B459-1A5B58D3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B007-861E-48B2-8587-A7EB64C6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0828-7677-4EA4-85C3-6D369D77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910E-549A-4170-B6BC-9298633CB5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4.jpe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1420920" y="2700360"/>
            <a:ext cx="6156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Users\Сергей\Desktop\i копия.gif"/>
          <p:cNvPicPr/>
          <p:nvPr/>
        </p:nvPicPr>
        <p:blipFill>
          <a:blip r:embed="rId1"/>
          <a:stretch/>
        </p:blipFill>
        <p:spPr>
          <a:xfrm>
            <a:off x="5000760" y="1214280"/>
            <a:ext cx="285480" cy="297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F:\Мои документы\Рисунок12.jpg"/>
          <p:cNvPicPr/>
          <p:nvPr/>
        </p:nvPicPr>
        <p:blipFill>
          <a:blip r:embed="rId2"/>
          <a:stretch/>
        </p:blipFill>
        <p:spPr>
          <a:xfrm>
            <a:off x="3571920" y="4000680"/>
            <a:ext cx="1944720" cy="1423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E:\Мои документы\Мои рисунки\ПЛАНЕТЫ\saturn_01 копия.gif"/>
          <p:cNvPicPr/>
          <p:nvPr/>
        </p:nvPicPr>
        <p:blipFill>
          <a:blip r:embed="rId3"/>
          <a:stretch/>
        </p:blipFill>
        <p:spPr>
          <a:xfrm>
            <a:off x="2428920" y="4857840"/>
            <a:ext cx="2244600" cy="1571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E:\Мои документы\Мои рисунки\ПЛАНЕТЫ\big1 копия.gif"/>
          <p:cNvPicPr/>
          <p:nvPr/>
        </p:nvPicPr>
        <p:blipFill>
          <a:blip r:embed="rId4"/>
          <a:stretch/>
        </p:blipFill>
        <p:spPr>
          <a:xfrm>
            <a:off x="7358040" y="3643200"/>
            <a:ext cx="833400" cy="625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E:\Мои документы\Мои рисунки\ПЛАНЕТЫ\600px-Jupiter копия.gif"/>
          <p:cNvPicPr/>
          <p:nvPr/>
        </p:nvPicPr>
        <p:blipFill>
          <a:blip r:embed="rId5"/>
          <a:stretch/>
        </p:blipFill>
        <p:spPr>
          <a:xfrm>
            <a:off x="2357280" y="357120"/>
            <a:ext cx="1643400" cy="1643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F:\Мои документы\Рисунок12.jpg"/>
          <p:cNvPicPr/>
          <p:nvPr/>
        </p:nvPicPr>
        <p:blipFill>
          <a:blip r:embed="rId6"/>
          <a:stretch/>
        </p:blipFill>
        <p:spPr>
          <a:xfrm>
            <a:off x="2857680" y="2214720"/>
            <a:ext cx="1944360" cy="14238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ая соединительная линия 4"/>
          <p:cNvSpPr/>
          <p:nvPr/>
        </p:nvSpPr>
        <p:spPr>
          <a:xfrm>
            <a:off x="755640" y="3351240"/>
            <a:ext cx="3456000" cy="190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5"/>
          <p:cNvSpPr/>
          <p:nvPr/>
        </p:nvSpPr>
        <p:spPr>
          <a:xfrm>
            <a:off x="755640" y="3763800"/>
            <a:ext cx="4745160" cy="223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9"/>
          <p:cNvSpPr/>
          <p:nvPr/>
        </p:nvSpPr>
        <p:spPr>
          <a:xfrm>
            <a:off x="755640" y="3351240"/>
            <a:ext cx="0" cy="4078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1"/>
          <p:cNvSpPr/>
          <p:nvPr/>
        </p:nvSpPr>
        <p:spPr>
          <a:xfrm>
            <a:off x="1187280" y="3357720"/>
            <a:ext cx="0" cy="4060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2"/>
          <p:cNvSpPr/>
          <p:nvPr/>
        </p:nvSpPr>
        <p:spPr>
          <a:xfrm>
            <a:off x="1619280" y="3360600"/>
            <a:ext cx="0" cy="406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13"/>
          <p:cNvSpPr/>
          <p:nvPr/>
        </p:nvSpPr>
        <p:spPr>
          <a:xfrm>
            <a:off x="2050920" y="1406520"/>
            <a:ext cx="0" cy="23605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14"/>
          <p:cNvSpPr/>
          <p:nvPr/>
        </p:nvSpPr>
        <p:spPr>
          <a:xfrm>
            <a:off x="2498760" y="1406520"/>
            <a:ext cx="0" cy="2352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15"/>
          <p:cNvSpPr/>
          <p:nvPr/>
        </p:nvSpPr>
        <p:spPr>
          <a:xfrm>
            <a:off x="2916360" y="2208240"/>
            <a:ext cx="0" cy="15508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16"/>
          <p:cNvSpPr/>
          <p:nvPr/>
        </p:nvSpPr>
        <p:spPr>
          <a:xfrm>
            <a:off x="3348000" y="2208240"/>
            <a:ext cx="0" cy="15508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7"/>
          <p:cNvSpPr/>
          <p:nvPr/>
        </p:nvSpPr>
        <p:spPr>
          <a:xfrm>
            <a:off x="3780000" y="3351240"/>
            <a:ext cx="0" cy="4078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20"/>
          <p:cNvSpPr/>
          <p:nvPr/>
        </p:nvSpPr>
        <p:spPr>
          <a:xfrm>
            <a:off x="4211640" y="3360600"/>
            <a:ext cx="0" cy="406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52"/>
          <p:cNvSpPr/>
          <p:nvPr/>
        </p:nvSpPr>
        <p:spPr>
          <a:xfrm>
            <a:off x="2057400" y="1406520"/>
            <a:ext cx="43164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53"/>
          <p:cNvSpPr/>
          <p:nvPr/>
        </p:nvSpPr>
        <p:spPr>
          <a:xfrm>
            <a:off x="2066760" y="1787400"/>
            <a:ext cx="4320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54"/>
          <p:cNvSpPr/>
          <p:nvPr/>
        </p:nvSpPr>
        <p:spPr>
          <a:xfrm>
            <a:off x="2052720" y="2208240"/>
            <a:ext cx="44604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56"/>
          <p:cNvSpPr/>
          <p:nvPr/>
        </p:nvSpPr>
        <p:spPr>
          <a:xfrm>
            <a:off x="2055960" y="2987640"/>
            <a:ext cx="4428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57"/>
          <p:cNvSpPr/>
          <p:nvPr/>
        </p:nvSpPr>
        <p:spPr>
          <a:xfrm>
            <a:off x="2066760" y="3362400"/>
            <a:ext cx="432000" cy="46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68"/>
          <p:cNvSpPr/>
          <p:nvPr/>
        </p:nvSpPr>
        <p:spPr>
          <a:xfrm>
            <a:off x="2916360" y="2209680"/>
            <a:ext cx="43164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71"/>
          <p:cNvSpPr/>
          <p:nvPr/>
        </p:nvSpPr>
        <p:spPr>
          <a:xfrm>
            <a:off x="2905200" y="3363840"/>
            <a:ext cx="4428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74"/>
          <p:cNvSpPr/>
          <p:nvPr/>
        </p:nvSpPr>
        <p:spPr>
          <a:xfrm flipH="1">
            <a:off x="3767040" y="3336840"/>
            <a:ext cx="12960" cy="16048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75"/>
          <p:cNvSpPr/>
          <p:nvPr/>
        </p:nvSpPr>
        <p:spPr>
          <a:xfrm>
            <a:off x="4210200" y="2992320"/>
            <a:ext cx="1440" cy="1949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78"/>
          <p:cNvSpPr/>
          <p:nvPr/>
        </p:nvSpPr>
        <p:spPr>
          <a:xfrm>
            <a:off x="3780000" y="4140360"/>
            <a:ext cx="43164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80"/>
          <p:cNvSpPr/>
          <p:nvPr/>
        </p:nvSpPr>
        <p:spPr>
          <a:xfrm>
            <a:off x="2066760" y="4541760"/>
            <a:ext cx="2590920" cy="46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81"/>
          <p:cNvSpPr/>
          <p:nvPr/>
        </p:nvSpPr>
        <p:spPr>
          <a:xfrm>
            <a:off x="2050920" y="4140360"/>
            <a:ext cx="0" cy="4046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82"/>
          <p:cNvSpPr/>
          <p:nvPr/>
        </p:nvSpPr>
        <p:spPr>
          <a:xfrm>
            <a:off x="2484360" y="4183200"/>
            <a:ext cx="0" cy="3632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83"/>
          <p:cNvSpPr/>
          <p:nvPr/>
        </p:nvSpPr>
        <p:spPr>
          <a:xfrm>
            <a:off x="2932200" y="4140360"/>
            <a:ext cx="0" cy="4251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84"/>
          <p:cNvSpPr/>
          <p:nvPr/>
        </p:nvSpPr>
        <p:spPr>
          <a:xfrm>
            <a:off x="3348000" y="4140360"/>
            <a:ext cx="0" cy="4060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89"/>
          <p:cNvSpPr/>
          <p:nvPr/>
        </p:nvSpPr>
        <p:spPr>
          <a:xfrm>
            <a:off x="2057400" y="4129200"/>
            <a:ext cx="260028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105"/>
          <p:cNvSpPr/>
          <p:nvPr/>
        </p:nvSpPr>
        <p:spPr>
          <a:xfrm>
            <a:off x="3792600" y="4978440"/>
            <a:ext cx="2592360" cy="46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107"/>
          <p:cNvSpPr/>
          <p:nvPr/>
        </p:nvSpPr>
        <p:spPr>
          <a:xfrm>
            <a:off x="4210200" y="4619520"/>
            <a:ext cx="0" cy="363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108"/>
          <p:cNvSpPr/>
          <p:nvPr/>
        </p:nvSpPr>
        <p:spPr>
          <a:xfrm>
            <a:off x="4657680" y="4129200"/>
            <a:ext cx="0" cy="871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109"/>
          <p:cNvSpPr/>
          <p:nvPr/>
        </p:nvSpPr>
        <p:spPr>
          <a:xfrm>
            <a:off x="5071320" y="3786120"/>
            <a:ext cx="3240" cy="12146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110"/>
          <p:cNvSpPr/>
          <p:nvPr/>
        </p:nvSpPr>
        <p:spPr>
          <a:xfrm>
            <a:off x="6375240" y="4594320"/>
            <a:ext cx="0" cy="406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111"/>
          <p:cNvSpPr/>
          <p:nvPr/>
        </p:nvSpPr>
        <p:spPr>
          <a:xfrm>
            <a:off x="3782880" y="4565520"/>
            <a:ext cx="2602080" cy="111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121"/>
          <p:cNvSpPr/>
          <p:nvPr/>
        </p:nvSpPr>
        <p:spPr>
          <a:xfrm>
            <a:off x="5500800" y="3786120"/>
            <a:ext cx="7920" cy="12146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122"/>
          <p:cNvSpPr/>
          <p:nvPr/>
        </p:nvSpPr>
        <p:spPr>
          <a:xfrm>
            <a:off x="5940360" y="4594320"/>
            <a:ext cx="0" cy="406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123"/>
          <p:cNvSpPr/>
          <p:nvPr/>
        </p:nvSpPr>
        <p:spPr>
          <a:xfrm flipH="1">
            <a:off x="4644720" y="1787400"/>
            <a:ext cx="12600" cy="19846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124"/>
          <p:cNvSpPr/>
          <p:nvPr/>
        </p:nvSpPr>
        <p:spPr>
          <a:xfrm flipH="1">
            <a:off x="5089680" y="1787400"/>
            <a:ext cx="1440" cy="19846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133"/>
          <p:cNvSpPr/>
          <p:nvPr/>
        </p:nvSpPr>
        <p:spPr>
          <a:xfrm>
            <a:off x="4224240" y="2982960"/>
            <a:ext cx="3919680" cy="172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135"/>
          <p:cNvSpPr/>
          <p:nvPr/>
        </p:nvSpPr>
        <p:spPr>
          <a:xfrm>
            <a:off x="4657680" y="2994120"/>
            <a:ext cx="0" cy="406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136"/>
          <p:cNvSpPr/>
          <p:nvPr/>
        </p:nvSpPr>
        <p:spPr>
          <a:xfrm>
            <a:off x="5089680" y="2997360"/>
            <a:ext cx="0" cy="4078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137"/>
          <p:cNvSpPr/>
          <p:nvPr/>
        </p:nvSpPr>
        <p:spPr>
          <a:xfrm>
            <a:off x="5521320" y="1787400"/>
            <a:ext cx="0" cy="16178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138"/>
          <p:cNvSpPr/>
          <p:nvPr/>
        </p:nvSpPr>
        <p:spPr>
          <a:xfrm>
            <a:off x="5967360" y="1779480"/>
            <a:ext cx="0" cy="1616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139"/>
          <p:cNvSpPr/>
          <p:nvPr/>
        </p:nvSpPr>
        <p:spPr>
          <a:xfrm>
            <a:off x="6375240" y="1787400"/>
            <a:ext cx="9720" cy="16081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50"/>
          <p:cNvSpPr/>
          <p:nvPr/>
        </p:nvSpPr>
        <p:spPr>
          <a:xfrm>
            <a:off x="4211640" y="2585880"/>
            <a:ext cx="390384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151"/>
          <p:cNvSpPr/>
          <p:nvPr/>
        </p:nvSpPr>
        <p:spPr>
          <a:xfrm>
            <a:off x="5091120" y="2565360"/>
            <a:ext cx="0" cy="406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156"/>
          <p:cNvSpPr/>
          <p:nvPr/>
        </p:nvSpPr>
        <p:spPr>
          <a:xfrm>
            <a:off x="7250040" y="2565360"/>
            <a:ext cx="0" cy="406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157"/>
          <p:cNvSpPr/>
          <p:nvPr/>
        </p:nvSpPr>
        <p:spPr>
          <a:xfrm>
            <a:off x="7683480" y="2565360"/>
            <a:ext cx="0" cy="406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165"/>
          <p:cNvSpPr/>
          <p:nvPr/>
        </p:nvSpPr>
        <p:spPr>
          <a:xfrm>
            <a:off x="8115480" y="2575080"/>
            <a:ext cx="0" cy="4060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166"/>
          <p:cNvSpPr/>
          <p:nvPr/>
        </p:nvSpPr>
        <p:spPr>
          <a:xfrm>
            <a:off x="4241880" y="2189160"/>
            <a:ext cx="3038400" cy="190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167"/>
          <p:cNvSpPr/>
          <p:nvPr/>
        </p:nvSpPr>
        <p:spPr>
          <a:xfrm>
            <a:off x="4224240" y="2174760"/>
            <a:ext cx="0" cy="406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189"/>
          <p:cNvSpPr/>
          <p:nvPr/>
        </p:nvSpPr>
        <p:spPr>
          <a:xfrm>
            <a:off x="4668840" y="1785960"/>
            <a:ext cx="26100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200"/>
          <p:cNvSpPr/>
          <p:nvPr/>
        </p:nvSpPr>
        <p:spPr>
          <a:xfrm>
            <a:off x="7272360" y="1803240"/>
            <a:ext cx="0" cy="406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201"/>
          <p:cNvSpPr/>
          <p:nvPr/>
        </p:nvSpPr>
        <p:spPr>
          <a:xfrm>
            <a:off x="2911320" y="2587680"/>
            <a:ext cx="4320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202"/>
          <p:cNvSpPr/>
          <p:nvPr/>
        </p:nvSpPr>
        <p:spPr>
          <a:xfrm>
            <a:off x="1197000" y="2989440"/>
            <a:ext cx="2592360" cy="28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203"/>
          <p:cNvSpPr/>
          <p:nvPr/>
        </p:nvSpPr>
        <p:spPr>
          <a:xfrm>
            <a:off x="1182600" y="2587680"/>
            <a:ext cx="0" cy="4032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204"/>
          <p:cNvSpPr/>
          <p:nvPr/>
        </p:nvSpPr>
        <p:spPr>
          <a:xfrm>
            <a:off x="1614600" y="2630520"/>
            <a:ext cx="0" cy="363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207"/>
          <p:cNvSpPr/>
          <p:nvPr/>
        </p:nvSpPr>
        <p:spPr>
          <a:xfrm>
            <a:off x="1187280" y="2575080"/>
            <a:ext cx="260208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208"/>
          <p:cNvSpPr/>
          <p:nvPr/>
        </p:nvSpPr>
        <p:spPr>
          <a:xfrm>
            <a:off x="3794040" y="2595600"/>
            <a:ext cx="0" cy="406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209"/>
          <p:cNvSpPr/>
          <p:nvPr/>
        </p:nvSpPr>
        <p:spPr>
          <a:xfrm>
            <a:off x="737280" y="321480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 с  т  р о  н  о м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10"/>
          <p:cNvSpPr/>
          <p:nvPr/>
        </p:nvSpPr>
        <p:spPr>
          <a:xfrm>
            <a:off x="2081160" y="4019400"/>
            <a:ext cx="257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е  н е р 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11"/>
          <p:cNvSpPr/>
          <p:nvPr/>
        </p:nvSpPr>
        <p:spPr>
          <a:xfrm>
            <a:off x="3659400" y="4429080"/>
            <a:ext cx="27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  л н ц  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14"/>
          <p:cNvSpPr/>
          <p:nvPr/>
        </p:nvSpPr>
        <p:spPr>
          <a:xfrm>
            <a:off x="1215360" y="2476440"/>
            <a:ext cx="262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  а т  у р  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216"/>
          <p:cNvSpPr/>
          <p:nvPr/>
        </p:nvSpPr>
        <p:spPr>
          <a:xfrm>
            <a:off x="4585680" y="2428920"/>
            <a:ext cx="35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е  р к  у  р и 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217"/>
          <p:cNvSpPr/>
          <p:nvPr/>
        </p:nvSpPr>
        <p:spPr>
          <a:xfrm>
            <a:off x="4239360" y="2054160"/>
            <a:ext cx="263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п  т у  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218"/>
          <p:cNvSpPr/>
          <p:nvPr/>
        </p:nvSpPr>
        <p:spPr>
          <a:xfrm>
            <a:off x="4624560" y="1682640"/>
            <a:ext cx="274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 е з  д 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19"/>
          <p:cNvSpPr/>
          <p:nvPr/>
        </p:nvSpPr>
        <p:spPr>
          <a:xfrm>
            <a:off x="2077920" y="2844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220"/>
          <p:cNvSpPr/>
          <p:nvPr/>
        </p:nvSpPr>
        <p:spPr>
          <a:xfrm>
            <a:off x="2046240" y="20541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21"/>
          <p:cNvSpPr/>
          <p:nvPr/>
        </p:nvSpPr>
        <p:spPr>
          <a:xfrm>
            <a:off x="2046600" y="1609560"/>
            <a:ext cx="42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22"/>
          <p:cNvSpPr/>
          <p:nvPr/>
        </p:nvSpPr>
        <p:spPr>
          <a:xfrm>
            <a:off x="2022480" y="120348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23"/>
          <p:cNvSpPr/>
          <p:nvPr/>
        </p:nvSpPr>
        <p:spPr>
          <a:xfrm>
            <a:off x="2939760" y="2021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24"/>
          <p:cNvSpPr/>
          <p:nvPr/>
        </p:nvSpPr>
        <p:spPr>
          <a:xfrm>
            <a:off x="2881800" y="2862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225"/>
          <p:cNvSpPr/>
          <p:nvPr/>
        </p:nvSpPr>
        <p:spPr>
          <a:xfrm>
            <a:off x="3769920" y="35784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с вырезом 1"/>
          <p:cNvSpPr/>
          <p:nvPr/>
        </p:nvSpPr>
        <p:spPr>
          <a:xfrm>
            <a:off x="255600" y="3446640"/>
            <a:ext cx="431640" cy="280800"/>
          </a:xfrm>
          <a:custGeom>
            <a:avLst/>
            <a:gdLst>
              <a:gd name="textAreaLeft" fmla="*/ 70200 w 431640"/>
              <a:gd name="textAreaRight" fmla="*/ 361440 w 431640"/>
              <a:gd name="textAreaTop" fmla="*/ 70200 h 280800"/>
              <a:gd name="textAreaBottom" fmla="*/ 210600 h 280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72" y="5400"/>
                </a:lnTo>
                <a:lnTo>
                  <a:pt x="14572" y="0"/>
                </a:lnTo>
                <a:lnTo>
                  <a:pt x="21600" y="10800"/>
                </a:lnTo>
                <a:lnTo>
                  <a:pt x="14572" y="21600"/>
                </a:lnTo>
                <a:lnTo>
                  <a:pt x="14572" y="16200"/>
                </a:lnTo>
                <a:lnTo>
                  <a:pt x="0" y="16200"/>
                </a:lnTo>
                <a:lnTo>
                  <a:pt x="351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трелка вправо с вырезом 3"/>
          <p:cNvSpPr/>
          <p:nvPr/>
        </p:nvSpPr>
        <p:spPr>
          <a:xfrm>
            <a:off x="614520" y="2673360"/>
            <a:ext cx="428400" cy="252360"/>
          </a:xfrm>
          <a:custGeom>
            <a:avLst/>
            <a:gdLst>
              <a:gd name="textAreaLeft" fmla="*/ 63000 w 428400"/>
              <a:gd name="textAreaRight" fmla="*/ 365400 w 428400"/>
              <a:gd name="textAreaTop" fmla="*/ 63000 h 252360"/>
              <a:gd name="textAreaBottom" fmla="*/ 1893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240" y="5400"/>
                </a:lnTo>
                <a:lnTo>
                  <a:pt x="15240" y="0"/>
                </a:lnTo>
                <a:lnTo>
                  <a:pt x="21600" y="10800"/>
                </a:lnTo>
                <a:lnTo>
                  <a:pt x="15240" y="21600"/>
                </a:lnTo>
                <a:lnTo>
                  <a:pt x="15240" y="16200"/>
                </a:lnTo>
                <a:lnTo>
                  <a:pt x="0" y="16200"/>
                </a:lnTo>
                <a:lnTo>
                  <a:pt x="318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трелка вправо с вырезом 2"/>
          <p:cNvSpPr/>
          <p:nvPr/>
        </p:nvSpPr>
        <p:spPr>
          <a:xfrm rot="5400000">
            <a:off x="2044080" y="958680"/>
            <a:ext cx="439920" cy="274680"/>
          </a:xfrm>
          <a:custGeom>
            <a:avLst/>
            <a:gdLst>
              <a:gd name="textAreaLeft" fmla="*/ 68400 w 439920"/>
              <a:gd name="textAreaRight" fmla="*/ 371520 w 43992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55" y="5400"/>
                </a:lnTo>
                <a:lnTo>
                  <a:pt x="14855" y="0"/>
                </a:lnTo>
                <a:lnTo>
                  <a:pt x="21600" y="10800"/>
                </a:lnTo>
                <a:lnTo>
                  <a:pt x="14855" y="21600"/>
                </a:lnTo>
                <a:lnTo>
                  <a:pt x="14855" y="16200"/>
                </a:lnTo>
                <a:lnTo>
                  <a:pt x="0" y="16200"/>
                </a:lnTo>
                <a:lnTo>
                  <a:pt x="33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трелка вправо с вырезом 85"/>
          <p:cNvSpPr/>
          <p:nvPr/>
        </p:nvSpPr>
        <p:spPr>
          <a:xfrm rot="5400000">
            <a:off x="2911320" y="1697040"/>
            <a:ext cx="439560" cy="274680"/>
          </a:xfrm>
          <a:custGeom>
            <a:avLst/>
            <a:gdLst>
              <a:gd name="textAreaLeft" fmla="*/ 68400 w 439560"/>
              <a:gd name="textAreaRight" fmla="*/ 371160 w 43956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55" y="5400"/>
                </a:lnTo>
                <a:lnTo>
                  <a:pt x="14855" y="0"/>
                </a:lnTo>
                <a:lnTo>
                  <a:pt x="21600" y="10800"/>
                </a:lnTo>
                <a:lnTo>
                  <a:pt x="14855" y="21600"/>
                </a:lnTo>
                <a:lnTo>
                  <a:pt x="14855" y="16200"/>
                </a:lnTo>
                <a:lnTo>
                  <a:pt x="0" y="16200"/>
                </a:lnTo>
                <a:lnTo>
                  <a:pt x="33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с вырезом 87"/>
          <p:cNvSpPr/>
          <p:nvPr/>
        </p:nvSpPr>
        <p:spPr>
          <a:xfrm>
            <a:off x="4127400" y="1835280"/>
            <a:ext cx="439920" cy="274680"/>
          </a:xfrm>
          <a:custGeom>
            <a:avLst/>
            <a:gdLst>
              <a:gd name="textAreaLeft" fmla="*/ 68400 w 439920"/>
              <a:gd name="textAreaRight" fmla="*/ 371520 w 43992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55" y="5400"/>
                </a:lnTo>
                <a:lnTo>
                  <a:pt x="14855" y="0"/>
                </a:lnTo>
                <a:lnTo>
                  <a:pt x="21600" y="10800"/>
                </a:lnTo>
                <a:lnTo>
                  <a:pt x="14855" y="21600"/>
                </a:lnTo>
                <a:lnTo>
                  <a:pt x="14855" y="16200"/>
                </a:lnTo>
                <a:lnTo>
                  <a:pt x="0" y="16200"/>
                </a:lnTo>
                <a:lnTo>
                  <a:pt x="33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трелка вправо с вырезом 88"/>
          <p:cNvSpPr/>
          <p:nvPr/>
        </p:nvSpPr>
        <p:spPr>
          <a:xfrm>
            <a:off x="3749760" y="2265480"/>
            <a:ext cx="439560" cy="274680"/>
          </a:xfrm>
          <a:custGeom>
            <a:avLst/>
            <a:gdLst>
              <a:gd name="textAreaLeft" fmla="*/ 68400 w 439560"/>
              <a:gd name="textAreaRight" fmla="*/ 371160 w 43956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55" y="5400"/>
                </a:lnTo>
                <a:lnTo>
                  <a:pt x="14855" y="0"/>
                </a:lnTo>
                <a:lnTo>
                  <a:pt x="21600" y="10800"/>
                </a:lnTo>
                <a:lnTo>
                  <a:pt x="14855" y="21600"/>
                </a:lnTo>
                <a:lnTo>
                  <a:pt x="14855" y="16200"/>
                </a:lnTo>
                <a:lnTo>
                  <a:pt x="0" y="16200"/>
                </a:lnTo>
                <a:lnTo>
                  <a:pt x="33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трелка вправо с вырезом 86"/>
          <p:cNvSpPr/>
          <p:nvPr/>
        </p:nvSpPr>
        <p:spPr>
          <a:xfrm>
            <a:off x="4068720" y="2662200"/>
            <a:ext cx="439920" cy="274680"/>
          </a:xfrm>
          <a:custGeom>
            <a:avLst/>
            <a:gdLst>
              <a:gd name="textAreaLeft" fmla="*/ 68400 w 439920"/>
              <a:gd name="textAreaRight" fmla="*/ 371520 w 43992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55" y="5400"/>
                </a:lnTo>
                <a:lnTo>
                  <a:pt x="14855" y="0"/>
                </a:lnTo>
                <a:lnTo>
                  <a:pt x="21600" y="10800"/>
                </a:lnTo>
                <a:lnTo>
                  <a:pt x="14855" y="21600"/>
                </a:lnTo>
                <a:lnTo>
                  <a:pt x="14855" y="16200"/>
                </a:lnTo>
                <a:lnTo>
                  <a:pt x="0" y="16200"/>
                </a:lnTo>
                <a:lnTo>
                  <a:pt x="33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трелка вправо с вырезом 90"/>
          <p:cNvSpPr/>
          <p:nvPr/>
        </p:nvSpPr>
        <p:spPr>
          <a:xfrm>
            <a:off x="3705120" y="3081240"/>
            <a:ext cx="439920" cy="274680"/>
          </a:xfrm>
          <a:custGeom>
            <a:avLst/>
            <a:gdLst>
              <a:gd name="textAreaLeft" fmla="*/ 68400 w 439920"/>
              <a:gd name="textAreaRight" fmla="*/ 371520 w 43992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55" y="5400"/>
                </a:lnTo>
                <a:lnTo>
                  <a:pt x="14855" y="0"/>
                </a:lnTo>
                <a:lnTo>
                  <a:pt x="21600" y="10800"/>
                </a:lnTo>
                <a:lnTo>
                  <a:pt x="14855" y="21600"/>
                </a:lnTo>
                <a:lnTo>
                  <a:pt x="14855" y="16200"/>
                </a:lnTo>
                <a:lnTo>
                  <a:pt x="0" y="16200"/>
                </a:lnTo>
                <a:lnTo>
                  <a:pt x="33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трелка вправо с вырезом 91"/>
          <p:cNvSpPr/>
          <p:nvPr/>
        </p:nvSpPr>
        <p:spPr>
          <a:xfrm>
            <a:off x="1587600" y="4243320"/>
            <a:ext cx="431640" cy="282600"/>
          </a:xfrm>
          <a:custGeom>
            <a:avLst/>
            <a:gdLst>
              <a:gd name="textAreaLeft" fmla="*/ 70560 w 431640"/>
              <a:gd name="textAreaRight" fmla="*/ 361080 w 431640"/>
              <a:gd name="textAreaTop" fmla="*/ 70560 h 282600"/>
              <a:gd name="textAreaBottom" fmla="*/ 212040 h 282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32" y="5400"/>
                </a:lnTo>
                <a:lnTo>
                  <a:pt x="14532" y="0"/>
                </a:lnTo>
                <a:lnTo>
                  <a:pt x="21600" y="10800"/>
                </a:lnTo>
                <a:lnTo>
                  <a:pt x="14532" y="21600"/>
                </a:lnTo>
                <a:lnTo>
                  <a:pt x="14532" y="16200"/>
                </a:lnTo>
                <a:lnTo>
                  <a:pt x="0" y="16200"/>
                </a:lnTo>
                <a:lnTo>
                  <a:pt x="353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трелка вправо с вырезом 94"/>
          <p:cNvSpPr/>
          <p:nvPr/>
        </p:nvSpPr>
        <p:spPr>
          <a:xfrm>
            <a:off x="3214800" y="4643280"/>
            <a:ext cx="431640" cy="282600"/>
          </a:xfrm>
          <a:custGeom>
            <a:avLst/>
            <a:gdLst>
              <a:gd name="textAreaLeft" fmla="*/ 70560 w 431640"/>
              <a:gd name="textAreaRight" fmla="*/ 361080 w 431640"/>
              <a:gd name="textAreaTop" fmla="*/ 70560 h 282600"/>
              <a:gd name="textAreaBottom" fmla="*/ 212040 h 282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32" y="5400"/>
                </a:lnTo>
                <a:lnTo>
                  <a:pt x="14532" y="0"/>
                </a:lnTo>
                <a:lnTo>
                  <a:pt x="21600" y="10800"/>
                </a:lnTo>
                <a:lnTo>
                  <a:pt x="14532" y="21600"/>
                </a:lnTo>
                <a:lnTo>
                  <a:pt x="14532" y="16200"/>
                </a:lnTo>
                <a:lnTo>
                  <a:pt x="0" y="16200"/>
                </a:lnTo>
                <a:lnTo>
                  <a:pt x="353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93"/>
          <p:cNvSpPr/>
          <p:nvPr/>
        </p:nvSpPr>
        <p:spPr>
          <a:xfrm>
            <a:off x="3718080" y="4429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трелка вправо с вырезом 95"/>
          <p:cNvSpPr/>
          <p:nvPr/>
        </p:nvSpPr>
        <p:spPr>
          <a:xfrm rot="5400000">
            <a:off x="3774960" y="2940120"/>
            <a:ext cx="439560" cy="274680"/>
          </a:xfrm>
          <a:custGeom>
            <a:avLst/>
            <a:gdLst>
              <a:gd name="textAreaLeft" fmla="*/ 68400 w 439560"/>
              <a:gd name="textAreaRight" fmla="*/ 371160 w 43956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55" y="5400"/>
                </a:lnTo>
                <a:lnTo>
                  <a:pt x="14855" y="0"/>
                </a:lnTo>
                <a:lnTo>
                  <a:pt x="21600" y="10800"/>
                </a:lnTo>
                <a:lnTo>
                  <a:pt x="14855" y="21600"/>
                </a:lnTo>
                <a:lnTo>
                  <a:pt x="14855" y="16200"/>
                </a:lnTo>
                <a:lnTo>
                  <a:pt x="0" y="16200"/>
                </a:lnTo>
                <a:lnTo>
                  <a:pt x="33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113"/>
          <p:cNvSpPr/>
          <p:nvPr/>
        </p:nvSpPr>
        <p:spPr>
          <a:xfrm>
            <a:off x="5072040" y="4214880"/>
            <a:ext cx="42876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19"/>
          <p:cNvSpPr/>
          <p:nvPr/>
        </p:nvSpPr>
        <p:spPr>
          <a:xfrm>
            <a:off x="5075280" y="40006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20"/>
          <p:cNvSpPr/>
          <p:nvPr/>
        </p:nvSpPr>
        <p:spPr>
          <a:xfrm>
            <a:off x="5075280" y="36432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132"/>
          <p:cNvSpPr/>
          <p:nvPr/>
        </p:nvSpPr>
        <p:spPr>
          <a:xfrm>
            <a:off x="6858000" y="1785960"/>
            <a:ext cx="0" cy="1643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145"/>
          <p:cNvSpPr/>
          <p:nvPr/>
        </p:nvSpPr>
        <p:spPr>
          <a:xfrm>
            <a:off x="5072040" y="4929120"/>
            <a:ext cx="0" cy="4287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148"/>
          <p:cNvSpPr/>
          <p:nvPr/>
        </p:nvSpPr>
        <p:spPr>
          <a:xfrm>
            <a:off x="5500800" y="4929120"/>
            <a:ext cx="0" cy="4287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152"/>
          <p:cNvSpPr/>
          <p:nvPr/>
        </p:nvSpPr>
        <p:spPr>
          <a:xfrm>
            <a:off x="5072040" y="5357880"/>
            <a:ext cx="42876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53"/>
          <p:cNvSpPr/>
          <p:nvPr/>
        </p:nvSpPr>
        <p:spPr>
          <a:xfrm>
            <a:off x="5074920" y="48578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трелка вправо с вырезом 154"/>
          <p:cNvSpPr/>
          <p:nvPr/>
        </p:nvSpPr>
        <p:spPr>
          <a:xfrm rot="5400000">
            <a:off x="5060880" y="3511440"/>
            <a:ext cx="439560" cy="274320"/>
          </a:xfrm>
          <a:custGeom>
            <a:avLst/>
            <a:gdLst>
              <a:gd name="textAreaLeft" fmla="*/ 68400 w 439560"/>
              <a:gd name="textAreaRight" fmla="*/ 371160 w 439560"/>
              <a:gd name="textAreaTop" fmla="*/ 68400 h 274320"/>
              <a:gd name="textAreaBottom" fmla="*/ 205920 h 274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55" y="5400"/>
                </a:lnTo>
                <a:lnTo>
                  <a:pt x="14855" y="0"/>
                </a:lnTo>
                <a:lnTo>
                  <a:pt x="21600" y="10800"/>
                </a:lnTo>
                <a:lnTo>
                  <a:pt x="14855" y="21600"/>
                </a:lnTo>
                <a:lnTo>
                  <a:pt x="14855" y="16200"/>
                </a:lnTo>
                <a:lnTo>
                  <a:pt x="0" y="16200"/>
                </a:lnTo>
                <a:lnTo>
                  <a:pt x="33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15"/>
          <p:cNvSpPr/>
          <p:nvPr/>
        </p:nvSpPr>
        <p:spPr>
          <a:xfrm>
            <a:off x="4017240" y="2857680"/>
            <a:ext cx="27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у т  о 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E:\Мои документы\Мои рисунки\ПЛАНЕТЫ\b_435872f66b1af269a6e11ab3bf6b91d0 копия.gif"/>
          <p:cNvPicPr/>
          <p:nvPr/>
        </p:nvPicPr>
        <p:blipFill>
          <a:blip r:embed="rId7"/>
          <a:stretch/>
        </p:blipFill>
        <p:spPr>
          <a:xfrm>
            <a:off x="7072200" y="28584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E:\Мои документы\Мои рисунки\ПЛАНЕТЫ\0_56da_7ce52714_XL копия.gif"/>
          <p:cNvPicPr/>
          <p:nvPr/>
        </p:nvPicPr>
        <p:blipFill>
          <a:blip r:embed="rId8"/>
          <a:stretch/>
        </p:blipFill>
        <p:spPr>
          <a:xfrm>
            <a:off x="5643720" y="56437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E:\Мои документы\Мои рисунки\ПЛАНЕТЫ\Mercury копия.gif"/>
          <p:cNvPicPr/>
          <p:nvPr/>
        </p:nvPicPr>
        <p:blipFill>
          <a:blip r:embed="rId9"/>
          <a:stretch/>
        </p:blipFill>
        <p:spPr>
          <a:xfrm>
            <a:off x="8286840" y="2500200"/>
            <a:ext cx="360360" cy="357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E:\Мои документы\Мои рисунки\ПЛАНЕТЫ\41549639_938442058 копия.gif"/>
          <p:cNvPicPr/>
          <p:nvPr/>
        </p:nvPicPr>
        <p:blipFill>
          <a:blip r:embed="rId10"/>
          <a:stretch/>
        </p:blipFill>
        <p:spPr>
          <a:xfrm>
            <a:off x="4500720" y="1143000"/>
            <a:ext cx="701640" cy="561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E:\Мои документы\Мои рисунки\ПЛАНЕТЫ\uranus-by-hubble копия.gif"/>
          <p:cNvPicPr/>
          <p:nvPr/>
        </p:nvPicPr>
        <p:blipFill>
          <a:blip r:embed="rId11"/>
          <a:stretch/>
        </p:blipFill>
        <p:spPr>
          <a:xfrm>
            <a:off x="1143000" y="4786200"/>
            <a:ext cx="1143000" cy="15242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E:\Мои документы\Мои рисунки\ПЛАНЕТЫ\neptun копия.gif"/>
          <p:cNvPicPr/>
          <p:nvPr/>
        </p:nvPicPr>
        <p:blipFill>
          <a:blip r:embed="rId12"/>
          <a:stretch/>
        </p:blipFill>
        <p:spPr>
          <a:xfrm>
            <a:off x="428760" y="4572000"/>
            <a:ext cx="618840" cy="619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E:\Мои документы\Мои рисунки\ПЛАНЕТЫ\пл копия.gif"/>
          <p:cNvPicPr/>
          <p:nvPr/>
        </p:nvPicPr>
        <p:blipFill>
          <a:blip r:embed="rId13"/>
          <a:stretch/>
        </p:blipFill>
        <p:spPr>
          <a:xfrm>
            <a:off x="357120" y="6000840"/>
            <a:ext cx="381240" cy="28584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112"/>
          <p:cNvSpPr/>
          <p:nvPr/>
        </p:nvSpPr>
        <p:spPr>
          <a:xfrm>
            <a:off x="4646160" y="1643040"/>
            <a:ext cx="3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14"/>
          <p:cNvSpPr/>
          <p:nvPr/>
        </p:nvSpPr>
        <p:spPr>
          <a:xfrm>
            <a:off x="4646160" y="2071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15"/>
          <p:cNvSpPr/>
          <p:nvPr/>
        </p:nvSpPr>
        <p:spPr>
          <a:xfrm>
            <a:off x="4646880" y="2428920"/>
            <a:ext cx="49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16"/>
          <p:cNvSpPr/>
          <p:nvPr/>
        </p:nvSpPr>
        <p:spPr>
          <a:xfrm>
            <a:off x="4646880" y="3214800"/>
            <a:ext cx="42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17"/>
          <p:cNvSpPr/>
          <p:nvPr/>
        </p:nvSpPr>
        <p:spPr>
          <a:xfrm>
            <a:off x="4646520" y="28576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128"/>
          <p:cNvSpPr/>
          <p:nvPr/>
        </p:nvSpPr>
        <p:spPr>
          <a:xfrm>
            <a:off x="4143240" y="3357720"/>
            <a:ext cx="2714760" cy="712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2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2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1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6" dur="2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нвенции - согла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E:\Мои документы\Мои рисунки\Экология\2001_7.jpg"/>
          <p:cNvPicPr/>
          <p:nvPr/>
        </p:nvPicPr>
        <p:blipFill>
          <a:blip r:embed="rId1"/>
          <a:stretch/>
        </p:blipFill>
        <p:spPr>
          <a:xfrm>
            <a:off x="785880" y="1357200"/>
            <a:ext cx="4833720" cy="3746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7" name="Заголовок 1"/>
          <p:cNvSpPr/>
          <p:nvPr/>
        </p:nvSpPr>
        <p:spPr>
          <a:xfrm>
            <a:off x="357120" y="5214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венция  по ограничению торговли редкими видами растений и живот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Выноска с четырьмя стрелками 5"/>
          <p:cNvSpPr/>
          <p:nvPr/>
        </p:nvSpPr>
        <p:spPr>
          <a:xfrm>
            <a:off x="5715000" y="2643120"/>
            <a:ext cx="1143000" cy="1000080"/>
          </a:xfrm>
          <a:custGeom>
            <a:avLst/>
            <a:gdLst>
              <a:gd name="textAreaLeft" fmla="*/ 296280 w 1143000"/>
              <a:gd name="textAreaRight" fmla="*/ 846720 w 1143000"/>
              <a:gd name="textAreaTop" fmla="*/ 259200 h 1000080"/>
              <a:gd name="textAreaBottom" fmla="*/ 740880 h 1000080"/>
            </a:gdLst>
            <a:ahLst/>
            <a:rect l="textAreaLeft" t="textAreaTop" r="textAreaRight" b="textAreaBottom"/>
            <a:pathLst>
              <a:path w="1143000" h="1000125">
                <a:moveTo>
                  <a:pt x="0" y="500063"/>
                </a:moveTo>
                <a:lnTo>
                  <a:pt x="185173" y="314889"/>
                </a:lnTo>
                <a:lnTo>
                  <a:pt x="185173" y="407476"/>
                </a:lnTo>
                <a:lnTo>
                  <a:pt x="296477" y="407476"/>
                </a:lnTo>
                <a:lnTo>
                  <a:pt x="296477" y="259417"/>
                </a:lnTo>
                <a:lnTo>
                  <a:pt x="478913" y="259417"/>
                </a:lnTo>
                <a:lnTo>
                  <a:pt x="478913" y="185173"/>
                </a:lnTo>
                <a:lnTo>
                  <a:pt x="386327" y="185173"/>
                </a:lnTo>
                <a:lnTo>
                  <a:pt x="571500" y="0"/>
                </a:lnTo>
                <a:lnTo>
                  <a:pt x="756673" y="185173"/>
                </a:lnTo>
                <a:lnTo>
                  <a:pt x="664087" y="185173"/>
                </a:lnTo>
                <a:lnTo>
                  <a:pt x="664087" y="259417"/>
                </a:lnTo>
                <a:lnTo>
                  <a:pt x="846523" y="259417"/>
                </a:lnTo>
                <a:lnTo>
                  <a:pt x="846523" y="407476"/>
                </a:lnTo>
                <a:lnTo>
                  <a:pt x="957827" y="407476"/>
                </a:lnTo>
                <a:lnTo>
                  <a:pt x="957827" y="314889"/>
                </a:lnTo>
                <a:lnTo>
                  <a:pt x="1143000" y="500063"/>
                </a:lnTo>
                <a:lnTo>
                  <a:pt x="957827" y="685236"/>
                </a:lnTo>
                <a:lnTo>
                  <a:pt x="957827" y="592649"/>
                </a:lnTo>
                <a:lnTo>
                  <a:pt x="846523" y="592649"/>
                </a:lnTo>
                <a:lnTo>
                  <a:pt x="846523" y="740708"/>
                </a:lnTo>
                <a:lnTo>
                  <a:pt x="664087" y="740708"/>
                </a:lnTo>
                <a:lnTo>
                  <a:pt x="664087" y="814952"/>
                </a:lnTo>
                <a:lnTo>
                  <a:pt x="756673" y="814952"/>
                </a:lnTo>
                <a:lnTo>
                  <a:pt x="571500" y="1000125"/>
                </a:lnTo>
                <a:lnTo>
                  <a:pt x="386327" y="814952"/>
                </a:lnTo>
                <a:lnTo>
                  <a:pt x="478913" y="814952"/>
                </a:lnTo>
                <a:lnTo>
                  <a:pt x="478913" y="740708"/>
                </a:lnTo>
                <a:lnTo>
                  <a:pt x="296477" y="740708"/>
                </a:lnTo>
                <a:lnTo>
                  <a:pt x="296477" y="592649"/>
                </a:lnTo>
                <a:lnTo>
                  <a:pt x="185173" y="592649"/>
                </a:lnTo>
                <a:lnTo>
                  <a:pt x="185173" y="68523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6"/>
          <p:cNvSpPr/>
          <p:nvPr/>
        </p:nvSpPr>
        <p:spPr>
          <a:xfrm>
            <a:off x="5941080" y="1857240"/>
            <a:ext cx="219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фр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7"/>
          <p:cNvSpPr/>
          <p:nvPr/>
        </p:nvSpPr>
        <p:spPr>
          <a:xfrm>
            <a:off x="7008480" y="2786040"/>
            <a:ext cx="142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з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8"/>
          <p:cNvSpPr/>
          <p:nvPr/>
        </p:nvSpPr>
        <p:spPr>
          <a:xfrm>
            <a:off x="5874120" y="3643200"/>
            <a:ext cx="305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Юж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мер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0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5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1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4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жду странами были подписаны следующие соглаш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Соглашение о сохранении белых медве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Конвенция  о загрязнении воздуха на большие расстоя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Конвенция по защите Черного моря от загряз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Конвенция об охране дикой флоры и фау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Международная конвенция об охране пт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Конвенция по борьбе с опустынив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я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Международный союз охраны природ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3571920" y="1714680"/>
            <a:ext cx="2206440" cy="29286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357120" y="5286240"/>
            <a:ext cx="842976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дает «Международную Красную книг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8:13:24Z</dcterms:created>
  <dc:creator>Сергей</dc:creator>
  <dc:description/>
  <dc:language>en-US</dc:language>
  <cp:lastModifiedBy>Ёля</cp:lastModifiedBy>
  <dcterms:modified xsi:type="dcterms:W3CDTF">2011-08-03T15:43:19Z</dcterms:modified>
  <cp:revision>53</cp:revision>
  <dc:subject/>
  <dc:title>Презентация PowerPoint</dc:title>
</cp:coreProperties>
</file>