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052-025B-44FF-81EC-07E021B2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950-FCBC-4969-9788-6DD56B9B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D7B-5294-4AF5-899E-F32AD68B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E03-ADD4-4C79-A65E-9D335216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B16-BE00-43E1-B390-980CF7E8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C60-1319-444F-9821-7F611BE8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E5F-41A1-4135-97A2-8CF99AB0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AF6-844C-4700-ACE3-110FE686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964-7F3D-4E90-BA57-4F0D87C5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22A-FA6F-4D85-8AF8-695C8D04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B2E-28C0-43B5-A9D3-597B7198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001-78BE-45C0-B36C-BE5074B6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EA6F-6A21-4232-8550-60EEAD73C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20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23.xml"/><Relationship Id="rId8" Type="http://schemas.openxmlformats.org/officeDocument/2006/relationships/slide" Target="slide17.xml"/><Relationship Id="rId9" Type="http://schemas.openxmlformats.org/officeDocument/2006/relationships/slide" Target="slide8.xml"/><Relationship Id="rId10" Type="http://schemas.openxmlformats.org/officeDocument/2006/relationships/slide" Target="slide26.xml"/><Relationship Id="rId11" Type="http://schemas.openxmlformats.org/officeDocument/2006/relationships/slide" Target="slide18.xml"/><Relationship Id="rId12" Type="http://schemas.openxmlformats.org/officeDocument/2006/relationships/slide" Target="slide21.xml"/><Relationship Id="rId13" Type="http://schemas.openxmlformats.org/officeDocument/2006/relationships/slide" Target="slide24.xml"/><Relationship Id="rId14" Type="http://schemas.openxmlformats.org/officeDocument/2006/relationships/slide" Target="slide14.xml"/><Relationship Id="rId15" Type="http://schemas.openxmlformats.org/officeDocument/2006/relationships/slide" Target="slide7.xml"/><Relationship Id="rId16" Type="http://schemas.openxmlformats.org/officeDocument/2006/relationships/slide" Target="slide19.xml"/><Relationship Id="rId17" Type="http://schemas.openxmlformats.org/officeDocument/2006/relationships/slide" Target="slide25.xml"/><Relationship Id="rId18" Type="http://schemas.openxmlformats.org/officeDocument/2006/relationships/slide" Target="slide4.xml"/><Relationship Id="rId19" Type="http://schemas.openxmlformats.org/officeDocument/2006/relationships/slide" Target="slide3.xml"/><Relationship Id="rId20" Type="http://schemas.openxmlformats.org/officeDocument/2006/relationships/slide" Target="slide9.xml"/><Relationship Id="rId21" Type="http://schemas.openxmlformats.org/officeDocument/2006/relationships/slide" Target="slide15.xml"/><Relationship Id="rId22" Type="http://schemas.openxmlformats.org/officeDocument/2006/relationships/slide" Target="slide21.xml"/><Relationship Id="rId23" Type="http://schemas.openxmlformats.org/officeDocument/2006/relationships/slide" Target="slide27.xml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34936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Georgia"/>
              </a:rPr>
              <a:t>НАША  ИГ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2459160" cy="2406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765000"/>
            <a:ext cx="1798560" cy="127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81200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156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р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360" y="205020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овите старинный, но нестаре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нец у елк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5084640"/>
            <a:ext cx="395928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Южном полю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5600" y="2636280"/>
            <a:ext cx="75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 каком полюсе холоднее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л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0600" y="2204280"/>
            <a:ext cx="78112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бегающая мимо елочки рысц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рая во всех отношениях личность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52720" y="1890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653000"/>
            <a:ext cx="34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т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1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0560" y="2996280"/>
            <a:ext cx="72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нительница песен для ел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741800" y="1634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лоле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77680" y="1462320"/>
            <a:ext cx="74822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родное явле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з песочной  посып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зывающее неустойчивост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еления зимой.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742160" y="1634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5084640"/>
            <a:ext cx="4248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рик со старух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2492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Какие сказочные герои прожили      «30 лет и 3 год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аревна-лягу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492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Назовите сказочный персонаж, лезущий вон из к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42920" y="522936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уч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162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87040" y="2059920"/>
            <a:ext cx="7435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Назовите единственную герои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сказки «Репк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имя которой нам извес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042920" y="522936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68360" y="2492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Кошкин до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184464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В какой сказке рассказывается о тяжких последствиях плохого состояния средств противопожарной безопас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42920" y="522936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469908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836640"/>
            <a:ext cx="8964720" cy="4176720"/>
          </a:xfrm>
          <a:prstGeom prst="cloudCallout">
            <a:avLst>
              <a:gd name="adj1" fmla="val -23666"/>
              <a:gd name="adj2" fmla="val 6862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41800" y="1634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30560" y="4941720"/>
            <a:ext cx="51134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барон Мюнхгаузен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557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ТО из литературных героев вывернул волка наизнанку, застрелил бешеную шубу, вытащил себя из болота за косичку парика, не пал духом в желудке огромной рыбы, летал на ядре, побывал на Лу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73280" y="568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404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496360" y="4508640"/>
            <a:ext cx="647640" cy="54756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560"/>
              <a:gd name="textAreaBottom" fmla="*/ 378000 h 5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3203640" y="3860640"/>
            <a:ext cx="1042920" cy="1043280"/>
          </a:xfrm>
          <a:prstGeom prst="bevel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5364000" y="620640"/>
            <a:ext cx="104328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4284720" y="6206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4941720"/>
            <a:ext cx="1042920" cy="10432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941720"/>
            <a:ext cx="1042920" cy="10432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7524720" y="2781360"/>
            <a:ext cx="1042920" cy="1042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170028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5364000" y="1700280"/>
            <a:ext cx="1043280" cy="1042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6443640" y="170028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7" action="ppaction://hlinksldjump"/>
          </p:cNvPr>
          <p:cNvSpPr/>
          <p:nvPr/>
        </p:nvSpPr>
        <p:spPr>
          <a:xfrm>
            <a:off x="4284720" y="3860640"/>
            <a:ext cx="1042920" cy="1043280"/>
          </a:xfrm>
          <a:prstGeom prst="bevel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70028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4284720" y="2781360"/>
            <a:ext cx="1042920" cy="1042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9" action="ppaction://hlinksldjump"/>
          </p:cNvPr>
          <p:cNvSpPr/>
          <p:nvPr/>
        </p:nvSpPr>
        <p:spPr>
          <a:xfrm>
            <a:off x="7524720" y="6206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0" action="ppaction://hlinksldjump"/>
          </p:cNvPr>
          <p:cNvSpPr/>
          <p:nvPr/>
        </p:nvSpPr>
        <p:spPr>
          <a:xfrm>
            <a:off x="7524720" y="3860640"/>
            <a:ext cx="1042920" cy="1043280"/>
          </a:xfrm>
          <a:prstGeom prst="bevel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1" action="ppaction://hlinksldjump"/>
          </p:cNvPr>
          <p:cNvSpPr/>
          <p:nvPr/>
        </p:nvSpPr>
        <p:spPr>
          <a:xfrm>
            <a:off x="5364000" y="2781360"/>
            <a:ext cx="1043280" cy="1042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2" action="ppaction://hlinksldjump"/>
          </p:cNvPr>
          <p:cNvSpPr/>
          <p:nvPr/>
        </p:nvSpPr>
        <p:spPr>
          <a:xfrm>
            <a:off x="3203640" y="6206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3" action="ppaction://hlinksldjump"/>
          </p:cNvPr>
          <p:cNvSpPr/>
          <p:nvPr/>
        </p:nvSpPr>
        <p:spPr>
          <a:xfrm>
            <a:off x="5364000" y="3860640"/>
            <a:ext cx="1043280" cy="1043280"/>
          </a:xfrm>
          <a:prstGeom prst="bevel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4" action="ppaction://hlinksldjump"/>
          </p:cNvPr>
          <p:cNvSpPr/>
          <p:nvPr/>
        </p:nvSpPr>
        <p:spPr>
          <a:xfrm>
            <a:off x="7524720" y="170028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4941720"/>
            <a:ext cx="1042920" cy="10432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2781360"/>
            <a:ext cx="1042920" cy="1042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4941720"/>
            <a:ext cx="1043280" cy="10432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5" action="ppaction://hlinksldjump"/>
          </p:cNvPr>
          <p:cNvSpPr/>
          <p:nvPr/>
        </p:nvSpPr>
        <p:spPr>
          <a:xfrm>
            <a:off x="6443640" y="6206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4720" y="4941720"/>
            <a:ext cx="1042920" cy="10432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6" action="ppaction://hlinksldjump"/>
          </p:cNvPr>
          <p:cNvSpPr/>
          <p:nvPr/>
        </p:nvSpPr>
        <p:spPr>
          <a:xfrm>
            <a:off x="6443640" y="2781360"/>
            <a:ext cx="1042920" cy="1042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7" action="ppaction://hlinksldjump"/>
          </p:cNvPr>
          <p:cNvSpPr/>
          <p:nvPr/>
        </p:nvSpPr>
        <p:spPr>
          <a:xfrm>
            <a:off x="6443640" y="3860640"/>
            <a:ext cx="1042920" cy="1043280"/>
          </a:xfrm>
          <a:prstGeom prst="bevel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836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90792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4160" y="83664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теат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77336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лод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240" y="2924280"/>
            <a:ext cx="177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го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4149720"/>
            <a:ext cx="19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уль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4520" y="4941720"/>
            <a:ext cx="183420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Крыл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г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восты"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8" action="ppaction://hlinksldjump"/>
          </p:cNvPr>
          <p:cNvSpPr/>
          <p:nvPr/>
        </p:nvSpPr>
        <p:spPr>
          <a:xfrm>
            <a:off x="3203640" y="6206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9" action="ppaction://hlinksldjump"/>
          </p:cNvPr>
          <p:cNvSpPr/>
          <p:nvPr/>
        </p:nvSpPr>
        <p:spPr>
          <a:xfrm>
            <a:off x="2124000" y="620640"/>
            <a:ext cx="10429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0" action="ppaction://hlinksldjump"/>
          </p:cNvPr>
          <p:cNvSpPr/>
          <p:nvPr/>
        </p:nvSpPr>
        <p:spPr>
          <a:xfrm>
            <a:off x="2124000" y="170028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1" action="ppaction://hlinksldjump"/>
          </p:cNvPr>
          <p:cNvSpPr/>
          <p:nvPr/>
        </p:nvSpPr>
        <p:spPr>
          <a:xfrm>
            <a:off x="2124000" y="2781360"/>
            <a:ext cx="1042920" cy="1042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22" action="ppaction://hlinksldjump"/>
          </p:cNvPr>
          <p:cNvSpPr/>
          <p:nvPr/>
        </p:nvSpPr>
        <p:spPr>
          <a:xfrm>
            <a:off x="2124000" y="3860640"/>
            <a:ext cx="1042920" cy="1043280"/>
          </a:xfrm>
          <a:prstGeom prst="bevel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3" action="ppaction://hlinksldjump"/>
          </p:cNvPr>
          <p:cNvSpPr/>
          <p:nvPr/>
        </p:nvSpPr>
        <p:spPr>
          <a:xfrm>
            <a:off x="2124000" y="4941720"/>
            <a:ext cx="1042920" cy="10432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lastslide"/>
          </p:cNvPr>
          <p:cNvSpPr/>
          <p:nvPr/>
        </p:nvSpPr>
        <p:spPr>
          <a:xfrm>
            <a:off x="468360" y="6165720"/>
            <a:ext cx="647640" cy="54792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920"/>
              <a:gd name="textAreaBottom" fmla="*/ 378360 h 5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496360" y="189000"/>
            <a:ext cx="647640" cy="54756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560"/>
              <a:gd name="textAreaBottom" fmla="*/ 378000 h 5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89000"/>
            <a:ext cx="647640" cy="54756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560"/>
              <a:gd name="textAreaBottom" fmla="*/ 378000 h 5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6165720"/>
            <a:ext cx="647640" cy="54792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920"/>
              <a:gd name="textAreaBottom" fmla="*/ 378360 h 5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6310440"/>
            <a:ext cx="647640" cy="54756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560"/>
              <a:gd name="textAreaBottom" fmla="*/ 378000 h 5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68280"/>
            <a:ext cx="647640" cy="54792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920"/>
              <a:gd name="textAreaBottom" fmla="*/ 378360 h 5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645000"/>
            <a:ext cx="647640" cy="54756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560"/>
              <a:gd name="textAreaBottom" fmla="*/ 378000 h 5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0"/>
            <a:ext cx="647640" cy="547560"/>
          </a:xfrm>
          <a:custGeom>
            <a:avLst/>
            <a:gdLst>
              <a:gd name="textAreaLeft" fmla="*/ 200520 w 647640"/>
              <a:gd name="textAreaRight" fmla="*/ 447120 w 647640"/>
              <a:gd name="textAreaTop" fmla="*/ 169560 h 547560"/>
              <a:gd name="textAreaBottom" fmla="*/ 378000 h 5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92" y="11910"/>
                </a:lnTo>
                <a:lnTo>
                  <a:pt x="786" y="14846"/>
                </a:lnTo>
                <a:lnTo>
                  <a:pt x="5923" y="13967"/>
                </a:lnTo>
                <a:lnTo>
                  <a:pt x="3163" y="18437"/>
                </a:lnTo>
                <a:lnTo>
                  <a:pt x="7548" y="15621"/>
                </a:lnTo>
                <a:lnTo>
                  <a:pt x="6580" y="20741"/>
                </a:lnTo>
                <a:lnTo>
                  <a:pt x="9591" y="16488"/>
                </a:lnTo>
                <a:lnTo>
                  <a:pt x="10800" y="21600"/>
                </a:lnTo>
                <a:lnTo>
                  <a:pt x="11910" y="16508"/>
                </a:lnTo>
                <a:lnTo>
                  <a:pt x="14846" y="20814"/>
                </a:lnTo>
                <a:lnTo>
                  <a:pt x="13967" y="15677"/>
                </a:lnTo>
                <a:lnTo>
                  <a:pt x="18437" y="18437"/>
                </a:lnTo>
                <a:lnTo>
                  <a:pt x="15621" y="14052"/>
                </a:lnTo>
                <a:lnTo>
                  <a:pt x="20741" y="15020"/>
                </a:lnTo>
                <a:lnTo>
                  <a:pt x="16488" y="12009"/>
                </a:lnTo>
                <a:lnTo>
                  <a:pt x="21600" y="10800"/>
                </a:lnTo>
                <a:lnTo>
                  <a:pt x="16508" y="9690"/>
                </a:lnTo>
                <a:lnTo>
                  <a:pt x="20814" y="6754"/>
                </a:lnTo>
                <a:lnTo>
                  <a:pt x="15677" y="7633"/>
                </a:lnTo>
                <a:lnTo>
                  <a:pt x="18437" y="3163"/>
                </a:lnTo>
                <a:lnTo>
                  <a:pt x="14052" y="5979"/>
                </a:lnTo>
                <a:lnTo>
                  <a:pt x="15020" y="859"/>
                </a:lnTo>
                <a:lnTo>
                  <a:pt x="12009" y="5112"/>
                </a:lnTo>
                <a:lnTo>
                  <a:pt x="10800" y="0"/>
                </a:lnTo>
                <a:lnTo>
                  <a:pt x="9690" y="5092"/>
                </a:lnTo>
                <a:lnTo>
                  <a:pt x="6754" y="786"/>
                </a:lnTo>
                <a:lnTo>
                  <a:pt x="7633" y="5923"/>
                </a:lnTo>
                <a:lnTo>
                  <a:pt x="3163" y="3163"/>
                </a:lnTo>
                <a:lnTo>
                  <a:pt x="5979" y="7548"/>
                </a:lnTo>
                <a:lnTo>
                  <a:pt x="859" y="6580"/>
                </a:lnTo>
                <a:lnTo>
                  <a:pt x="5112" y="9591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41800" y="1634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Коло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2440" y="2059560"/>
            <a:ext cx="879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овите русскую народную сказ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торой было 3 покушения на убий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одно убий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236000" y="4581360"/>
            <a:ext cx="100800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742160" y="16344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 бал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492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1989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Какой цвет кожи у мультипликационного героя Шрек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зелё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2492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Назовите главного специалиста по поеданию бутерб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5084640"/>
            <a:ext cx="38876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Кот Матрос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989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Как звали крысу старухи Шапокляк из мультика "Чебурашка"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Ла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4589640"/>
            <a:ext cx="2268360" cy="226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836640"/>
            <a:ext cx="8964720" cy="4176720"/>
          </a:xfrm>
          <a:prstGeom prst="cloudCallout">
            <a:avLst>
              <a:gd name="adj1" fmla="val -22550"/>
              <a:gd name="adj2" fmla="val 68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492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Учреждение, куда принимают неграмотных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5300640"/>
            <a:ext cx="34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шк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8520" y="404640"/>
            <a:ext cx="55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От улыбки станет всем свет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237440" y="2602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1916280"/>
            <a:ext cx="820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Главными героями какого полнометражного мультфильма являются рыбы-клоуны - папа и сын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5084640"/>
            <a:ext cx="55454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«В поисках Немо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21800" y="3333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6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249228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акое слово Снежная Королева заставляла собирать Кая?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0" y="4869000"/>
            <a:ext cx="34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веч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к-чирик по-вороньи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Кар-ка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68720" y="3333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 бал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995640" y="260280"/>
            <a:ext cx="1835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742880" y="115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24922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Назовите самое маленькое рогатое животно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Улит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093080" y="4221000"/>
            <a:ext cx="172548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динственная птица, которая умеет плавать, но не может лета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Пингви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97800" y="2350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95280" y="4941720"/>
            <a:ext cx="1762200" cy="14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ый приятный для артистов шум во время спектакля - это... Что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плодис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13080" y="189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 бал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Какое самое большое животное живуще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на суш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(высота до 3, 5 метров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вес до 7 т.) ?   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Сл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97800" y="260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877080" y="4149720"/>
            <a:ext cx="197784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453080" y="4064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249228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У какого животного иногда  льются из глаз слезы, но это вовсе не означают, что оно плач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крокоди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1870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47280" y="2205000"/>
            <a:ext cx="5564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Какое животное   трудится, не открывая глаз и не покладая рук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bbe0e3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о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42160" y="333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6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907920"/>
            <a:ext cx="1474560" cy="1249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192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020000" y="4221000"/>
            <a:ext cx="1503360" cy="1727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-252360" y="2205000"/>
            <a:ext cx="5400720" cy="5705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97164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2916360" y="-747720"/>
            <a:ext cx="5400720" cy="5705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6227640" y="3357720"/>
            <a:ext cx="308304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191563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ой персонаж сказки Толстого продал «Азбуку» и купил билет в театр?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урати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9080" y="33336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81344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424720" y="6237360"/>
            <a:ext cx="719280" cy="620640"/>
          </a:xfrm>
          <a:custGeom>
            <a:avLst/>
            <a:gdLst>
              <a:gd name="textAreaLeft" fmla="*/ 39960 w 719280"/>
              <a:gd name="textAreaRight" fmla="*/ 679320 w 719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31" h="21600">
                <a:moveTo>
                  <a:pt x="0" y="0"/>
                </a:moveTo>
                <a:lnTo>
                  <a:pt x="25031" y="0"/>
                </a:lnTo>
                <a:lnTo>
                  <a:pt x="25031" y="21600"/>
                </a:lnTo>
                <a:lnTo>
                  <a:pt x="0" y="21600"/>
                </a:lnTo>
                <a:close/>
              </a:path>
              <a:path fill="lightenLess" w="25031" h="21600">
                <a:moveTo>
                  <a:pt x="0" y="0"/>
                </a:moveTo>
                <a:lnTo>
                  <a:pt x="25031" y="0"/>
                </a:lnTo>
                <a:lnTo>
                  <a:pt x="23631" y="1400"/>
                </a:lnTo>
                <a:lnTo>
                  <a:pt x="1400" y="1400"/>
                </a:lnTo>
                <a:close/>
              </a:path>
              <a:path fill="darken" w="25031" h="21600">
                <a:moveTo>
                  <a:pt x="25031" y="0"/>
                </a:moveTo>
                <a:lnTo>
                  <a:pt x="25031" y="21600"/>
                </a:lnTo>
                <a:lnTo>
                  <a:pt x="23631" y="20200"/>
                </a:lnTo>
                <a:lnTo>
                  <a:pt x="23631" y="1400"/>
                </a:lnTo>
                <a:close/>
              </a:path>
              <a:path fill="darkenLess" w="25031" h="21600">
                <a:moveTo>
                  <a:pt x="25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1" y="20200"/>
                </a:lnTo>
                <a:close/>
              </a:path>
              <a:path fill="lighten" w="25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1" h="21600">
                <a:moveTo>
                  <a:pt x="5509" y="7493"/>
                </a:moveTo>
                <a:lnTo>
                  <a:pt x="9017" y="7493"/>
                </a:lnTo>
                <a:lnTo>
                  <a:pt x="9017" y="12828"/>
                </a:lnTo>
                <a:cubicBezTo>
                  <a:pt x="9017" y="13751"/>
                  <a:pt x="9817" y="14482"/>
                  <a:pt x="10853" y="14482"/>
                </a:cubicBezTo>
                <a:lnTo>
                  <a:pt x="12515" y="14482"/>
                </a:lnTo>
                <a:cubicBezTo>
                  <a:pt x="13551" y="14482"/>
                  <a:pt x="14352" y="13751"/>
                  <a:pt x="14352" y="12828"/>
                </a:cubicBezTo>
                <a:lnTo>
                  <a:pt x="14352" y="7493"/>
                </a:lnTo>
                <a:lnTo>
                  <a:pt x="12515" y="7493"/>
                </a:lnTo>
                <a:lnTo>
                  <a:pt x="16023" y="3985"/>
                </a:lnTo>
                <a:lnTo>
                  <a:pt x="19696" y="7493"/>
                </a:lnTo>
                <a:lnTo>
                  <a:pt x="17860" y="7493"/>
                </a:lnTo>
                <a:lnTo>
                  <a:pt x="17860" y="12828"/>
                </a:lnTo>
                <a:cubicBezTo>
                  <a:pt x="17860" y="15596"/>
                  <a:pt x="15283" y="18155"/>
                  <a:pt x="12515" y="18155"/>
                </a:cubicBezTo>
                <a:lnTo>
                  <a:pt x="10853" y="18155"/>
                </a:lnTo>
                <a:cubicBezTo>
                  <a:pt x="8085" y="18155"/>
                  <a:pt x="5509" y="15596"/>
                  <a:pt x="550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ко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6560" y="2203920"/>
            <a:ext cx="663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им театром владе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рабас Барабас?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71640" y="5013360"/>
            <a:ext cx="34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42160" y="16344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920" y="1578960"/>
            <a:ext cx="8896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кончите шуточ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е опе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Опера - это когда челове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бивают, а он ещё ...( что делает?)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6520" y="5180040"/>
            <a:ext cx="197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82160" y="2602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6720" y="2133360"/>
            <a:ext cx="79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по Станиславскому явл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должением вешалки?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741800" y="1634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00360" y="508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фл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4160" y="2420640"/>
            <a:ext cx="71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амый главный театраль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видимка - это... Кто?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742160" y="1634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8352000" y="62085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9" h="21600">
                <a:moveTo>
                  <a:pt x="6163" y="7493"/>
                </a:moveTo>
                <a:lnTo>
                  <a:pt x="9671" y="7493"/>
                </a:lnTo>
                <a:lnTo>
                  <a:pt x="9671" y="12828"/>
                </a:lnTo>
                <a:cubicBezTo>
                  <a:pt x="9671" y="13751"/>
                  <a:pt x="10471" y="14482"/>
                  <a:pt x="11507" y="14482"/>
                </a:cubicBezTo>
                <a:lnTo>
                  <a:pt x="13169" y="14482"/>
                </a:lnTo>
                <a:cubicBezTo>
                  <a:pt x="14205" y="14482"/>
                  <a:pt x="15006" y="13751"/>
                  <a:pt x="15006" y="12828"/>
                </a:cubicBezTo>
                <a:lnTo>
                  <a:pt x="15006" y="7493"/>
                </a:lnTo>
                <a:lnTo>
                  <a:pt x="13169" y="7493"/>
                </a:lnTo>
                <a:lnTo>
                  <a:pt x="16677" y="3985"/>
                </a:lnTo>
                <a:lnTo>
                  <a:pt x="20350" y="7493"/>
                </a:lnTo>
                <a:lnTo>
                  <a:pt x="18513" y="7493"/>
                </a:lnTo>
                <a:lnTo>
                  <a:pt x="18513" y="12828"/>
                </a:lnTo>
                <a:cubicBezTo>
                  <a:pt x="18513" y="15596"/>
                  <a:pt x="15937" y="18155"/>
                  <a:pt x="13169" y="18155"/>
                </a:cubicBezTo>
                <a:lnTo>
                  <a:pt x="11507" y="18155"/>
                </a:lnTo>
                <a:cubicBezTo>
                  <a:pt x="8739" y="18155"/>
                  <a:pt x="6163" y="15596"/>
                  <a:pt x="616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5084640"/>
            <a:ext cx="28796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160" y="2420280"/>
            <a:ext cx="797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олько лучиков у снежинки?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2:43:42Z</dcterms:created>
  <dc:creator>антон</dc:creator>
  <dc:description/>
  <dc:language>en-US</dc:language>
  <cp:lastModifiedBy>007</cp:lastModifiedBy>
  <dcterms:modified xsi:type="dcterms:W3CDTF">2011-07-19T11:07:08Z</dcterms:modified>
  <cp:revision>23</cp:revision>
  <dc:subject/>
  <dc:title>Слайд 1</dc:title>
</cp:coreProperties>
</file>