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1B1-8C17-419C-9D2E-95AA699B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A2E-A602-4AEE-A2FE-82F616EC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486A5-71D8-43E1-86F8-ED82C2FB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EA938-6137-4B71-A6AF-2D5EC8D94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A0DD9-D6D7-4B25-9FD5-A45CFDA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2A358-F2FE-44A7-A862-56E59DF6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84DB2-474D-4750-985C-C9420B8A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0E533-C3CB-4623-9198-E60AFFA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9A744E-0C0C-40C1-9DE1-C742149F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604D2-4994-4FD7-9D96-AE2F38C0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EA15B-22C5-4B74-8691-545DE77C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1EEDA7-50EC-44C5-8267-E446C82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3B5-740B-46FC-B7F4-AA5DDCBA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C8437-48D9-4A38-AE85-624BE631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29DD4-165D-4635-BD5B-89A58B71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65BF0-48B5-4FB9-AD65-A3E2799B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E5796-399C-48C0-9688-7E020CE2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7A251-3C5B-4373-8AC1-3F196754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76B8A-F52F-4493-92C1-D5E21A5F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388A1-48C8-4852-88DB-941747EC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CF951-4CC1-4FFE-96F1-EB9B7A4B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89C46-6D5F-4651-8BFE-4141438C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03A21B-33D6-4C12-AD5B-DC6D3737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FB6-572A-4D1F-BB65-F0AB3E12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1D826D-2623-4376-8649-D1D0F4A28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D65C5-CA23-40E7-92A5-63770D8D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C28B6-B138-44E5-A156-25503C9F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8EA9C-19BF-4865-A5DE-795A6B18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BC06EE-743B-4DAF-A362-6872B1A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C32E6-58EC-45CE-96A4-62309670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E2C0-81DD-4C63-BDF9-225AF77A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B5CBD-8272-4FDE-A13A-E374FBC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8ACF3-C062-457B-B7BD-BDF25C3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9F800-4FD5-4680-8525-60A95C2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03F6-3C63-4BDB-95E2-07B0BE23B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84784-622A-44DD-B9BD-C7EBE755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0F8EC-3F13-478F-A6A7-19AE5D6D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6AD43-65F6-4EF1-BCAD-D94375F1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05B1C-0814-448D-8D61-869D7411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49341-6C18-4642-A555-858286A6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F734A-89B6-456D-8774-49F555DC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47C34-8468-43A1-AB66-2EEC0DE6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0132E-679C-46EA-95AB-DCC8BA7D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C7585-07A9-48B8-A623-74E484D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C6A84-D855-432B-80AD-974276E7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2E20-DB36-4861-959E-D3B4D193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BCE605-EA99-4FA6-89DB-CD85340D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A509F-6FED-4A5A-AC5E-80A549BC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031A0-7AAB-4149-B24D-6F984C9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0F88F-3C5C-4B2C-9193-4B8E0AA2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1688E-82D8-43F3-ACBF-258C15FB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2485-915C-4ED2-A26B-6D58D39F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B694-CF58-47A1-BA81-3736DA64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DED1-C03F-45E7-B97D-3F2D945F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7EEE-FA69-4290-B3D4-DCCF39503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9D25-D43A-41C5-9D6F-0BB9840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C687-3C6D-4DCD-BE76-ABBEBE3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AA00-A78E-4E50-8B6F-F567FD1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4606-0F71-4FAE-91FD-42DAECFD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70A2-C6F2-414C-8074-03CE222C1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AD1F-480E-40A1-A549-381CCCC8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A3A-AF21-4A5B-B2BB-F2DB9CC9E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312F-C2BA-48A4-B4FA-8CE929F4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2C87-CF6C-4DA6-84EE-867C0281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1D906-F923-4E0C-B243-F265B986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94F5C-CD15-4E97-AE6D-42414537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759B8-AB5F-4E1B-BAED-59CF2ADA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9A6-076A-498B-8F90-A661DB89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DC47-E4DD-482A-8E72-CC21E62F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E40A4-E95F-4F20-AFBA-BECA6F31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D31E-BD48-4BF2-A55A-A0B84067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7CB47-8311-4F02-8793-0F0EC358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EA82-A1A0-43C7-AC89-1AB065D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D610-B209-4E5B-871C-E54792CC9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1840-6F26-42B0-81F9-4D91A67DF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85DD-1556-4651-9518-306284C9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40E30-A193-4694-9B1E-16D8A689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033C3-7400-4391-8913-F953B6F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C84-AA6F-4F6C-95B8-51FCE54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CF84E-7EEA-41D8-9810-4031FC9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E9387-2024-4809-83BC-B5BBCCBD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F54B-E4F4-4F00-B052-FEF9F61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A314-AFFB-42FD-B154-BDB0C7A3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8AA8-C93C-42E3-8C48-5C2C6F0E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68DA5-24DE-4FB1-B8B4-D26DD971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F3554-82BC-4D60-B31E-7224E1BD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62FE-7A49-4264-A25C-632B3DA2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B3031-DFD8-434B-83D2-F575C910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B7E48-FDED-4456-BED5-75DCD84BD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D457-C3BD-4CD5-BCF9-99AB089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FE83B-6F54-4964-BFEF-CA0FF780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D3E6-B70C-44BF-8286-711C0561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1F221-1929-4924-A06B-548CC0CD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0D717-41EF-4549-ACC7-2C45DC1C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00D7-20AD-4F13-B521-93E327C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3CE5F-C326-4574-970A-0249AFDC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42A1-F8D0-4B0B-9A17-CAF704F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2574-CC98-465B-A2FF-4F228AA6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329A-F956-4313-9DBE-3E8AE0C1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E2707-1005-466A-9720-52873363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C519-F773-4F2C-926F-F872916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DAB1F-DA86-4D53-82FD-15BFEB8F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EACD7-74E7-4A6D-88FA-C94BE3D3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A7F19-DEB8-4E46-8300-B8611805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67B62-1897-439A-A861-FDBCED92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8BB8D-D3AB-4704-998F-1F0A63C0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C364C-245C-498D-B57A-96B96E26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D6CE-7006-4C60-B9F0-3110D7C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5F726-C90E-47BA-AB05-F4C5908F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F0176-AE11-4112-B40A-60E43765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A86D7-23CA-474F-8678-24F6AFFC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4E07-00DA-4090-9AEB-A0D2EFDD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04808-B75C-41E3-97D5-947914B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24981-70D8-4B63-B621-D9C99EB7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2DF81-E335-4EE9-A789-3A00AEC9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23309-9463-4E1D-8C65-A623C4DC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1B92C-0BA3-423C-A148-A1039EAE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6FEF1-623D-41A4-9365-B772618B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84A13-3AE2-472B-ADA5-F6F4079A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49E29-C552-4C08-89C7-64E53C2F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504DE-5742-480D-BD68-8AB7405D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DB4FF-E29D-411E-9EA8-47BAA1CD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87D-75E4-446C-BF39-EEB6336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A9E7-334F-4099-A9A6-29E91F2A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343B4-20A1-4B3E-B8F7-380F3C6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924C9-6F5D-48FC-A8D3-9757BEA4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9C56-02B6-4655-B998-C784337B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A43E6-99D2-4A80-A048-844A5C43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61673-B857-452A-BEBF-AB6BB92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9D71E-F49D-43C4-ABB1-2C70BC6D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93292-00A1-4D2E-889E-D7ADE9D8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6A2A4-363A-4577-8727-2DE5294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CD748-1BCF-406A-91F5-34E337D1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790-37AA-4249-A097-D93ABD6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AE20A-5D65-4A39-A055-7599DE8F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A36FB-28D8-4255-B6BF-E78AFCA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00463-89AE-4FDF-B0C1-73CA467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62753-A077-4D13-A49F-04E072A3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C8DC-B247-40C3-A29B-FDBBEDCB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5B169-F8F5-43CC-883A-67B18B3F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8A5F2-4DDD-4AF5-ADB9-23867834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F2B94-2F03-451F-A5D8-7348427A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C012C4-B9F6-48BA-AE38-04A6D1B5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6E56A-7609-40E0-96CC-16737403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797B-D383-4683-B095-C19A9F5F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BC2B-D0C0-4281-A2A7-F3107A8C4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5D1A-67D6-4D92-9667-5D2B01AE5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108-080E-44DD-B1AF-4E3BB7445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B5B7-F985-4B7D-B2F0-EB6DFEB7C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D6AE-4B50-4574-8B2F-ABB35B0D7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50B0-FE2C-4271-9765-967702786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DEAA-FDA7-43A6-817A-AA0738163E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007-02AD-4C4B-B6CE-F3CC80E492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73B1-3054-462E-8A01-9231F7366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BA87-A033-436C-AE93-8EEEC69E37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5A19-71F2-4786-A5D1-7B77562701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no Pro Smbd"/>
              </a:rPr>
              <a:t>Здравствуй,  школа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5" descr="62286315.png"/>
          <p:cNvPicPr/>
          <p:nvPr/>
        </p:nvPicPr>
        <p:blipFill>
          <a:blip r:embed="rId1"/>
          <a:stretch/>
        </p:blipFill>
        <p:spPr>
          <a:xfrm>
            <a:off x="0" y="1071720"/>
            <a:ext cx="928692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Содержимое 3" descr="f_j031.jpg"/>
          <p:cNvPicPr/>
          <p:nvPr/>
        </p:nvPicPr>
        <p:blipFill>
          <a:blip r:embed="rId1"/>
          <a:stretch/>
        </p:blipFill>
        <p:spPr>
          <a:xfrm>
            <a:off x="2071800" y="0"/>
            <a:ext cx="53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Содержимое 3" descr="42030763_22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6" name="Содержимое 3" descr="f_k031.jpg"/>
          <p:cNvPicPr/>
          <p:nvPr/>
        </p:nvPicPr>
        <p:blipFill>
          <a:blip r:embed="rId1"/>
          <a:stretch/>
        </p:blipFill>
        <p:spPr>
          <a:xfrm>
            <a:off x="1928880" y="0"/>
            <a:ext cx="528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8" name="Содержимое 3" descr="erg2.jpg"/>
          <p:cNvPicPr/>
          <p:nvPr/>
        </p:nvPicPr>
        <p:blipFill>
          <a:blip r:embed="rId1"/>
          <a:stretch/>
        </p:blipFill>
        <p:spPr>
          <a:xfrm>
            <a:off x="14292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4" descr="Mal.jpg"/>
          <p:cNvPicPr/>
          <p:nvPr/>
        </p:nvPicPr>
        <p:blipFill>
          <a:blip r:embed="rId2"/>
          <a:stretch/>
        </p:blipFill>
        <p:spPr>
          <a:xfrm>
            <a:off x="4500720" y="3214800"/>
            <a:ext cx="621504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Содержимое 9" descr="087425a81db2.jpg"/>
          <p:cNvPicPr/>
          <p:nvPr/>
        </p:nvPicPr>
        <p:blipFill>
          <a:blip r:embed="rId1"/>
          <a:stretch/>
        </p:blipFill>
        <p:spPr>
          <a:xfrm>
            <a:off x="228600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Содержимое 3" descr="0013-013-Pravila-raboty-za-kompjuterom.jpg"/>
          <p:cNvPicPr/>
          <p:nvPr/>
        </p:nvPicPr>
        <p:blipFill>
          <a:blip r:embed="rId1"/>
          <a:stretch/>
        </p:blipFill>
        <p:spPr>
          <a:xfrm>
            <a:off x="500040" y="142920"/>
            <a:ext cx="814392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5" name="Picture 2" descr="C:\Documents and Settings\Иванка\Рабочий стол\ibm_1.gif"/>
          <p:cNvPicPr/>
          <p:nvPr/>
        </p:nvPicPr>
        <p:blipFill>
          <a:blip r:embed="rId1"/>
          <a:stretch/>
        </p:blipFill>
        <p:spPr>
          <a:xfrm>
            <a:off x="1143000" y="214200"/>
            <a:ext cx="657216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Содержимое 3" descr="profilaktika onemeniya ryk.jpg"/>
          <p:cNvPicPr/>
          <p:nvPr/>
        </p:nvPicPr>
        <p:blipFill>
          <a:blip r:embed="rId1"/>
          <a:stretch/>
        </p:blipFill>
        <p:spPr>
          <a:xfrm>
            <a:off x="214200" y="0"/>
            <a:ext cx="4071960" cy="350028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4" descr="10.gif"/>
          <p:cNvPicPr/>
          <p:nvPr/>
        </p:nvPicPr>
        <p:blipFill>
          <a:blip r:embed="rId2"/>
          <a:stretch/>
        </p:blipFill>
        <p:spPr>
          <a:xfrm>
            <a:off x="4500720" y="2714760"/>
            <a:ext cx="45003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42030774_33.jpg"/>
          <p:cNvPicPr/>
          <p:nvPr/>
        </p:nvPicPr>
        <p:blipFill>
          <a:blip r:embed="rId1"/>
          <a:stretch/>
        </p:blipFill>
        <p:spPr>
          <a:xfrm>
            <a:off x="2214720" y="0"/>
            <a:ext cx="4929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Содержимое 3" descr="Artem-computer_10-spina.jpg"/>
          <p:cNvPicPr/>
          <p:nvPr/>
        </p:nvPicPr>
        <p:blipFill>
          <a:blip r:embed="rId1"/>
          <a:stretch/>
        </p:blipFill>
        <p:spPr>
          <a:xfrm>
            <a:off x="164304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428800" y="274680"/>
            <a:ext cx="371484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Чтобы</a:t>
            </a: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компьютер  был 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Arno Pro Smbd"/>
              </a:rPr>
              <a:t> друго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Содержимое 3" descr="7816.jpg"/>
          <p:cNvPicPr/>
          <p:nvPr/>
        </p:nvPicPr>
        <p:blipFill>
          <a:blip r:embed="rId1"/>
          <a:stretch/>
        </p:blipFill>
        <p:spPr>
          <a:xfrm>
            <a:off x="0" y="142920"/>
            <a:ext cx="54291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no Pro Smbd"/>
            </a:endParaRPr>
          </a:p>
        </p:txBody>
      </p:sp>
      <p:pic>
        <p:nvPicPr>
          <p:cNvPr id="533" name="Содержимое 5" descr="f7caafddb99b.png"/>
          <p:cNvPicPr/>
          <p:nvPr/>
        </p:nvPicPr>
        <p:blipFill>
          <a:blip r:embed="rId1"/>
          <a:stretch/>
        </p:blipFill>
        <p:spPr>
          <a:xfrm>
            <a:off x="1366920" y="1600200"/>
            <a:ext cx="6410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7" name="Содержимое 3" descr="242efe6d6234bc36a615557af826aa34_full.jpg"/>
          <p:cNvPicPr/>
          <p:nvPr/>
        </p:nvPicPr>
        <p:blipFill>
          <a:blip r:embed="rId1"/>
          <a:stretch/>
        </p:blipFill>
        <p:spPr>
          <a:xfrm>
            <a:off x="714240" y="0"/>
            <a:ext cx="7143840" cy="5786280"/>
          </a:xfrm>
          <a:prstGeom prst="rect">
            <a:avLst/>
          </a:prstGeom>
          <a:ln w="0">
            <a:noFill/>
          </a:ln>
        </p:spPr>
      </p:pic>
      <p:sp>
        <p:nvSpPr>
          <p:cNvPr id="498" name="TextBox 4"/>
          <p:cNvSpPr/>
          <p:nvPr/>
        </p:nvSpPr>
        <p:spPr>
          <a:xfrm>
            <a:off x="1714680" y="578628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МОНИТО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1640" y="2857320"/>
            <a:ext cx="43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СИСТЕМНЫЙ БЛО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Содержимое 3" descr="26979.jpg"/>
          <p:cNvPicPr/>
          <p:nvPr/>
        </p:nvPicPr>
        <p:blipFill>
          <a:blip r:embed="rId1"/>
          <a:stretch/>
        </p:blipFill>
        <p:spPr>
          <a:xfrm>
            <a:off x="357120" y="428760"/>
            <a:ext cx="414360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2560" y="514332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КОМПЬЮТЕРНАЯ    МЫШ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Содержимое 3" descr="676063808.jpg"/>
          <p:cNvPicPr/>
          <p:nvPr/>
        </p:nvPicPr>
        <p:blipFill>
          <a:blip r:embed="rId1"/>
          <a:stretch/>
        </p:blipFill>
        <p:spPr>
          <a:xfrm>
            <a:off x="642960" y="571680"/>
            <a:ext cx="4753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7120" y="492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no Pro Smbd"/>
              </a:rPr>
              <a:t>ЗВУКОВЫЕ    КОЛО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4" name="Содержимое 3" descr="creative-gigaworks-t40-20080512044852598-000.jpg"/>
          <p:cNvPicPr/>
          <p:nvPr/>
        </p:nvPicPr>
        <p:blipFill>
          <a:blip r:embed="rId1"/>
          <a:stretch/>
        </p:blipFill>
        <p:spPr>
          <a:xfrm>
            <a:off x="500040" y="35712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57120" y="48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КЛАВИАТУР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6" name="Содержимое 3" descr="klava2-2110.jpg"/>
          <p:cNvPicPr/>
          <p:nvPr/>
        </p:nvPicPr>
        <p:blipFill>
          <a:blip r:embed="rId1"/>
          <a:stretch/>
        </p:blipFill>
        <p:spPr>
          <a:xfrm>
            <a:off x="357120" y="428760"/>
            <a:ext cx="664380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72080" y="2642760"/>
            <a:ext cx="4471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no Pro Smbd"/>
              </a:rPr>
              <a:t>ДИС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Содержимое 3" descr="lflash.jpg"/>
          <p:cNvPicPr/>
          <p:nvPr/>
        </p:nvPicPr>
        <p:blipFill>
          <a:blip r:embed="rId1"/>
          <a:stretch/>
        </p:blipFill>
        <p:spPr>
          <a:xfrm>
            <a:off x="1285920" y="1500120"/>
            <a:ext cx="3643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0" name="Содержимое 3" descr="default.jpeg"/>
          <p:cNvPicPr/>
          <p:nvPr/>
        </p:nvPicPr>
        <p:blipFill>
          <a:blip r:embed="rId1"/>
          <a:stretch/>
        </p:blipFill>
        <p:spPr>
          <a:xfrm>
            <a:off x="214200" y="214200"/>
            <a:ext cx="828684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1:43:39Z</dcterms:created>
  <dc:creator>www.PHILka.RU</dc:creator>
  <dc:description/>
  <dc:language>en-US</dc:language>
  <cp:lastModifiedBy>Ёля</cp:lastModifiedBy>
  <dcterms:modified xsi:type="dcterms:W3CDTF">2011-10-25T05:31:10Z</dcterms:modified>
  <cp:revision>15</cp:revision>
  <dc:subject/>
  <dc:title>Слайд 1</dc:title>
</cp:coreProperties>
</file>