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800-5C4B-4264-BFAA-AFAAABB1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E8A-E9A5-4A1F-9F3E-14AA8DE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415-368D-494B-9F2C-E694846A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3CB-FA06-4D3C-A2A1-38A2EC4D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FE39-F76A-4502-91C2-9CF3F17B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7C92-1611-4E38-880F-ECB5946F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B59B-9BA2-4DFA-A84F-6DD72F7C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3E4-4AEF-4EE4-998C-79C1812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8843-D4F2-4418-BDE1-DF0ACF6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1E93-984A-4F0A-9A41-96AB69E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0E5-7651-4E13-873C-0B3974C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290-D840-4BA1-96A7-CBCD47B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FFF0-41F2-4E46-86D8-591E98BB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67AE-089E-432C-A02C-221F24D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5EB-E0D6-4DB2-8370-8061D03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1685-E5F8-462F-A903-86B7CD5D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05C9-A60D-4121-B97E-7979C63F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C4B-5BBA-4EE9-9C38-3CBF8824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F46-88BC-41B3-91EB-D153F22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DA8-000C-4A4D-BB9C-CB8AB76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97A-9EE8-46C0-ACC3-5D8AFC60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698-1196-4349-93EB-B52DE04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420-4806-498F-A3D7-CC9C00B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7B2-D7B5-4C12-BCCC-F9A0057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9E3-CD14-473D-A162-98F86A44C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12A-DBA1-4890-AC89-14DF26D97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63400" y="18900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ая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еж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95280" y="2565360"/>
            <a:ext cx="842472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"Курить или не курить"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298480" y="508464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асс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Государственная политика</a:t>
            </a:r>
            <a:br>
              <a:rPr sz="3700"/>
            </a:b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и правильная реклам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Картинка 22 из 8030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1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91 из 8032"/>
          <p:cNvPicPr/>
          <p:nvPr/>
        </p:nvPicPr>
        <p:blipFill>
          <a:blip r:embed="rId2"/>
          <a:stretch/>
        </p:blipFill>
        <p:spPr>
          <a:xfrm>
            <a:off x="4211640" y="3500280"/>
            <a:ext cx="460224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595[1][1]"/>
          <p:cNvPicPr/>
          <p:nvPr/>
        </p:nvPicPr>
        <p:blipFill>
          <a:blip r:embed="rId3"/>
          <a:stretch/>
        </p:blipFill>
        <p:spPr>
          <a:xfrm>
            <a:off x="5148360" y="19890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image"/>
          <p:cNvPicPr/>
          <p:nvPr/>
        </p:nvPicPr>
        <p:blipFill>
          <a:blip r:embed="rId4"/>
          <a:stretch/>
        </p:blipFill>
        <p:spPr>
          <a:xfrm>
            <a:off x="468360" y="3213000"/>
            <a:ext cx="410508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б истории табака и вреде курения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547640" y="14842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. Родина табака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Южная Афр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Южная Америк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Южный полю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5076720" y="1989000"/>
            <a:ext cx="2849760" cy="332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61128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771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апирус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амокрут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артинка 10 из 66300"/>
          <p:cNvPicPr/>
          <p:nvPr/>
        </p:nvPicPr>
        <p:blipFill>
          <a:blip r:embed="rId1"/>
          <a:stretch/>
        </p:blipFill>
        <p:spPr>
          <a:xfrm>
            <a:off x="4859280" y="2133720"/>
            <a:ext cx="3505320" cy="3232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539640" y="5229360"/>
            <a:ext cx="243864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3. Кто обнаружил в табаке никотин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Жан Жак Русс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Жан Поль Бельмон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ан Ник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"/>
          <p:cNvPicPr/>
          <p:nvPr/>
        </p:nvPicPr>
        <p:blipFill>
          <a:blip r:embed="rId1"/>
          <a:stretch/>
        </p:blipFill>
        <p:spPr>
          <a:xfrm>
            <a:off x="4643280" y="1844640"/>
            <a:ext cx="3306960" cy="3668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4. В какой стране табак в 16 веке был объявлен «забавой дьявола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Ита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Брази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686480" y="2176560"/>
            <a:ext cx="3509640" cy="32605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5. Большие дозы никотина действуют подобно яду..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мышья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ар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инильной кисло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5 и 12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28479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6. Самый популярный способ употребления табака в США до 19 века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нюха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евани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6"/>
          <p:cNvPicPr/>
          <p:nvPr/>
        </p:nvPicPr>
        <p:blipFill>
          <a:blip r:embed="rId1"/>
          <a:stretch/>
        </p:blipFill>
        <p:spPr>
          <a:xfrm>
            <a:off x="4911840" y="1905120"/>
            <a:ext cx="305424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7. В 1934 году во французском городке Ницца компания молодежи устроила соревнование: кто выкурит больше папирос. Двое "Победителей" не смогли получить приз, так как скончались, выкурив по..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377208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4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6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8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5580000" y="2300400"/>
            <a:ext cx="3024360" cy="2862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17236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Кого называют «курильщиками поневоле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тех, кто находится в обществе курящи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ех, которых заставляют курить принудитель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тех, кто курит в тюрьм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6"/>
          <p:cNvPicPr/>
          <p:nvPr/>
        </p:nvPicPr>
        <p:blipFill>
          <a:blip r:embed="rId1"/>
          <a:stretch/>
        </p:blipFill>
        <p:spPr>
          <a:xfrm>
            <a:off x="4686480" y="2816280"/>
            <a:ext cx="3771720" cy="2216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324000" y="580536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ел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анализировать предрасположенность к курению у учащихся класс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накомить учащихся с данными статистики и тем, какой вред здоровью может принести курен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паганда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9. Когда, кем и откуда был впервые завезен табак в Европу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 XVI в. испанцами из Амер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 XVII в. китайцам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 XVIII в. англичанами из Инд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"/>
          <p:cNvPicPr/>
          <p:nvPr/>
        </p:nvPicPr>
        <p:blipFill>
          <a:blip r:embed="rId1"/>
          <a:stretch/>
        </p:blipFill>
        <p:spPr>
          <a:xfrm>
            <a:off x="4932360" y="1989000"/>
            <a:ext cx="3809880" cy="26211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61128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0. Существуют ли сигареты, которые не приносят вред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еты с фильтр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игареты с низким содержанием никотин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н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0"/>
          <p:cNvPicPr/>
          <p:nvPr/>
        </p:nvPicPr>
        <p:blipFill>
          <a:blip r:embed="rId1"/>
          <a:stretch/>
        </p:blipFill>
        <p:spPr>
          <a:xfrm>
            <a:off x="5665680" y="2244600"/>
            <a:ext cx="2517840" cy="32594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1.  Сколько веществ содержится в табачном дым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20-3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200-3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выше 4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2"/>
          <p:cNvPicPr/>
          <p:nvPr/>
        </p:nvPicPr>
        <p:blipFill>
          <a:blip r:embed="rId1"/>
          <a:stretch/>
        </p:blipFill>
        <p:spPr>
          <a:xfrm>
            <a:off x="4788000" y="1989000"/>
            <a:ext cx="3809880" cy="2741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2. Сколько процентов вредных веществ способен задержать сигаретный фильтр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е более 2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4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10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2"/>
          <p:cNvPicPr/>
          <p:nvPr/>
        </p:nvPicPr>
        <p:blipFill>
          <a:blip r:embed="rId1"/>
          <a:stretch/>
        </p:blipFill>
        <p:spPr>
          <a:xfrm>
            <a:off x="5289480" y="2176560"/>
            <a:ext cx="282888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Какие заболевания считаются наиболее связанными с курением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лерг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ак легког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гастри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4"/>
          <p:cNvPicPr/>
          <p:nvPr/>
        </p:nvPicPr>
        <p:blipFill>
          <a:blip r:embed="rId1"/>
          <a:stretch/>
        </p:blipFill>
        <p:spPr>
          <a:xfrm>
            <a:off x="4686480" y="2313000"/>
            <a:ext cx="3771720" cy="268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4. Сколько микрочастиц сажи содержится в 1 см</a:t>
            </a:r>
            <a:r>
              <a:rPr b="0" lang="ru-RU" sz="2400" spc="-1" strike="noStrike" baseline="30000">
                <a:solidFill>
                  <a:srgbClr val="336666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табачного дыма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о 3 000 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о 10 000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до 1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3"/>
          <p:cNvPicPr/>
          <p:nvPr/>
        </p:nvPicPr>
        <p:blipFill>
          <a:blip r:embed="rId1"/>
          <a:stretch/>
        </p:blipFill>
        <p:spPr>
          <a:xfrm>
            <a:off x="4987800" y="2108160"/>
            <a:ext cx="3276720" cy="344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6836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5. Верно ли, что в большинстве стран модно курить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ить никогда не было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ить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мода на курение прошл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дь"/>
          <p:cNvPicPr/>
          <p:nvPr/>
        </p:nvPicPr>
        <p:blipFill>
          <a:blip r:embed="rId1"/>
          <a:stretch/>
        </p:blipFill>
        <p:spPr>
          <a:xfrm>
            <a:off x="5651640" y="1844640"/>
            <a:ext cx="29415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6. Что такое пассивное курени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ахождение в помещении, где куря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огда куришь за компани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когда активно не затягиваешься сигаре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28600" y="586728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16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2216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7. Что вреднее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ым от сигарет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ым от газовой горел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ыхлопные газ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8317080" y="573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иои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8.Какие профессии менее доступны для курящих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портсмен-профессионал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окар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ра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5e1e0ce0d3f9bfc0fb1199b40d98b3cf"/>
          <p:cNvPicPr/>
          <p:nvPr/>
        </p:nvPicPr>
        <p:blipFill>
          <a:blip r:embed="rId1"/>
          <a:stretch/>
        </p:blipFill>
        <p:spPr>
          <a:xfrm>
            <a:off x="4610160" y="2313000"/>
            <a:ext cx="3771720" cy="2435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Фото: Fotobank"/>
          <p:cNvPicPr/>
          <p:nvPr/>
        </p:nvPicPr>
        <p:blipFill>
          <a:blip r:embed="rId1"/>
          <a:stretch/>
        </p:blipFill>
        <p:spPr>
          <a:xfrm>
            <a:off x="611280" y="3716280"/>
            <a:ext cx="3527280" cy="2932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а 1 из 14827"/>
          <p:cNvPicPr/>
          <p:nvPr/>
        </p:nvPicPr>
        <p:blipFill>
          <a:blip r:embed="rId2"/>
          <a:stretch/>
        </p:blipFill>
        <p:spPr>
          <a:xfrm>
            <a:off x="5796000" y="2708280"/>
            <a:ext cx="2762280" cy="394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 из 14827"/>
          <p:cNvPicPr/>
          <p:nvPr/>
        </p:nvPicPr>
        <p:blipFill>
          <a:blip r:embed="rId3"/>
          <a:stretch/>
        </p:blipFill>
        <p:spPr>
          <a:xfrm>
            <a:off x="1332000" y="260280"/>
            <a:ext cx="42480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9. При каком царе табак появился в России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при Иване Грозн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ри Петре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при Екатерине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9"/>
          <p:cNvPicPr/>
          <p:nvPr/>
        </p:nvPicPr>
        <p:blipFill>
          <a:blip r:embed="rId1"/>
          <a:stretch/>
        </p:blipFill>
        <p:spPr>
          <a:xfrm>
            <a:off x="5338800" y="1905120"/>
            <a:ext cx="24652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0. Какой русский царь ввел запрет на кур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ексей Михайло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етр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Екатерина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20"/>
          <p:cNvPicPr/>
          <p:nvPr/>
        </p:nvPicPr>
        <p:blipFill>
          <a:blip r:embed="rId1"/>
          <a:stretch/>
        </p:blipFill>
        <p:spPr>
          <a:xfrm>
            <a:off x="5638680" y="1971720"/>
            <a:ext cx="25466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1. Какое основное действие угарного газа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образование карбоксигемоглобина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ызывает кашел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лияет на работу пече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1"/>
          <p:cNvPicPr/>
          <p:nvPr/>
        </p:nvPicPr>
        <p:blipFill>
          <a:blip r:embed="rId1"/>
          <a:stretch/>
        </p:blipFill>
        <p:spPr>
          <a:xfrm>
            <a:off x="5591160" y="2041560"/>
            <a:ext cx="2668680" cy="34797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2. Как много взрослых мужчин в нашей стране курит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1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3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более 50 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2"/>
          <p:cNvPicPr/>
          <p:nvPr/>
        </p:nvPicPr>
        <p:blipFill>
          <a:blip r:embed="rId1"/>
          <a:stretch/>
        </p:blipFill>
        <p:spPr>
          <a:xfrm>
            <a:off x="4724280" y="1828800"/>
            <a:ext cx="3943440" cy="28368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1 172"/>
          <p:cNvPicPr/>
          <p:nvPr/>
        </p:nvPicPr>
        <p:blipFill>
          <a:blip r:embed="rId1"/>
          <a:stretch/>
        </p:blipFill>
        <p:spPr>
          <a:xfrm>
            <a:off x="2195640" y="1557360"/>
            <a:ext cx="4108320" cy="3081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IMG_4454"/>
          <p:cNvPicPr/>
          <p:nvPr/>
        </p:nvPicPr>
        <p:blipFill>
          <a:blip r:embed="rId2"/>
          <a:stretch/>
        </p:blipFill>
        <p:spPr>
          <a:xfrm>
            <a:off x="4859280" y="220500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7"/>
          <p:cNvSpPr txBox="1"/>
          <p:nvPr/>
        </p:nvSpPr>
        <p:spPr>
          <a:xfrm>
            <a:off x="826920" y="692280"/>
            <a:ext cx="770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жизнь без сигарет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13" descr="IMG_4462"/>
          <p:cNvPicPr/>
          <p:nvPr/>
        </p:nvPicPr>
        <p:blipFill>
          <a:blip r:embed="rId3"/>
          <a:stretch/>
        </p:blipFill>
        <p:spPr>
          <a:xfrm>
            <a:off x="324000" y="2205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IMG_4461"/>
          <p:cNvPicPr/>
          <p:nvPr/>
        </p:nvPicPr>
        <p:blipFill>
          <a:blip r:embed="rId4"/>
          <a:stretch/>
        </p:blipFill>
        <p:spPr>
          <a:xfrm>
            <a:off x="2556000" y="328464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MG_4466"/>
          <p:cNvPicPr/>
          <p:nvPr/>
        </p:nvPicPr>
        <p:blipFill>
          <a:blip r:embed="rId5"/>
          <a:stretch/>
        </p:blipFill>
        <p:spPr>
          <a:xfrm>
            <a:off x="1332000" y="1413000"/>
            <a:ext cx="6624720" cy="5257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0"/>
          <p:cNvSpPr txBox="1"/>
          <p:nvPr/>
        </p:nvSpPr>
        <p:spPr>
          <a:xfrm>
            <a:off x="324000" y="3213000"/>
            <a:ext cx="842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Умение справляться со стресс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Собственное усвоение хороших привы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Правильное пит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Защита окружающей сред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8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44960" y="734040"/>
            <a:ext cx="6309000" cy="35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«Здоровье есть величайшее сокровище, перед которым всё остальное ничто!» А.Шопенгауэр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39" name="Picture 9" descr="IMG_4466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445788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250920" y="5516640"/>
            <a:ext cx="8713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езультаты диагностики предрасположенности к курения учащихся 7 «А» класс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5 учащихся - нет предрасположенности к курению, сам процесс курения не одобряется (74%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 учащихся - нейтральное отношение к курению, возможно приобщение к нему при случае (24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 учащийся - положительное отношение к курению, возможно, подросток уже приобщился к нему (2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хронических заболеваний легких, 7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ишемической болезни сердца, 2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начавших курить, заядлыми курильщиками становятся 8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7-й длительно курящий человек страдает эндартериитом – тяжелым заболеванием кровеносных со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еловек начал курить в15 лет, продолжительность его жизни уменьшается более чем на 8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куривая 20 сигарет в день, человек дышит воздухом, загрязненность которого в 580-1100 раз превышает санитарные но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0 химических веществ, содержащихся в табачном дыме, наносят непоправимый вред здоровью не только курящих, но и тех, кто находится рядом с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500" spc="-1" strike="noStrike">
                <a:solidFill>
                  <a:srgbClr val="008000"/>
                </a:solidFill>
                <a:latin typeface="Times New Roman"/>
              </a:rPr>
              <a:t>В дыме табака содержится более     80 ядовитых веществ</a:t>
            </a:r>
            <a:r>
              <a:rPr b="1" i="1" lang="ru-RU" sz="3500" spc="-1" strike="noStrike">
                <a:solidFill>
                  <a:srgbClr val="336666"/>
                </a:solidFill>
                <a:latin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5 и 12"/>
          <p:cNvPicPr/>
          <p:nvPr/>
        </p:nvPicPr>
        <p:blipFill>
          <a:blip r:embed="rId1"/>
          <a:stretch/>
        </p:blipFill>
        <p:spPr>
          <a:xfrm>
            <a:off x="1763640" y="1844640"/>
            <a:ext cx="6120000" cy="4397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post-19-1143712483[1]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86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глядный пример различия между лег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урильщика и легкими человека, который не ку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Картинка 1 из 1494"/>
          <p:cNvPicPr/>
          <p:nvPr/>
        </p:nvPicPr>
        <p:blipFill>
          <a:blip r:embed="rId1"/>
          <a:stretch/>
        </p:blipFill>
        <p:spPr>
          <a:xfrm>
            <a:off x="395280" y="1844640"/>
            <a:ext cx="5724360" cy="38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85"/>
          <p:cNvPicPr/>
          <p:nvPr/>
        </p:nvPicPr>
        <p:blipFill>
          <a:blip r:embed="rId2"/>
          <a:stretch/>
        </p:blipFill>
        <p:spPr>
          <a:xfrm>
            <a:off x="6012000" y="2060640"/>
            <a:ext cx="284004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вреждённое сердце курильщ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 advTm="6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3" descr="Graph_2_big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0000"/>
          </a:xfrm>
          <a:prstGeom prst="rect">
            <a:avLst/>
          </a:prstGeom>
          <a:ln w="76320">
            <a:solidFill>
              <a:srgbClr val="d6e0e0"/>
            </a:solidFill>
            <a:miter/>
          </a:ln>
        </p:spPr>
      </p:pic>
    </p:spTree>
  </p:cSld>
  <p:transition spd="slow" advTm="6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21:09:10Z</dcterms:created>
  <dc:creator>SSE</dc:creator>
  <dc:description/>
  <cp:keywords/>
  <dc:language>en-US</dc:language>
  <cp:lastModifiedBy>Ёля</cp:lastModifiedBy>
  <dcterms:modified xsi:type="dcterms:W3CDTF">2012-02-20T15:07:14Z</dcterms:modified>
  <cp:revision>6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