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8.gif" ContentType="image/gif"/>
  <Override PartName="/ppt/media/image4.jpeg" ContentType="image/jpeg"/>
  <Override PartName="/ppt/media/image3.png" ContentType="image/png"/>
  <Override PartName="/ppt/media/image24.png" ContentType="image/png"/>
  <Override PartName="/ppt/media/image23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21.png" ContentType="image/png"/>
  <Override PartName="/ppt/media/image19.png" ContentType="image/png"/>
  <Override PartName="/ppt/media/image17.gif" ContentType="image/gif"/>
  <Override PartName="/ppt/media/image16.jpeg" ContentType="image/jpeg"/>
  <Override PartName="/ppt/media/image14.png" ContentType="image/png"/>
  <Override PartName="/ppt/media/image5.png" ContentType="image/png"/>
  <Override PartName="/ppt/media/image2.gif" ContentType="image/gif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444-3271-4488-AF1C-7E9C96DF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A4E4-7B30-412F-AC5A-2C0F1C3A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7415-3774-4369-BF13-1217EB53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53D-671D-461E-90B0-7831A203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062-AF41-416B-AA18-EA964776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44F1-CB96-4A4D-BE28-82D59B73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7CD5-6D6C-43FD-804F-A874FF61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FF84-5C22-4981-A07D-D4B78477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7691-BB7C-43CA-8387-1CAD9E47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7E64-4377-4950-A4F1-C9B061FB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221-9584-45C2-B88A-73EFDB15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ADAD-7CA4-4332-B422-E4E088EB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c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9FA2-230A-4DA1-B6AD-E9842CDFDD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x_6b2aa01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4"/>
          <p:cNvGrpSpPr/>
          <p:nvPr/>
        </p:nvGrpSpPr>
        <p:grpSpPr>
          <a:xfrm>
            <a:off x="1476360" y="1298520"/>
            <a:ext cx="6624360" cy="5559120"/>
            <a:chOff x="1476360" y="1298520"/>
            <a:chExt cx="6624360" cy="5559120"/>
          </a:xfrm>
        </p:grpSpPr>
        <p:sp>
          <p:nvSpPr>
            <p:cNvPr id="78" name="AutoShape 5"/>
            <p:cNvSpPr/>
            <p:nvPr/>
          </p:nvSpPr>
          <p:spPr>
            <a:xfrm>
              <a:off x="1476360" y="1298520"/>
              <a:ext cx="6624360" cy="55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6"/>
            <p:cNvSpPr/>
            <p:nvPr/>
          </p:nvSpPr>
          <p:spPr>
            <a:xfrm>
              <a:off x="2539800" y="1539360"/>
              <a:ext cx="4594680" cy="45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7"/>
            <p:cNvSpPr/>
            <p:nvPr/>
          </p:nvSpPr>
          <p:spPr>
            <a:xfrm>
              <a:off x="4957920" y="1539360"/>
              <a:ext cx="3240" cy="45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"/>
            <p:cNvSpPr/>
            <p:nvPr/>
          </p:nvSpPr>
          <p:spPr>
            <a:xfrm>
              <a:off x="2539800" y="3957480"/>
              <a:ext cx="4594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9"/>
            <p:cNvSpPr/>
            <p:nvPr/>
          </p:nvSpPr>
          <p:spPr>
            <a:xfrm>
              <a:off x="2539800" y="2748600"/>
              <a:ext cx="2419920" cy="241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"/>
            <p:cNvSpPr/>
            <p:nvPr/>
          </p:nvSpPr>
          <p:spPr>
            <a:xfrm>
              <a:off x="4957920" y="2989800"/>
              <a:ext cx="2176560" cy="217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>
              <a:off x="2539800" y="3957480"/>
              <a:ext cx="459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 flipH="1" flipV="1">
              <a:off x="4474800" y="2748240"/>
              <a:ext cx="24156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3"/>
            <p:cNvSpPr/>
            <p:nvPr/>
          </p:nvSpPr>
          <p:spPr>
            <a:xfrm flipH="1" flipV="1">
              <a:off x="6649920" y="2989800"/>
              <a:ext cx="24156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4"/>
            <p:cNvSpPr/>
            <p:nvPr/>
          </p:nvSpPr>
          <p:spPr>
            <a:xfrm>
              <a:off x="5682960" y="3716280"/>
              <a:ext cx="7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5"/>
            <p:cNvSpPr/>
            <p:nvPr/>
          </p:nvSpPr>
          <p:spPr>
            <a:xfrm flipV="1">
              <a:off x="5682960" y="5407560"/>
              <a:ext cx="48456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Прямоугольник 14" descr=""/>
          <p:cNvPicPr/>
          <p:nvPr/>
        </p:nvPicPr>
        <p:blipFill>
          <a:blip r:embed="rId1"/>
          <a:stretch/>
        </p:blipFill>
        <p:spPr>
          <a:xfrm>
            <a:off x="1292400" y="189000"/>
            <a:ext cx="72849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3" descr="2338809-1307112078363.jpg"/>
          <p:cNvPicPr/>
          <p:nvPr/>
        </p:nvPicPr>
        <p:blipFill>
          <a:blip r:embed="rId1"/>
          <a:stretch/>
        </p:blipFill>
        <p:spPr>
          <a:xfrm>
            <a:off x="826920" y="1628640"/>
            <a:ext cx="7620120" cy="457200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4" descr=""/>
          <p:cNvPicPr/>
          <p:nvPr/>
        </p:nvPicPr>
        <p:blipFill>
          <a:blip r:embed="rId2"/>
          <a:stretch/>
        </p:blipFill>
        <p:spPr>
          <a:xfrm>
            <a:off x="2346480" y="189000"/>
            <a:ext cx="47494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аких фигур и сколько вы насчитал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 rot="10800000">
            <a:off x="3780000" y="2205000"/>
            <a:ext cx="1512720" cy="1152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3419640" y="3357720"/>
            <a:ext cx="2166840" cy="2808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4788000" y="1773360"/>
            <a:ext cx="433440" cy="4143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 rot="10800000">
            <a:off x="4356000" y="2637000"/>
            <a:ext cx="432000" cy="28872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 rot="10800000">
            <a:off x="4572000" y="4797360"/>
            <a:ext cx="503280" cy="43200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 rot="10800000">
            <a:off x="3924360" y="4797360"/>
            <a:ext cx="503280" cy="43200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3780000" y="1773360"/>
            <a:ext cx="433080" cy="4143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 rot="10800000">
            <a:off x="4716000" y="6165360"/>
            <a:ext cx="792360" cy="3603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 rot="10800000">
            <a:off x="3419640" y="6165360"/>
            <a:ext cx="792000" cy="3603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780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ой приближается праздник?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Снова решаем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e8fcdefab39189d95fd80bebd8e.jpg"/>
          <p:cNvPicPr/>
          <p:nvPr/>
        </p:nvPicPr>
        <p:blipFill>
          <a:blip r:embed="rId1"/>
          <a:stretch/>
        </p:blipFill>
        <p:spPr>
          <a:xfrm>
            <a:off x="3780000" y="1413000"/>
            <a:ext cx="50860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3" descr="1315922501masha_i_medvedq.jpg"/>
          <p:cNvPicPr/>
          <p:nvPr/>
        </p:nvPicPr>
        <p:blipFill>
          <a:blip r:embed="rId1"/>
          <a:stretch/>
        </p:blipFill>
        <p:spPr>
          <a:xfrm>
            <a:off x="250920" y="260280"/>
            <a:ext cx="5292720" cy="528336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4" descr=""/>
          <p:cNvPicPr/>
          <p:nvPr/>
        </p:nvPicPr>
        <p:blipFill>
          <a:blip r:embed="rId2"/>
          <a:stretch/>
        </p:blipFill>
        <p:spPr>
          <a:xfrm>
            <a:off x="2341440" y="4943520"/>
            <a:ext cx="7351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927036"/>
          <p:cNvPicPr/>
          <p:nvPr/>
        </p:nvPicPr>
        <p:blipFill>
          <a:blip r:embed="rId1"/>
          <a:stretch/>
        </p:blipFill>
        <p:spPr>
          <a:xfrm>
            <a:off x="2268360" y="1916280"/>
            <a:ext cx="4521240" cy="45068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2200320" y="-212760"/>
            <a:ext cx="45784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i?id=326175020-40-72&amp;n=17"/>
          <p:cNvPicPr/>
          <p:nvPr/>
        </p:nvPicPr>
        <p:blipFill>
          <a:blip r:embed="rId1"/>
          <a:stretch/>
        </p:blipFill>
        <p:spPr>
          <a:xfrm>
            <a:off x="468360" y="692280"/>
            <a:ext cx="8172360" cy="58323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611280" y="692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60 + 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11280" y="227664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90 +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860720" y="3855960"/>
            <a:ext cx="13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69 +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6805800" y="54403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2 –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6302160" y="62064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0 +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826200" y="527544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5 –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684360" y="3789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0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H="1">
            <a:off x="755640" y="907920"/>
            <a:ext cx="1295280" cy="2881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 flipV="1">
            <a:off x="755640" y="691920"/>
            <a:ext cx="5256360" cy="3097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6012000" y="836640"/>
            <a:ext cx="1008000" cy="3168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H="1" flipV="1">
            <a:off x="4716360" y="2637000"/>
            <a:ext cx="2160720" cy="129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4788000" y="2708280"/>
            <a:ext cx="3097080" cy="273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 flipH="1">
            <a:off x="1835280" y="5445000"/>
            <a:ext cx="597672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16" descr=""/>
          <p:cNvPicPr/>
          <p:nvPr/>
        </p:nvPicPr>
        <p:blipFill>
          <a:blip r:embed="rId2"/>
          <a:stretch/>
        </p:blipFill>
        <p:spPr>
          <a:xfrm>
            <a:off x="-262080" y="-360360"/>
            <a:ext cx="96314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965507_6"/>
          <p:cNvPicPr/>
          <p:nvPr/>
        </p:nvPicPr>
        <p:blipFill>
          <a:blip r:embed="rId1"/>
          <a:stretch/>
        </p:blipFill>
        <p:spPr>
          <a:xfrm>
            <a:off x="1116000" y="1209600"/>
            <a:ext cx="7037280" cy="55324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3" descr=""/>
          <p:cNvPicPr/>
          <p:nvPr/>
        </p:nvPicPr>
        <p:blipFill>
          <a:blip r:embed="rId2"/>
          <a:stretch/>
        </p:blipFill>
        <p:spPr>
          <a:xfrm>
            <a:off x="1103400" y="85680"/>
            <a:ext cx="707076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олученные значения выражений расположите в порядке убы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95280" y="283968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80       100         70         30         2          5         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Ч         У           Е           Н         К         И          Б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!</a:t>
            </a:r>
            <a:br>
              <a:rPr sz="5400"/>
            </a:b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Работа по учебнику:</a:t>
            </a:r>
            <a:br>
              <a:rPr sz="5400"/>
            </a:b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с. 64 - № 137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анимашки рыбки"/>
          <p:cNvPicPr/>
          <p:nvPr/>
        </p:nvPicPr>
        <p:blipFill>
          <a:blip r:embed="rId1"/>
          <a:stretch/>
        </p:blipFill>
        <p:spPr>
          <a:xfrm>
            <a:off x="5254560" y="-531720"/>
            <a:ext cx="3889440" cy="388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анимашки рыбки"/>
          <p:cNvPicPr/>
          <p:nvPr/>
        </p:nvPicPr>
        <p:blipFill>
          <a:blip r:embed="rId2"/>
          <a:stretch/>
        </p:blipFill>
        <p:spPr>
          <a:xfrm>
            <a:off x="7093080" y="5157720"/>
            <a:ext cx="2342880" cy="1400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анимашки рыбки"/>
          <p:cNvPicPr/>
          <p:nvPr/>
        </p:nvPicPr>
        <p:blipFill>
          <a:blip r:embed="rId3"/>
          <a:stretch/>
        </p:blipFill>
        <p:spPr>
          <a:xfrm>
            <a:off x="395280" y="5734080"/>
            <a:ext cx="1000080" cy="66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анимашки рыбки"/>
          <p:cNvPicPr/>
          <p:nvPr/>
        </p:nvPicPr>
        <p:blipFill>
          <a:blip r:embed="rId4"/>
          <a:stretch/>
        </p:blipFill>
        <p:spPr>
          <a:xfrm>
            <a:off x="324000" y="33336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анимашки рыбки"/>
          <p:cNvPicPr/>
          <p:nvPr/>
        </p:nvPicPr>
        <p:blipFill>
          <a:blip r:embed="rId5"/>
          <a:stretch/>
        </p:blipFill>
        <p:spPr>
          <a:xfrm>
            <a:off x="5364000" y="3933720"/>
            <a:ext cx="2578320" cy="1582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15.jpg"/>
          <p:cNvPicPr/>
          <p:nvPr/>
        </p:nvPicPr>
        <p:blipFill>
          <a:blip r:embed="rId6"/>
          <a:stretch/>
        </p:blipFill>
        <p:spPr>
          <a:xfrm>
            <a:off x="1547640" y="1125360"/>
            <a:ext cx="3346560" cy="505944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9" descr=""/>
          <p:cNvPicPr/>
          <p:nvPr/>
        </p:nvPicPr>
        <p:blipFill>
          <a:blip r:embed="rId7"/>
          <a:stretch/>
        </p:blipFill>
        <p:spPr>
          <a:xfrm>
            <a:off x="1676520" y="-19080"/>
            <a:ext cx="61084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8 + 4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2     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7 + 7 =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11 – 4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7     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17 – 8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20 + 10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0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40 + 10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=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16 – 8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8     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18 – 9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9 + 5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4     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8 + 6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=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43 – 3 =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40     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74 – 4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= 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4643280" y="0"/>
            <a:ext cx="73080" cy="6858000"/>
          </a:xfrm>
          <a:prstGeom prst="line">
            <a:avLst/>
          </a:prstGeom>
          <a:ln w="255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-main-pic" descr="Картинка 11 из 136000"/>
          <p:cNvPicPr/>
          <p:nvPr/>
        </p:nvPicPr>
        <p:blipFill>
          <a:blip r:embed="rId1"/>
          <a:stretch/>
        </p:blipFill>
        <p:spPr>
          <a:xfrm>
            <a:off x="395280" y="0"/>
            <a:ext cx="3564000" cy="1932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im5-tub-ru.yandex.net/i?id=99237846-19-72&amp;n=17"/>
          <p:cNvPicPr/>
          <p:nvPr/>
        </p:nvPicPr>
        <p:blipFill>
          <a:blip r:embed="rId2"/>
          <a:stretch/>
        </p:blipFill>
        <p:spPr>
          <a:xfrm>
            <a:off x="5148360" y="0"/>
            <a:ext cx="36003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929814"/>
          <p:cNvPicPr/>
          <p:nvPr/>
        </p:nvPicPr>
        <p:blipFill>
          <a:blip r:embed="rId1"/>
          <a:stretch/>
        </p:blipFill>
        <p:spPr>
          <a:xfrm>
            <a:off x="971640" y="2276640"/>
            <a:ext cx="3168720" cy="39384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3" descr=""/>
          <p:cNvPicPr/>
          <p:nvPr/>
        </p:nvPicPr>
        <p:blipFill>
          <a:blip r:embed="rId2"/>
          <a:stretch/>
        </p:blipFill>
        <p:spPr>
          <a:xfrm>
            <a:off x="-36360" y="128520"/>
            <a:ext cx="92106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2:52:39Z</dcterms:created>
  <dc:creator>user</dc:creator>
  <dc:description/>
  <dc:language>en-US</dc:language>
  <cp:lastModifiedBy>Ёля</cp:lastModifiedBy>
  <dcterms:modified xsi:type="dcterms:W3CDTF">2012-02-25T04:58:41Z</dcterms:modified>
  <cp:revision>18</cp:revision>
  <dc:subject/>
  <dc:title>Слайд 1</dc:title>
</cp:coreProperties>
</file>