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9A7-3C45-4528-B99F-74AF5239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99A-BDAF-45DD-9A41-E2C4239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512-AAFA-4C2D-8BD3-1625DBEA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0FF-75BB-4B77-81D6-11FB86EE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6CEE-4312-478A-8249-2C1DF00A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5179-3DF5-426B-9356-B5A5595C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8134-A10A-4254-910A-DFA56496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23B1-B712-41F5-8ED1-E38AC7DA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104B-BFB9-4491-9C2C-245273B8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7356-E1E6-4658-B446-F639D068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E928-2663-49CF-8C5F-FC16AD3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A58-53E8-433A-B340-7D4274B9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AEAB-3CEE-402C-A90D-5EDDDBB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8628-1204-47B9-8929-AA7D7B9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B06E-E36A-4FCE-9B45-E05024AC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7D1-C304-4925-BEAD-5E988324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979D-B636-4F34-BFF1-2178EC2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B45-F4F8-43E8-95E9-67F2FFD6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1B8-C9B1-4E69-859E-93764FCA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1DF-522E-41DF-9FC8-F0DB474F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3C7-34F0-4560-A4EA-0C14BA9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1A2-C5C9-422A-A941-65DF7A04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058-6A86-421A-8864-CE196503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951-15B4-4D9C-A734-C217DDD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A59-E49D-433A-B4E4-4FC310C9F2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70E-671D-4FC7-AFF1-DF08FC7A0C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867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«История олимпийских игр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838080" y="1219320"/>
            <a:ext cx="7620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10960" y="5979960"/>
            <a:ext cx="480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Аннинская СОШ №3 с УИ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даль за высшее спортивное достижени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олот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ебрян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ронзова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7672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9"/>
          <p:cNvPicPr/>
          <p:nvPr/>
        </p:nvPicPr>
        <p:blipFill>
          <a:blip r:embed="rId1"/>
          <a:stretch/>
        </p:blipFill>
        <p:spPr>
          <a:xfrm>
            <a:off x="4495680" y="20574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В каком году советские спортсмены впервые приняли участие в Олимпийских играх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, XII Олимпийские игр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10"/>
          <p:cNvPicPr/>
          <p:nvPr/>
        </p:nvPicPr>
        <p:blipFill>
          <a:blip r:embed="rId1"/>
          <a:stretch/>
        </p:blipFill>
        <p:spPr>
          <a:xfrm>
            <a:off x="4724280" y="2209680"/>
            <a:ext cx="3772080" cy="2444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впервые в Олимпийских играх приняли участие женщин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00 г, II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34290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11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огда в честь побед Россиян впервые на Олимпийских играх поднялось трёхцветное знамя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92 г., Барселона,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84 г., Лос-Анжелес, С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72 г., Мюнхен, Герма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20040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12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122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был первым российским олимпийским чемпионом, фигуристом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дрей Миненк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ександр Горшк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.Панин-Коломенск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1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797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из гимнастов имеет 18 олимпийских медалей, из них 9 – золотых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ариса Латы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иколай Андриан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лий Щерб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14"/>
          <p:cNvPicPr/>
          <p:nvPr/>
        </p:nvPicPr>
        <p:blipFill>
          <a:blip r:embed="rId1"/>
          <a:stretch/>
        </p:blipFill>
        <p:spPr>
          <a:xfrm>
            <a:off x="4800600" y="2133720"/>
            <a:ext cx="3772080" cy="3078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первые в Олимпиаде победили советские хоккеист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6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15"/>
          <p:cNvPicPr/>
          <p:nvPr/>
        </p:nvPicPr>
        <p:blipFill>
          <a:blip r:embed="rId1"/>
          <a:stretch/>
        </p:blipFill>
        <p:spPr>
          <a:xfrm>
            <a:off x="4495680" y="2133720"/>
            <a:ext cx="3772080" cy="25160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Главными словами знаменитой «Оды спорта» Пьера де Кубертена являются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3526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16"/>
          <p:cNvPicPr/>
          <p:nvPr/>
        </p:nvPicPr>
        <p:blipFill>
          <a:blip r:embed="rId1"/>
          <a:stretch/>
        </p:blipFill>
        <p:spPr>
          <a:xfrm>
            <a:off x="5519880" y="1905120"/>
            <a:ext cx="320508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ак называется организация, возглавляющая олимпийское движение в России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ИФ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Б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240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17"/>
          <p:cNvPicPr/>
          <p:nvPr/>
        </p:nvPicPr>
        <p:blipFill>
          <a:blip r:embed="rId1"/>
          <a:stretch/>
        </p:blipFill>
        <p:spPr>
          <a:xfrm>
            <a:off x="4572000" y="2209680"/>
            <a:ext cx="3772080" cy="2414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Трёхкратная советская олимпийская чемпионка в парном фигурном катании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Пахомо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Белоусо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рина Род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18"/>
          <p:cNvPicPr/>
          <p:nvPr/>
        </p:nvPicPr>
        <p:blipFill>
          <a:blip r:embed="rId1"/>
          <a:stretch/>
        </p:blipFill>
        <p:spPr>
          <a:xfrm>
            <a:off x="4648320" y="2666880"/>
            <a:ext cx="3771720" cy="2475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состоялись первые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6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2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0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1"/>
          <p:cNvPicPr/>
          <p:nvPr/>
        </p:nvPicPr>
        <p:blipFill>
          <a:blip r:embed="rId1"/>
          <a:stretch/>
        </p:blipFill>
        <p:spPr>
          <a:xfrm>
            <a:off x="4686480" y="2644920"/>
            <a:ext cx="3771720" cy="255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роде находится штаб-квартира МОК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озанна, Швейца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19"/>
          <p:cNvPicPr/>
          <p:nvPr/>
        </p:nvPicPr>
        <p:blipFill>
          <a:blip r:embed="rId1"/>
          <a:stretch/>
        </p:blipFill>
        <p:spPr>
          <a:xfrm>
            <a:off x="5181480" y="2362320"/>
            <a:ext cx="34290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акие Олимпийские игры состоялись без участия советских спортсменов по политическим мотивам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V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1148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20"/>
          <p:cNvPicPr/>
          <p:nvPr/>
        </p:nvPicPr>
        <p:blipFill>
          <a:blip r:embed="rId1"/>
          <a:stretch/>
        </p:blipFill>
        <p:spPr>
          <a:xfrm>
            <a:off x="5029200" y="2133720"/>
            <a:ext cx="3657600" cy="2473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д каким городом впервые был поднят олимпийский флаг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тверпен, Бельг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21"/>
          <p:cNvPicPr/>
          <p:nvPr/>
        </p:nvPicPr>
        <p:blipFill>
          <a:blip r:embed="rId1"/>
          <a:stretch/>
        </p:blipFill>
        <p:spPr>
          <a:xfrm>
            <a:off x="4686480" y="2668680"/>
            <a:ext cx="3771720" cy="2511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 Москве состоялись XXI Летние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7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27672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22"/>
          <p:cNvPicPr/>
          <p:nvPr/>
        </p:nvPicPr>
        <p:blipFill>
          <a:blip r:embed="rId1"/>
          <a:stretch/>
        </p:blipFill>
        <p:spPr>
          <a:xfrm>
            <a:off x="4572000" y="2057400"/>
            <a:ext cx="3772080" cy="2584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талисман Олимпийских игр в Москв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вежонок Ми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рлёнок Сэ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нот Ро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2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5448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луб, воспитавший победителей Олимпиад – фехтовальщиков, хоккеистов, баскетболистов, волейболистов и т.д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инам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парта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ЦС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24"/>
          <p:cNvPicPr/>
          <p:nvPr/>
        </p:nvPicPr>
        <p:blipFill>
          <a:blip r:embed="rId1"/>
          <a:stretch/>
        </p:blipFill>
        <p:spPr>
          <a:xfrm>
            <a:off x="4648320" y="23623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838080" y="2438280"/>
            <a:ext cx="7772400" cy="17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чью честь проводились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полло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Зев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ид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2"/>
          <p:cNvPicPr/>
          <p:nvPr/>
        </p:nvPicPr>
        <p:blipFill>
          <a:blip r:embed="rId1"/>
          <a:stretch/>
        </p:blipFill>
        <p:spPr>
          <a:xfrm>
            <a:off x="4686480" y="2658960"/>
            <a:ext cx="3771720" cy="2530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Чем награждали победителей Олимпийский игр в Древней Греции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аль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рамо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енком из листьев лав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3 и 5"/>
          <p:cNvPicPr/>
          <p:nvPr/>
        </p:nvPicPr>
        <p:blipFill>
          <a:blip r:embed="rId1"/>
          <a:stretch/>
        </p:blipFill>
        <p:spPr>
          <a:xfrm>
            <a:off x="4952880" y="2459160"/>
            <a:ext cx="3581640" cy="2635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ак называли победителя Олимпийских игр в Древней Греции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мпи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лимпио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екордсме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3526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4"/>
          <p:cNvPicPr/>
          <p:nvPr/>
        </p:nvPicPr>
        <p:blipFill>
          <a:blip r:embed="rId1"/>
          <a:stretch/>
        </p:blipFill>
        <p:spPr>
          <a:xfrm>
            <a:off x="4648320" y="2133720"/>
            <a:ext cx="3771720" cy="2993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о время Олимпийских игр объявлялось военное перемирие, но однажды в Древней Греции оно было нарушено. Когда это произошло?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0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4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36 году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5053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3 и 5"/>
          <p:cNvPicPr/>
          <p:nvPr/>
        </p:nvPicPr>
        <p:blipFill>
          <a:blip r:embed="rId1"/>
          <a:stretch/>
        </p:blipFill>
        <p:spPr>
          <a:xfrm>
            <a:off x="4572000" y="2133720"/>
            <a:ext cx="3809880" cy="28033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и где были проведены первые Олимпийские игры современности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896 г., 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0 г. Париж, Фран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6, Афины, Гре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6"/>
          <p:cNvPicPr/>
          <p:nvPr/>
        </p:nvPicPr>
        <p:blipFill>
          <a:blip r:embed="rId1"/>
          <a:stretch/>
        </p:blipFill>
        <p:spPr>
          <a:xfrm>
            <a:off x="4572000" y="2286000"/>
            <a:ext cx="3772080" cy="25938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прошли I Зимние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30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3526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7"/>
          <p:cNvPicPr/>
          <p:nvPr/>
        </p:nvPicPr>
        <p:blipFill>
          <a:blip r:embed="rId1"/>
          <a:stretch/>
        </p:blipFill>
        <p:spPr>
          <a:xfrm>
            <a:off x="4686480" y="2532240"/>
            <a:ext cx="3771720" cy="2784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девиз Олимпийских игр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8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495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5:33:15Z</dcterms:created>
  <dc:creator>Александр</dc:creator>
  <dc:description/>
  <dc:language>en-US</dc:language>
  <cp:lastModifiedBy>Ёля</cp:lastModifiedBy>
  <dcterms:modified xsi:type="dcterms:W3CDTF">2012-02-15T13:27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