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357-6074-46C7-8295-6CFEB59F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521-4966-409C-B42D-8DA5E178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15C-9CD3-4960-862D-01829903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090-0116-4C24-9DD3-F7E60B4F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AF1C-F558-474A-BB2C-264EC883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8CB5-C4D0-47A2-9C93-3DC11032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83B5-C8AA-43FD-9824-AF3DBEC8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7A45-C8F1-497A-A7EA-8BE68776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16CA-61B6-4AE2-80C5-B7958896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FF5D-5930-48B4-AB80-C79EA0BA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ECFC-20A4-4833-9B0C-1597CFF1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E67-43F0-40E5-A7A6-BE564706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DA41-BB73-47D6-A0F1-10504720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57F5-0BD7-42DE-AA0D-3D744143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D063-8EC3-466E-BAC7-426EA660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87CA-48CA-418C-98F0-1D646D6E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9402-0201-46AE-87CA-CB0272C8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96A-A617-4AE2-ABF2-A9E23DF6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046-BF7D-4FE7-B64D-E080650B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599-FB1C-401B-A007-054D42D3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ED1-FBA2-4A6C-8E2E-C18D7617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221-1B54-4A20-8F4C-826B6FE7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6E4-A974-49CD-B767-42D4FB18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A27-3D11-4960-B3B1-57B041DC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1C31-5588-4EBF-A571-58BA2782C5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69C5-E01B-4696-8300-571BA1A5A8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9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I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8600"/>
            <a:ext cx="8763120" cy="4114800"/>
          </a:xfrm>
          <a:prstGeom prst="ellipse">
            <a:avLst/>
          </a:prstGeom>
          <a:solidFill>
            <a:srgbClr val="0099cc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735520" y="811080"/>
            <a:ext cx="2952360" cy="3406680"/>
            <a:chOff x="5735520" y="811080"/>
            <a:chExt cx="2952360" cy="3406680"/>
          </a:xfrm>
        </p:grpSpPr>
        <p:sp>
          <p:nvSpPr>
            <p:cNvPr id="86" name=""/>
            <p:cNvSpPr/>
            <p:nvPr/>
          </p:nvSpPr>
          <p:spPr>
            <a:xfrm>
              <a:off x="5735520" y="8110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Ж З И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5520" y="1974600"/>
              <a:ext cx="2952360" cy="107964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 С 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35520" y="313776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Щ Ы 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97080" y="228600"/>
            <a:ext cx="2952360" cy="4571640"/>
            <a:chOff x="3097080" y="228600"/>
            <a:chExt cx="2952360" cy="4571640"/>
          </a:xfrm>
        </p:grpSpPr>
        <p:sp>
          <p:nvSpPr>
            <p:cNvPr id="90" name=""/>
            <p:cNvSpPr/>
            <p:nvPr/>
          </p:nvSpPr>
          <p:spPr>
            <a:xfrm>
              <a:off x="3097080" y="371952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Э Ю 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97080" y="22860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Г Д 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7080" y="13924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 О П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7080" y="255600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 Ч Ш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8640" y="811080"/>
            <a:ext cx="2952360" cy="3406680"/>
            <a:chOff x="458640" y="811080"/>
            <a:chExt cx="2952360" cy="3406680"/>
          </a:xfrm>
        </p:grpSpPr>
        <p:sp>
          <p:nvSpPr>
            <p:cNvPr id="95" name=""/>
            <p:cNvSpPr/>
            <p:nvPr/>
          </p:nvSpPr>
          <p:spPr>
            <a:xfrm>
              <a:off x="458640" y="8110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Б В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8640" y="1974600"/>
              <a:ext cx="2952360" cy="107964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К Л 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8640" y="313776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У Ф Х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914400" y="480060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основное устройство</a:t>
            </a:r>
            <a:endParaRPr b="0" lang="en-US" sz="1800" spc="1" strike="noStrike">
              <a:ln w="255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ывода информации</a:t>
            </a:r>
            <a:endParaRPr b="0" lang="en-US" sz="1800" spc="1" strike="noStrike">
              <a:ln w="255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7960" y="990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21160" y="388620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088040" y="327672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44840" y="274320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54280" y="3276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88040" y="213372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21160" y="160020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012080" y="990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21160" y="380880"/>
            <a:ext cx="314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4280" y="2133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5680" y="5791320"/>
            <a:ext cx="118404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22400" y="5791320"/>
            <a:ext cx="11829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83080" y="5791320"/>
            <a:ext cx="11829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948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848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6604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8769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08T12:36:4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