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E70-9D04-4FC9-B5AB-E5EC6B53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51C-037B-403B-93D9-3A048E6F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931-F164-4BA9-9E91-92F94FA6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96F-4D85-4BB8-9FB7-CD10F7D0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5CDA-3A08-43C8-958D-AD5AE383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6B24-8E44-43AD-8FA7-A443F70F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3EC0-139B-4FF9-8D49-E9337EFC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53E7-AC5B-4FCA-A5B4-1A7E1DFF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57C1-E2E9-4B2D-8148-84049DA7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B388-87E5-412F-BEE5-7537B42C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507C-2318-413F-B348-904AB296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C4E-9BF6-4DD6-B223-6812AB45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9A82-1293-4D37-AE3D-D9C8F38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195C-5B3E-4878-9785-B12BABD0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8C0A-D0F9-40B6-AD00-B9284FF8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608D-B390-4BC8-B021-ECEF8FD8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6F7B-3E5A-4C0A-9898-3DB30497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723-565B-4D03-AD37-3209B3BC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9D8-A6E0-4639-9D96-7F05F0D1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35E-3DB0-4979-BC92-A602260E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47E-05BE-4D61-B255-2FC62B0D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C16-2120-432C-889B-A9F991A3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216-5B33-4823-A7B4-97FC12D0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54A-D2AF-4FDE-8F6A-9504E70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6EDD-BA53-4AED-99D1-99537734BD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31D6-3166-4CC2-9E31-798D952CA3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3520" y="990720"/>
            <a:ext cx="79246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ФИЧЕСКИ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ДАКТО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3352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ХИТЕКТУ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3520" y="198108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3520" y="1295280"/>
            <a:ext cx="792468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ЧИСЛЕНИЯ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09480" y="1143000"/>
            <a:ext cx="79250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ЕКТРОННЫ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828800"/>
            <a:ext cx="8458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ЛЬТИМЕДИ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09480" y="1295280"/>
            <a:ext cx="79250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РОЙСТВО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8600"/>
            <a:ext cx="8763120" cy="4114800"/>
          </a:xfrm>
          <a:prstGeom prst="ellipse">
            <a:avLst/>
          </a:prstGeom>
          <a:solidFill>
            <a:srgbClr val="0099cc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791320"/>
            <a:ext cx="15573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" y="228600"/>
            <a:ext cx="8231040" cy="6324480"/>
            <a:chOff x="457200" y="228600"/>
            <a:chExt cx="8231040" cy="6324480"/>
          </a:xfrm>
        </p:grpSpPr>
        <p:grpSp>
          <p:nvGrpSpPr>
            <p:cNvPr id="87" name=""/>
            <p:cNvGrpSpPr/>
            <p:nvPr/>
          </p:nvGrpSpPr>
          <p:grpSpPr>
            <a:xfrm>
              <a:off x="5735520" y="811080"/>
              <a:ext cx="2952360" cy="3406680"/>
              <a:chOff x="5735520" y="811080"/>
              <a:chExt cx="2952360" cy="3406680"/>
            </a:xfrm>
          </p:grpSpPr>
          <p:sp>
            <p:nvSpPr>
              <p:cNvPr id="88" name=""/>
              <p:cNvSpPr/>
              <p:nvPr/>
            </p:nvSpPr>
            <p:spPr>
              <a:xfrm>
                <a:off x="5735520" y="8110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Ж З И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35520" y="1974600"/>
                <a:ext cx="2952360" cy="107964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Р С Т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735520" y="313776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Щ Ы Ь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097080" y="228600"/>
              <a:ext cx="2952360" cy="4571640"/>
              <a:chOff x="3097080" y="228600"/>
              <a:chExt cx="2952360" cy="4571640"/>
            </a:xfrm>
          </p:grpSpPr>
          <p:sp>
            <p:nvSpPr>
              <p:cNvPr id="92" name=""/>
              <p:cNvSpPr/>
              <p:nvPr/>
            </p:nvSpPr>
            <p:spPr>
              <a:xfrm>
                <a:off x="3097080" y="371952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Э Ю Я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097080" y="22860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Г Д Е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97080" y="13924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Н О П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097080" y="255600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Ц Ч Ш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458640" y="811080"/>
              <a:ext cx="2952360" cy="3406680"/>
              <a:chOff x="458640" y="811080"/>
              <a:chExt cx="2952360" cy="3406680"/>
            </a:xfrm>
          </p:grpSpPr>
          <p:sp>
            <p:nvSpPr>
              <p:cNvPr id="97" name=""/>
              <p:cNvSpPr/>
              <p:nvPr/>
            </p:nvSpPr>
            <p:spPr>
              <a:xfrm>
                <a:off x="458640" y="8110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А Б В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8640" y="1974600"/>
                <a:ext cx="2952360" cy="107964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К Л М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8640" y="313776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У Ф Х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5720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360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7036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7676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534960" y="4952880"/>
              <a:ext cx="8153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5560">
                    <a:solidFill>
                      <a:srgbClr val="0000a4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КОМПЬЮТЕРНОЕ ЖИВОТНОЕ</a:t>
              </a:r>
              <a:endPara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677960" y="990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421160" y="3886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0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088040" y="3276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344840" y="2743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8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754280" y="3276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7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088040" y="2133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4421160" y="1600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7012080" y="990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4421160" y="380880"/>
              <a:ext cx="3142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754280" y="2133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73280" y="5977080"/>
            <a:ext cx="759744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8200" y="1033560"/>
            <a:ext cx="791208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88080" y="474840"/>
            <a:ext cx="0" cy="60609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32400" y="566640"/>
            <a:ext cx="0" cy="60627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7800" y="566640"/>
            <a:ext cx="0" cy="60627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91160" y="53244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5480" y="532440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3244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БЛ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3280" y="2712960"/>
            <a:ext cx="783252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058840"/>
            <a:ext cx="227196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ТЕКСТ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РЕДА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91160" y="2058840"/>
            <a:ext cx="227196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АФИ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ДА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35480" y="2058840"/>
            <a:ext cx="227304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ГРАММ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91160" y="38088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35480" y="38088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АЛГОРИТ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088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ИНФОРМ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3280" y="4390920"/>
            <a:ext cx="783252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7386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РХИТЕ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91160" y="37386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ЧИС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35480" y="373860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Щ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19051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3520" y="182880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295280"/>
            <a:ext cx="79250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КСТОВ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ДАКТО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НО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ЕСПЕЧЕНИ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10T17:44:5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