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02D-3DE3-4BB3-AB35-1778C013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471-D1B7-49FA-87DB-335EAB40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0A9-8A28-4A16-AEE9-D330202B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9BE-32FB-4BDE-A9A9-232D4D48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9882-DE69-4849-9D08-0C5953F0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27B2-410D-47E3-89E8-12F9740A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C616-F304-4197-9257-079F289D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162E-4FAA-4B53-85FC-535A7388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A93D-9C5B-4657-86AA-4C393A50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57BB-1B72-4E5D-8F56-C543DF91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86C9-3710-4951-98D8-6B51BF5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037-A77B-45F4-A7B7-22CD9B9E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241A-6850-48D1-B2E6-BA7EA70E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C1D5-DC16-4D04-9F43-5563EB4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F67B-A8C0-4909-883C-2B190A4F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D997-BA4B-4146-95CF-80577A09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49B4-DC94-4AA0-92C7-4BB5D7AA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A1C-EAF3-4044-98C9-6B2EBAD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C6F-4F07-4720-A1C4-FEBB4AE0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0BC-C043-455A-960B-009EFDA4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0D8-58EA-4547-A752-EF933F0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708-279D-48B4-B4A6-8B11A8D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808-D156-4D88-8591-1A6303E7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83D-7879-4C46-9DDF-DF0F8E8B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1820-5DEA-46C2-9BEF-47830889F1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0DDE-7780-48F9-BB8D-D6ADC7E1C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85800"/>
            <a:ext cx="77724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корость переда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нформации измеряется 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бай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д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бай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685800"/>
            <a:ext cx="7696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лово информация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ереводе с латинск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значае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ирова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ледние нов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меньшение неопредел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609480"/>
            <a:ext cx="77724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нформация, хранимая на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нешнем носителе 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бладающая именем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называ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нешне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ай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носимо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ало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914400"/>
            <a:ext cx="8381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количество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отребуется для кодирования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дного из 256 символ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 бай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бай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52280"/>
            <a:ext cx="7696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ля кого будет информативно следующее сообще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«Программа- это алгоритм, записанны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на языке программирования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программи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учителя инфор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шо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533520"/>
            <a:ext cx="7772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понятие объединяет камень, папирус, бересту, книгу и дискет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родное происхо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торическая ц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0948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ие элементы не могут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лужить носителями информации при ее хране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к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ма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агнитные матери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уч с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685800"/>
            <a:ext cx="8610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омпьютер – это универсальное устрой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ля работы с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ис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гровыми программ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мальными язы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914400"/>
            <a:ext cx="77724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ит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необходимо для кодирования одной букв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1066680"/>
            <a:ext cx="7315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ит в слов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НФОРМ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066680"/>
            <a:ext cx="71625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айт в сло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ТЕХНОЛОГ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50880" y="350640"/>
            <a:ext cx="103813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9640" rIns="539640" tIns="539640" bIns="539640" anchor="ctr">
            <a:spAutoFit/>
          </a:bodyPr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изучает информати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кцию 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особы представления, нако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ботки и передачи информации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мощью технически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компьютерные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общешкольные дисципл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80880"/>
            <a:ext cx="86868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рость переда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анных – э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информации,  передаваемой за 1 ч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информации, передаваемой с одного ПК на друг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битов информации, переданных за 1 секун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1219320"/>
            <a:ext cx="76201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не является свойством информац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ня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ат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стовер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838080"/>
            <a:ext cx="87631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такое информацион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зры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жедневные новости из горячих то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зросшее количество газет и журна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рный рост потоков и объемов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ение через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762120"/>
            <a:ext cx="82296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овременный компьютер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эт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тройство для работы с текс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ногофункциональное устройство для работы с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ыстродействующее вычислительное устро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тройство для хранения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0" y="-1405728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7772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За минимальную единиц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змерения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иня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685800"/>
            <a:ext cx="73911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утверждение вер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=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&gt;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&lt;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09T13:27:2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