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27BA-67EE-4664-9532-43A78578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41C9-5DCA-4C6B-A6DD-ECAC8B8C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DD72-2BF9-4BC4-B492-604175DC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6E0-05C9-4CD6-9498-939C5989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2B9-47CC-4BCB-A040-69A9EB58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3C20-E52B-49F7-A8CA-4E59FA22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DCE9-E90A-48EE-B84B-C442E1A9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5CE7-679B-4691-B3CC-1F9960BF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FF9F-4DBA-423C-A602-81AADC33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208A-67A7-4BC8-B7F6-31929DBF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3F9-0A43-40B9-933C-10076CFA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4ECC-F8E9-4E4E-B53A-2967EED5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374C-AC5E-49C3-A501-A9071A4448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786120" y="5072040"/>
            <a:ext cx="464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дготовила учи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чальных классов МКОУ Аннинская СОШ № 3 с УИ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лла Алексеевна Кузьм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уке"/>
          <p:cNvPicPr/>
          <p:nvPr/>
        </p:nvPicPr>
        <p:blipFill>
          <a:blip r:embed="rId1"/>
          <a:stretch/>
        </p:blipFill>
        <p:spPr>
          <a:xfrm rot="20259000">
            <a:off x="755280" y="357336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сап"/>
          <p:cNvPicPr/>
          <p:nvPr/>
        </p:nvPicPr>
        <p:blipFill>
          <a:blip r:embed="rId2"/>
          <a:stretch/>
        </p:blipFill>
        <p:spPr>
          <a:xfrm rot="20228400">
            <a:off x="6732720" y="333000"/>
            <a:ext cx="1655640" cy="23036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3"/>
          <a:stretch/>
        </p:blipFill>
        <p:spPr>
          <a:xfrm>
            <a:off x="1682640" y="-195120"/>
            <a:ext cx="619308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1116000" y="0"/>
            <a:ext cx="7343640" cy="616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тературная викторин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Мифы Древней Греции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Герой, обладатель шапки-невидимки. Он добыл голову Медузы Горгоны, убил морское чудище и освободил Андроме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4067280" y="4221000"/>
            <a:ext cx="43448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( Персей )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Picture 5" descr="кен"/>
          <p:cNvPicPr/>
          <p:nvPr/>
        </p:nvPicPr>
        <p:blipFill>
          <a:blip r:embed="rId1"/>
          <a:stretch/>
        </p:blipFill>
        <p:spPr>
          <a:xfrm>
            <a:off x="971640" y="4005360"/>
            <a:ext cx="2448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Богиня – покровительница воинов, героев, богиня мудрости и зна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1547640" y="4581360"/>
            <a:ext cx="6840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( Афина - Паллада 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" name="Picture 5" descr="мит"/>
          <p:cNvPicPr/>
          <p:nvPr/>
        </p:nvPicPr>
        <p:blipFill>
          <a:blip r:embed="rId1"/>
          <a:stretch/>
        </p:blipFill>
        <p:spPr>
          <a:xfrm>
            <a:off x="3419640" y="2708280"/>
            <a:ext cx="28080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Титан похитил с Олимпа огонь и принёс его людя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1547640" y="3789360"/>
            <a:ext cx="6193080" cy="30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 Прометей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6" name="Picture 5" descr="свы"/>
          <p:cNvPicPr/>
          <p:nvPr/>
        </p:nvPicPr>
        <p:blipFill>
          <a:blip r:embed="rId1"/>
          <a:stretch/>
        </p:blipFill>
        <p:spPr>
          <a:xfrm>
            <a:off x="3492360" y="2565360"/>
            <a:ext cx="15922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Юноша, улетевший из плена с помощью крыльев из перьев, скреплённых воском. Он поднялся слишком высоко, солнце растопило воск, и юноша упал в мо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2987640" y="4437000"/>
            <a:ext cx="4464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 Икар 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Picture 5" descr="сми"/>
          <p:cNvPicPr/>
          <p:nvPr/>
        </p:nvPicPr>
        <p:blipFill>
          <a:blip r:embed="rId1"/>
          <a:stretch/>
        </p:blipFill>
        <p:spPr>
          <a:xfrm>
            <a:off x="468360" y="4292640"/>
            <a:ext cx="2087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Arial"/>
              </a:rPr>
              <a:t>Кто боролся с Тефоно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2050920" y="4005360"/>
            <a:ext cx="5545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( Аполлон )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" name="Picture 5" descr="сч"/>
          <p:cNvPicPr/>
          <p:nvPr/>
        </p:nvPicPr>
        <p:blipFill>
          <a:blip r:embed="rId1"/>
          <a:stretch/>
        </p:blipFill>
        <p:spPr>
          <a:xfrm>
            <a:off x="3995640" y="2349360"/>
            <a:ext cx="2376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Arial"/>
              </a:rPr>
              <a:t>Кто бился с немейским льво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3789360"/>
            <a:ext cx="59752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 Геракл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Чудовище, которое жило на горе Эриманф. Его одолел Геракл, пустив ему в глаза солнечный зайчи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2268360" y="4365720"/>
            <a:ext cx="61912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( Эриманф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вепрь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5" descr="фыв"/>
          <p:cNvPicPr/>
          <p:nvPr/>
        </p:nvPicPr>
        <p:blipFill>
          <a:blip r:embed="rId6"/>
          <a:stretch/>
        </p:blipFill>
        <p:spPr>
          <a:xfrm>
            <a:off x="395280" y="4292640"/>
            <a:ext cx="1739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 2" descr=""/>
          <p:cNvPicPr/>
          <p:nvPr/>
        </p:nvPicPr>
        <p:blipFill>
          <a:blip r:embed="rId1"/>
          <a:stretch/>
        </p:blipFill>
        <p:spPr>
          <a:xfrm>
            <a:off x="96840" y="1785960"/>
            <a:ext cx="87422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Прокрустово лож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Мерка, под которую насильственно подгоняют что-либо для неё не подходяще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471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- Что значит крылатое выражение «Загадка Сфинкса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- Готовы ли вы познакомиться с этой истори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Если да, то в пу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Нарци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Arial"/>
              </a:rPr>
              <a:t>Самовлюблённый челове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332000" y="40464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анталовы му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68360" y="198900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Нестерпимые муки из-за невозможности достигнуть цели, несмотря на её близос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апр"/>
          <p:cNvPicPr/>
          <p:nvPr/>
        </p:nvPicPr>
        <p:blipFill>
          <a:blip r:embed="rId1"/>
          <a:stretch/>
        </p:blipFill>
        <p:spPr>
          <a:xfrm>
            <a:off x="324000" y="2060640"/>
            <a:ext cx="1976400" cy="324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сап"/>
          <p:cNvPicPr/>
          <p:nvPr/>
        </p:nvPicPr>
        <p:blipFill>
          <a:blip r:embed="rId2"/>
          <a:stretch/>
        </p:blipFill>
        <p:spPr>
          <a:xfrm>
            <a:off x="6156360" y="620640"/>
            <a:ext cx="2519280" cy="3168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сми"/>
          <p:cNvPicPr/>
          <p:nvPr/>
        </p:nvPicPr>
        <p:blipFill>
          <a:blip r:embed="rId3"/>
          <a:stretch/>
        </p:blipFill>
        <p:spPr>
          <a:xfrm>
            <a:off x="2771640" y="620640"/>
            <a:ext cx="2592360" cy="2541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сч"/>
          <p:cNvPicPr/>
          <p:nvPr/>
        </p:nvPicPr>
        <p:blipFill>
          <a:blip r:embed="rId4"/>
          <a:stretch/>
        </p:blipFill>
        <p:spPr>
          <a:xfrm>
            <a:off x="2987640" y="3933720"/>
            <a:ext cx="30970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2" descr=""/>
          <p:cNvPicPr/>
          <p:nvPr/>
        </p:nvPicPr>
        <p:blipFill>
          <a:blip r:embed="rId1"/>
          <a:stretch/>
        </p:blipFill>
        <p:spPr>
          <a:xfrm>
            <a:off x="1163520" y="1279440"/>
            <a:ext cx="691380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1258920" y="1268280"/>
            <a:ext cx="705816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2" descr=""/>
          <p:cNvPicPr/>
          <p:nvPr/>
        </p:nvPicPr>
        <p:blipFill>
          <a:blip r:embed="rId1"/>
          <a:stretch/>
        </p:blipFill>
        <p:spPr>
          <a:xfrm>
            <a:off x="-139680" y="1305000"/>
            <a:ext cx="9387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от рассказ, который объясняет, почему издавна слово «сфинкс» применяют к непонятным, загадочным людям, а выражение « Загадка Сфинкса » означает любую хитроумную, трудноразрешимую зад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финкс, рассказывали древние легенды, был чудовищем с лицом женщины, туловищем льва и крыльями хищной птицы. Сфинкс подстерегал путников на утёсе у ворот города Фивы и задавал каждому загад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А загадка была такая: «Кто ходит утром на четырёх ногах, днём на двух, вечером на трёх?» Долгое время никто не мог правильно ответить на этот вопрос. Недогадливых Сфинкс убив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Но однажды перед кровожадным чудовищем оказался сын фивского царя Эдип. «Отвечай, - прорычал Сфинкс, - кто ходит утром на четырёх ногах, днём на двух, вечером на трёх?» И царевич нашёл верный ответ: «Это человек. В детстве (утром) он ползает на четвереньках, повзрослев (днём) – ходит на двух ногах, а в старости (вечером) – опирается ещё и на палку». Посрамлённый Сфинкс взвыл от отчаяния, бросился с утёса в море и поги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- Что такое миф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Это повествование, не основанное на реальных фактах; обычно герои – существа сверхъестественные, а значит, мифы – истории выдуманные. Однако часто именно благодаря им можно понять местные обычаи или явления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Мифы – это народные сказания о легендарных героях, богах, явлениях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Герои мифов – это боги и люди, у каждого есть им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Древняя Греция является родиной миф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Это было большое государств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Возникли мифы так же, как и сказ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- Что такое преда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Это жанр фольклора: устный рассказ, который содержит сведения об исторических лицах, событиях, местностях, передающиеся из поколения в поколение. Возникнув нередко из рассказа очевидца, предание при передаче подвергается вольной поэтической интерпретации.В центре любых событий стоит яркая личность: князь, царь, разбой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-Что такое легенда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Легенды – это поэтические предания о каком-то историческом событии, могут быть религиозного содержания. В них наряду с людьми и животными действуют  Бог и свят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Легенда очень похожа на миф. Но в ней чаще всего действуют реально существовавшие личности и описываются события, имевшие место в действи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7:15:11Z</dcterms:created>
  <dc:creator>Пользователь</dc:creator>
  <dc:description/>
  <dc:language>en-US</dc:language>
  <cp:lastModifiedBy>Ёля</cp:lastModifiedBy>
  <dcterms:modified xsi:type="dcterms:W3CDTF">2012-04-29T15:07:33Z</dcterms:modified>
  <cp:revision>12</cp:revision>
  <dc:subject/>
  <dc:title>Слайд 1</dc:title>
</cp:coreProperties>
</file>