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jeopardy-wait%20long.wav" ContentType="audio/x-wav"/>
  <Override PartName="/ppt/media/drumrol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AF68-04A6-43FF-B5F7-D33DB6A409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70A2-F065-49E7-9C80-CA4ECFCA688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8980-2A85-4B41-BB8A-596C4CD2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5A5A-C473-463C-9C99-7EA09A41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55FA6-2B2A-4FE9-8CEA-565FB464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F18C0-5D02-4729-AA4E-ED74E210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A475B-F4BE-4A97-9E5C-98FE66BD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A8F51-5AC6-4425-808E-4427D69E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18B41-8B3A-49CB-A3DB-D1F97FCE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44F4F-FD58-472C-A81D-CC413C8E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F71B5-A2BC-4744-8937-7E4BAB31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BF3D2-C90A-4D6C-B929-C7FA5DBF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6F241-E666-43DA-9D1A-A84142D5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06675-222F-4F40-BAA0-DFA58824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0F2E-5962-4032-AB02-734CA73D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13038-557B-4D55-A6BB-4EC25D00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9C3C1-02C2-42DB-8FA1-911A3E3B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940C4-1FBC-491D-8D68-978BA0E8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C19AE-7734-466E-A8A6-0815ACE2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CFBC3-FF9E-47CA-91D1-CBD34DF3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4FABE-31B2-4F56-8E22-3EA480E5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B1080-11B3-462C-BBE6-6677E0F1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50D5F-21E6-4D6D-84F1-E7F699E0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9DAEB-F38C-4717-94CA-2BCA2670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11586-E5B3-4D9F-978B-D1B85C68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95BD-C389-4717-BB74-1CFCE186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0EA64-5D4A-43B3-8A1D-0ECECD8A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42693-0A4C-4A9E-8023-BD7BA4A6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60539-7685-4AF7-8AF2-33F266A8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4C449-3B4A-4CBB-B2AD-05C21717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FDB0A-6590-4C80-82AD-521460E8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3A7FC-190C-4CAF-9DAE-2BB1149A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1BA9E-2CF3-471B-A8FE-DA36461A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1E512-6F38-46C3-B6B5-B996CFB6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A0606-A9CB-4196-8DD5-35EE5F86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96867-0032-4B59-9313-FBEB8C5F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182C-7B8E-4C92-B749-D273691D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78987-BA41-47C7-B073-C9EF5AB1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77A23-0937-4E5D-961A-DF2BB1E7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3E45E-6864-4FCA-B61D-E2824A18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F4F1F-4454-43F5-B1E0-1B88E7B3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9F5F2-0796-4E8F-AB62-5A37165E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63C39-2C8B-4528-ABC8-F6840DBF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6F0FB-27BF-447A-BC32-E8AC1578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8D218-453A-4D1E-8FE2-803E4BD5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40D51-8571-4752-B223-A1C5F471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F65A7-D8DE-4315-9E96-A06B935F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B349-671F-43E3-9AB6-5ED6DF68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48E73-7DAB-4D3C-AC97-5D8DEFBD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EC261-58B0-4C4C-97CF-CEBBF35B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06D53-69ED-4D6D-BFB7-3C76498A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B4957-3D48-4050-9764-79590C6C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D87E1-D0E0-4883-AE7B-0318638A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8BF08A-D06B-4E0C-B8B3-A22C4C40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DEC753-CC2B-4274-A396-FEA8E310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9031B6-0783-4A5B-9E2A-1FF2B187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2803EF-EE5B-4392-84F3-71D9ECB7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29B44B-78D9-4B07-81B0-6F3DE11E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060D-7A55-47A1-8300-3B19DA8C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07643-BEEB-4AC9-90BF-E643879C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A8294B-7703-4F81-9B7A-FA7EDC9D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560CC-EFB2-4EE9-8E45-D51D3B84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F61FE7-820A-49FE-9C1B-E736CA3E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9E5525-1DE2-4F49-9E7A-19B4E9A5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BD84E-67B7-471F-9D6E-0359C2CB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D54E5-848D-4D58-874D-98A336A4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5DAA2B-B681-471F-A199-CE2BECC6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A13E64-FB1F-4D7A-9013-9335A90B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DF8880-1F7D-4A6B-A7C5-3551CC2D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EF85-E717-4404-82EA-960BEFB9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80836C-6281-4F59-B492-5CC4BDD2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B4C523-1A47-42EC-B378-27C41E23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F580F2-576F-407F-B540-AA0227B7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22EE76-02E4-4AB3-8D08-DE0B9959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3DCCC5-97F5-49A8-A0B3-B49189FF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FE6A00-11BC-4B59-BCE2-2C9BAF50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CA98B1-BAA2-4CEF-AB8B-75F81CE4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B87BE-C5A0-475C-8A14-20B13566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6B9C3E-7285-472F-A970-1C138519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5D3812-5BF1-4386-A487-9378F555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A24A-FBC0-42B5-AF1D-10D1D86D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2D41EF-6696-49EA-840A-3CBE4A1C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210855-6BEA-465B-9F35-5E360C3F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7E90AD-DA87-4A8E-9D0C-40B9DEB4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D407F0-F9CC-47CB-B0FD-BE184E24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A25AC2-4935-47CF-8DAF-E299998C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5B4EB8-6510-4AB6-986B-1F64EC76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87CD57-61F2-48E0-9CAA-EE7A169E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7E0683-6070-4B83-AA84-6E73EAEF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BFFF34-D333-460A-BB75-601CB9D2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3AAD6A-24C5-4955-A72B-5D58F4AE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3BE8-4393-4038-A0B0-79E12D06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3E8507-077F-439C-BB22-091A34A7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F4700B-228B-407E-902A-0B0EE6F0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FF4800-8D75-4077-9394-BE956BEA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E8BFE6-06AB-4859-BB19-9BF1B97E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6CE712-F827-46F6-91B8-2EC8FAF8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48EEED-8551-41EF-B84F-BBD59602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599B30-0D70-46A2-B445-2B784665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626470-7229-4B97-87D7-8084BD98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ED0D2-B335-46EF-8441-AA04C083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B0DAF5-609F-44F9-8353-8FF743EA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226A-C715-4E74-A716-78443C2C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E8B9DF-59DE-455D-BA0D-0800A840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D9BA43-6D72-4A33-8A11-A4EAE9F6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325FD2-10C9-4F65-BE89-45B2173E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FA7220-B28D-4FEB-B30E-A1AADC93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B82400-122D-4AB5-A8BF-F3B737D8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4F3D7B-ABDC-410E-89D1-A4650416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9E1F40-B50D-48F9-B70F-5B80F3BE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3C85B6-658A-48E2-8EDA-CB93E3E1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D7E530-9161-42EA-ABEA-281996CB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05D5CD-E2CA-45E0-B7E3-6C562707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066B-BF01-4091-94A2-296AD6A6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F71A-C835-4F26-BF32-D667B13E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0E37F1-8D72-4402-BCD9-0A7A9369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6BED37-B91B-4F7C-93BC-12A77FC5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B1BD69-0775-4839-9C57-0478A529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92700A-60A5-4584-9662-C392A373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6B9207-25B7-483F-BC69-7ECF4899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82DA98-E06C-4D86-937A-464A00EA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8B602F-F17F-464A-9512-6DF74A3F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2FE8AF-D361-47FE-8CE7-AC0D79E1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491B4D-6C4E-4DDE-91EC-5E6A7E00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59B694-7DBF-4388-8798-4B962A8E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6C95-E8AD-4C71-BF8B-11A32D95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CF7500-EDEC-4938-B363-F63287E2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C7D44B-302D-4184-8372-CEBF0B93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377445-90A6-4DC1-A5D6-F4E1EACB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8DC635-F804-4D4B-9104-BE3C373E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7B3389-DD10-4916-9CC0-423509EF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513001-63BC-42D6-BA63-8A6F2CF0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60C7AD-7B88-4AFA-99D8-9E53C475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AACC68-390A-42C5-97A2-65FD1DA4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14CDF9-7F86-4F1B-91DA-41CE8F51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D0F45C-6D1C-495E-8E85-6BBDE1BA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B215-A2DE-4438-8F54-84D7C0DF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78289E-7DE8-4DF1-8484-D88097CC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BAD4F2-144E-424C-A69D-0484007D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F1C3A0-268E-4797-B492-09ABD4D7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99BC97-FB77-4FE9-8F39-F5AD345A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1A256B-12A6-471C-82CB-04554E06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4AC3CF-0C73-4DB4-9863-1CC72EF8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0BF036-66B4-4B50-BD29-6373402B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E2BE02-769D-4328-BE7E-E62138DD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980D92-87D7-4C6A-827E-E8FA88E3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0C704A-8954-4706-A876-1C28494F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DF74-2689-47B8-BB43-0930D687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8A0D04-67A0-4002-BDF7-B7F5A54F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16C577-DE08-4EE7-B3F3-25C8D83C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CA24FC-BA7E-45AF-B7A4-AFA44B62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EBE590-5B24-4582-AB95-E7581F1C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E30A71-9225-4619-B7EA-E7C4AB4F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17CA40-6F11-4558-897A-3A3C567D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4B3348-4199-415D-8D68-57A0FA36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6F0F68-2C4A-406E-A039-C6E1C89D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6A5B25-92BD-4EB0-B47E-A943753B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915A85-C1A9-42D0-BAAB-875CCD8C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C51F-0CA2-430F-B690-8B0078B9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F2F484-7A0B-4B36-943D-307762E5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20F4ED-F698-4BFD-A3EA-53F96AD9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C6A980-5FBD-472D-A6ED-CB5DF69C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2E7B5C-0BEC-4FF2-9E36-538062EF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45D367-D2E1-4803-A0D6-F7F57DB2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4E55C0-E49D-45A5-9D56-6322FC2F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39DAD3-4BDF-4650-8DB8-D546F1CA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F09378-6A5E-4EB3-A09A-F8A2340B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5C1E7C-B1A1-4EF2-A76B-5C483CC2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D2C522-8D31-4D75-9A88-809A5DAF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26A0C-8090-4AA0-9CC2-03A1988E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4BBA97-7E8E-4206-9189-21D97497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E7FD3B-4B9B-4F55-8A14-36C1563B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E9904A-77BC-4702-892D-A8D0B064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50C92A-8655-4950-B207-12901D72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865330-1EF6-480C-84A7-BDD24EDD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15121F-8044-4F4C-BD3C-A5DF7145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D99B4E-A1B5-4360-AC6B-C25AD5A6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5FC398-56D8-43E8-9011-6EA34495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8FFEBE-F6D2-4207-A79D-0FD27990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CFDFEF-FBB2-4440-BF63-54C70A01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C918FD-F2DA-4696-A864-F3F48BCB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E035AA-4193-4C61-974C-4147A485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D2F3BE-077E-42F3-BA44-5533232A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ECD994-4B6B-4A9A-99B9-F6ED84BC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F92B85-B70E-4DBC-904A-FCF99150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991125-1FB7-44AE-927C-AE64F8D5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287875-14EF-4A28-B763-F219A218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E4BAFD-D30F-4315-8F93-486C8BF6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7A36B5-C2E1-41FD-960B-D2D00EE7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DD86DC-3F86-49FE-9E9F-B1B06355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273107-5029-4E30-8C7B-AD688926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F2BD2-2FF3-48AA-BE1C-98A08EB8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EA273D-0E61-4D67-9D74-C9E0B05B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E107C0-B15F-443B-8235-E695A074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BDE2B6-A18C-4F68-AC69-38D3B32A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D6F1B4-0490-4EC8-9C94-546880ED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B07A5C-D88C-4C6F-8664-A40E1E25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71EC45-8658-4619-BA47-7FE266A3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241F42-C1AC-463E-B0D5-9B744ED3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A6AD26-D2DD-4375-BF21-751A2DB9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E73FB0-2691-4C2B-AB1F-4F5D9FDF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2B7043-25F7-4602-A779-20E716CC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AF74A-0D09-43C5-B73C-A40AB028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025522-9A1F-4145-AC6A-4E7BA930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DD9B9F-9DEE-40D3-97F9-34429EEF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462D68-3CB4-4FD5-BFC8-BCFB112A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D30EDC-4DBC-4090-AE14-59D04F3B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2927B6-36D0-41A3-B4F2-4FC39ED1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523D79-1048-4A99-9011-BF3F750F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827EAB-33FF-4545-A7B0-D139402D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B9CD2E-6995-4086-9472-24122609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4C6D15-01A8-462F-BDAA-4B9E4812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F0714-3640-4BBA-A7F8-5D94C630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876A-624D-4E13-989E-8BA1DA34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C968A4-58AF-4364-8D21-05AFDF69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5948D1-BAA9-4372-8740-DF357603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C5FA0-A404-4820-950E-07994992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61FA0A-5A1F-4998-A486-7CA580DC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FC9D1F-40A7-483F-981A-63CB8B63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6ADBC-1155-4190-8718-4D59A96F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0F29C-1589-425C-8BF3-DB5D9A75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10D2F-6FDA-4785-9E46-705A81B1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9DA5C-74FF-4837-BF07-E0291644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C18F0-B642-41DF-AA0D-317E673B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D1C1-05A5-4E0A-AA73-BCC763E1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ADE03-6153-4B03-9DF5-6967C912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A548D-0D5C-4A65-8CBE-16BDE125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DDF43-6B38-4BCC-A651-CD4BA910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ED911-EBEC-4DE1-BDB1-248C45C1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333E6-8024-4797-9A98-569FAD73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0D490-49A0-403F-854C-D0D85A4A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A05DC-34D7-4B7E-8A0C-1B7CDE6B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838BD-0476-41FD-B278-ABE43592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C5FA3-9B72-4DF2-9A27-F5B9F128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D024E-1DBB-4315-B11A-F5E018E1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580F-9E05-4C1F-AAA2-61BB95F9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E96C0-EC6A-4873-9737-75C0A6EA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E22A9-C555-44BA-95C1-77172C9F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ADFDB-2843-42F1-8941-9E5F0CA0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A3B12-F11F-4E03-A2CC-0D8E98B2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5AE59-1DAD-4D1C-8E04-B699AE42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6CB3B-D76A-4898-A666-0313AE8C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6FAEC-88BF-4AD3-AB2A-07681A60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8D7B7-215E-4344-BB65-0CAF5653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D7515-7200-4FEC-93EC-3C7DB905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DBDA9-E03B-4790-B2C2-7BF6CFFF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A34A-A4C0-42CD-863C-BF65F85B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CACE3-1B79-49F6-801C-B726B287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2B0A1-75A4-4856-92E0-D0780D48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C966A-40C0-4527-9633-D530414D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1AC9F-C1B6-4499-B14D-BD1553B4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D02E3-3063-4E9C-B279-E7BC9AE2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C2226-C068-439B-A370-6E3345EA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C40D6-EB4C-455F-A407-ECCC80EA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557D1-A6E2-46E9-B8C8-233C70E7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136E5-CDDD-4EEE-8AC6-A1A61D14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7B309-7103-4E1F-ACE2-2E28F2D0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1214-A05A-46AC-8C53-018C87EE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8226B-0FC0-4C28-988E-21CE8F04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66C6F-2556-4B38-ACA4-DEF35528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67ECC-E8C3-4B67-8EFF-66BE4F86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19CCC-0775-49A5-ACC3-FBDB38F6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FEA1D-0518-42E6-858E-B0EF15B9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9170A-8143-425A-A552-45B86635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4FD9E-A045-4B5D-B4B8-3DAC63D6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60873-2D9A-4B3C-9B70-6B4981BD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B8523-2575-40A5-83C1-961FE5E9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062C4-6D6C-44E4-A2C3-CB0C5384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67B7-B99A-4766-9B5B-A6D04700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7405A-296C-4B3C-9AD0-B15E0618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273EF-BC9B-427A-B7CF-7A0BF945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1E8F3-D005-46B8-88B2-B90F60CD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7703B-C53A-4365-A2EC-C64BEB19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93BF2-8122-4202-A93F-5BFA3E4A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A59A1-713E-44C0-BE12-D0D72856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FAD6E-8F56-4FDC-A2E7-657B41F4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D958D-4184-46F1-B262-47CC4FDD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0C3A3-7F2B-4849-9931-6326F990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8FD19-EEE3-415F-BF37-AEAF3EFC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4648-18A8-4CF0-B98C-57958D49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57783-6D3B-4664-9E93-5EF5DDE0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35D4A-08C8-4A26-BA20-1CFC5303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F9357-2A35-4583-B27C-7A3842A7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26FC2-CEFE-4D94-9B51-22CB2D84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28C5E-34CE-455C-A51D-4965042E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EDCC1-FFAA-4C65-9758-369E32D9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68CF2-5E33-4F85-A4A7-EDDB0BEC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D46E9-E077-4314-B142-EA2E9E7D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CCDDC-FECA-415E-A3E4-6CDEF4FF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CB591-34BA-4EB8-AD91-E7996373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12EE-2324-477E-BC32-F7774477D4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3EF0-52E4-4B87-898D-891B740277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2C41-2A9C-495F-877E-4724BAA406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7278-D9F8-43C7-BB54-3107E3E471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4A99-8E18-4C2A-B9FB-D8252C3F00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6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97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98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599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0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1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2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3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4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5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6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7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8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9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0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1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2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3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4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5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6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7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8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9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0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2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3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4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5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6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7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8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9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0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1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2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7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0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1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2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4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5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6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7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8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9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0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1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652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3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4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5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6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657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8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9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FD3F-E455-4318-A449-9B5C2E8760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70F1-3284-4D4E-9B93-92D2DC88D9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6359-100B-4FE5-9246-6165FEEB47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8157-C673-4DB2-A0C9-4386DBE5D3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C4C7-09A9-4F29-9400-6181DF9040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F9B8-F98A-4C76-9ECF-A06BE7F83D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3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4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6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7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0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1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2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3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4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0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3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5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8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1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2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3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4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5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6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8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9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273E-D80C-48B3-A813-E59CC46F0D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F86A-A5A6-4696-821A-8473E5EAE3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9A82-7CA5-4B9C-BB09-66B141A076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D529-3812-4D47-BC4F-E48CB7EDB5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0C50-870C-4A78-8F10-9CCD93EA55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488B-C1E7-4382-A859-608BDF7B9389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FC73-E090-4CC6-8F2E-2E500740E1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5138-C1FA-4972-8F75-B7010D0081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7013-5AC8-4722-89C4-8AF3C64616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5C77-88B0-425F-889C-CA8D3BF2AD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C1E6-DA16-4484-B018-9584FD9373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44D9-8DB4-44AF-8C61-EBF2BCCB53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4098-E46D-47F5-83FC-F927A71736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jeopardy-wait%20long.wav"/><Relationship Id="rId4" Type="http://schemas.openxmlformats.org/officeDocument/2006/relationships/slideLayout" Target="../slideLayouts/slideLayout229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аевое государственное бюджетное специальное (коррекционное) образовательное учреждение для обучающихся, воспитанников с ограниченными возможностями здоровья «Специальная (коррекционная) общеобразовательная школа V вида № 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орода Комсомольска – на – Амуре Хабаровского края»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826920" y="429264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ассный руководитель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мова Наталья Петровна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 математики и информатик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Какая битва стала началом коренного перелома в ходе ВОВ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748080" y="1773360"/>
            <a:ext cx="7425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ые операци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Text Box 5"/>
          <p:cNvSpPr/>
          <p:nvPr/>
        </p:nvSpPr>
        <p:spPr>
          <a:xfrm>
            <a:off x="539640" y="4797360"/>
            <a:ext cx="777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битва под Москвой</a:t>
            </a: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AutoShape 7"/>
          <p:cNvSpPr/>
          <p:nvPr/>
        </p:nvSpPr>
        <p:spPr>
          <a:xfrm>
            <a:off x="7885080" y="566100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В честь каких городов Москва впервые салютовала победителям в 1943 г. ?</a:t>
            </a: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9" name="Rectangle 4"/>
          <p:cNvSpPr/>
          <p:nvPr/>
        </p:nvSpPr>
        <p:spPr>
          <a:xfrm>
            <a:off x="751320" y="1773360"/>
            <a:ext cx="7425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ые операци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Text Box 5"/>
          <p:cNvSpPr/>
          <p:nvPr/>
        </p:nvSpPr>
        <p:spPr>
          <a:xfrm>
            <a:off x="539640" y="494172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Белгород, Орёл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Советский военачальник. С сентября 1942 года командовал 62-й армией, прославившейся героической обороной Сталинграда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3" name="Rectangle 4"/>
          <p:cNvSpPr/>
          <p:nvPr/>
        </p:nvSpPr>
        <p:spPr>
          <a:xfrm>
            <a:off x="179280" y="2060640"/>
            <a:ext cx="86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Советские военачальник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Text Box 5"/>
          <p:cNvSpPr/>
          <p:nvPr/>
        </p:nvSpPr>
        <p:spPr>
          <a:xfrm>
            <a:off x="395280" y="5229360"/>
            <a:ext cx="77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Чуйков Василий Иванович (1900-1982)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AutoShape 7"/>
          <p:cNvSpPr/>
          <p:nvPr/>
        </p:nvSpPr>
        <p:spPr>
          <a:xfrm>
            <a:off x="8028000" y="58053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Генерал Советской армии был захвачен в плен в августе 1941 года. Немцы много раз предлагали перейти на их сторону. Ему сулили свободу и всяческие блага. Он решительно отказался. В нескольких лагерях смерти (Майданек, Освенцим и др.) он продолжал вести антифашистскую работу среди военнопленных. Наконец, в морозный зимний день 1945 года у стены лагеря Маутхаузен, фашисты, поливая его водой из шланга, превратили его в ледяную статую.</a:t>
            </a: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7" name="Rectangle 4"/>
          <p:cNvSpPr/>
          <p:nvPr/>
        </p:nvSpPr>
        <p:spPr>
          <a:xfrm>
            <a:off x="1175760" y="2637000"/>
            <a:ext cx="627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Советски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военачальник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Text Box 5"/>
          <p:cNvSpPr/>
          <p:nvPr/>
        </p:nvSpPr>
        <p:spPr>
          <a:xfrm>
            <a:off x="395280" y="587700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Генерал Карбышев Дмитрий Михайлович</a:t>
            </a: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Советский военачальник. В январе-июле 1941 года – начальник Генштаба Вооруженных сил, заместитель наркома обороны СССР. Сыграл выдающуюся роль в Московской битве. С августа 1942 года – первый заместитель наркома обороны СССР и заместитель Верховного Главнокомандующего, координировал действия фронтов в Сталинградской битве, по прорыву блокады Ленинграда, в битвах под Курском и за Днепр, в Белорусской и других операциях. 9 мая 1945 года принял в Берлине капитуляцию вооруженных сил Германии.</a:t>
            </a: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1" name="Rectangle 4"/>
          <p:cNvSpPr/>
          <p:nvPr/>
        </p:nvSpPr>
        <p:spPr>
          <a:xfrm>
            <a:off x="888480" y="2708280"/>
            <a:ext cx="627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Советски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военачальник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AutoShape 7"/>
          <p:cNvSpPr/>
          <p:nvPr/>
        </p:nvSpPr>
        <p:spPr>
          <a:xfrm>
            <a:off x="7885080" y="573408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Rectangle 9"/>
          <p:cNvSpPr/>
          <p:nvPr/>
        </p:nvSpPr>
        <p:spPr>
          <a:xfrm>
            <a:off x="880920" y="5660640"/>
            <a:ext cx="55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Жуков Георгий Константинович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Советский военачальник. Участник Первой мировой и гражданский войн. В 1939 году необоснованно репрессирован, восстановлен на службе в 1940 году. В Великой Отечественной войне войска под его командованием успешно действовали в Смоленском сражении 1941 го, в Московской, Сталинградской и Курской битвах, Берлинской операции. С 1944 года Маршал Советского Союза. Командовал Парадом Победы в Москве 24 июня 1945 г.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5" name="Rectangle 4"/>
          <p:cNvSpPr/>
          <p:nvPr/>
        </p:nvSpPr>
        <p:spPr>
          <a:xfrm>
            <a:off x="1104480" y="2637000"/>
            <a:ext cx="627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Советски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военачальник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6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Rectangle 8"/>
          <p:cNvSpPr/>
          <p:nvPr/>
        </p:nvSpPr>
        <p:spPr>
          <a:xfrm>
            <a:off x="108000" y="5231160"/>
            <a:ext cx="734544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онстантин Константинович Рокоссовский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4"/>
          <p:cNvSpPr/>
          <p:nvPr/>
        </p:nvSpPr>
        <p:spPr>
          <a:xfrm>
            <a:off x="1436760" y="1773360"/>
            <a:ext cx="6230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Военная техник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и вооружение ВОВ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Text Box 5"/>
          <p:cNvSpPr/>
          <p:nvPr/>
        </p:nvSpPr>
        <p:spPr>
          <a:xfrm>
            <a:off x="0" y="580536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Михаил Тимофеевич Калашников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Кто из советских конструкторов стрелкового оружия создал новый тип автомата и автоматические пулеметы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1" name="AutoShape 15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Лучшим танком </a:t>
            </a: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II</a:t>
            </a: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 мировой войны считается легендарная машина, созданная в 1940 году коллективом под руководством М.И. Кошкина, Н.А. Кучеренко и А.А. Морозова. Один экземпляр стоит на берегу озера Балхаш.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3" name="Rectangle 4"/>
          <p:cNvSpPr/>
          <p:nvPr/>
        </p:nvSpPr>
        <p:spPr>
          <a:xfrm>
            <a:off x="1478160" y="1484280"/>
            <a:ext cx="658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ая техника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и вооружение ВОВ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Text Box 5"/>
          <p:cNvSpPr/>
          <p:nvPr/>
        </p:nvSpPr>
        <p:spPr>
          <a:xfrm>
            <a:off x="468360" y="5445000"/>
            <a:ext cx="63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Танк Т-34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68000" y="1341360"/>
            <a:ext cx="8534520" cy="18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Грозное оружие ВОВ или языком официальных документов «мобильная установка залпового огня», ей устанавливали монументы и памятники, ей посвящали свои произведения писатели поэты. 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7" name="Rectangle 4"/>
          <p:cNvSpPr/>
          <p:nvPr/>
        </p:nvSpPr>
        <p:spPr>
          <a:xfrm>
            <a:off x="1621080" y="2492280"/>
            <a:ext cx="658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ая техника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и вооружение ВОВ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Text Box 5"/>
          <p:cNvSpPr/>
          <p:nvPr/>
        </p:nvSpPr>
        <p:spPr>
          <a:xfrm>
            <a:off x="900000" y="573408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Катюша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09120" y="620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Как назывались танки до того, как появился танк Т-34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1" name="Rectangle 4"/>
          <p:cNvSpPr/>
          <p:nvPr/>
        </p:nvSpPr>
        <p:spPr>
          <a:xfrm>
            <a:off x="1441800" y="1773360"/>
            <a:ext cx="658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ая техника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и вооружение ВОВ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Text Box 5"/>
          <p:cNvSpPr/>
          <p:nvPr/>
        </p:nvSpPr>
        <p:spPr>
          <a:xfrm>
            <a:off x="1763640" y="580536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Танкетки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WordArt 4"/>
          <p:cNvSpPr txBox="1"/>
          <p:nvPr/>
        </p:nvSpPr>
        <p:spPr>
          <a:xfrm>
            <a:off x="1835280" y="4365720"/>
            <a:ext cx="532908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76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13500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Impact"/>
              </a:rPr>
              <a:t>Своя   игра</a:t>
            </a:r>
            <a:endParaRPr b="1" lang="en-US" sz="4800" spc="1" strike="noStrike">
              <a:ln w="176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13500000"/>
              </a:gradFill>
              <a:effectLst>
                <a:outerShdw dist="0" dir="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1" name="Rectangle 6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199360" cy="1311120"/>
          </a:xfrm>
          <a:prstGeom prst="rect">
            <a:avLst/>
          </a:prstGeom>
          <a:ln w="0">
            <a:noFill/>
          </a:ln>
        </p:spPr>
      </p:pic>
      <p:pic>
        <p:nvPicPr>
          <p:cNvPr id="1122" name="Прямоугольник 6" descr=""/>
          <p:cNvPicPr/>
          <p:nvPr/>
        </p:nvPicPr>
        <p:blipFill>
          <a:blip r:embed="rId2"/>
          <a:stretch/>
        </p:blipFill>
        <p:spPr>
          <a:xfrm>
            <a:off x="1438200" y="1500120"/>
            <a:ext cx="6224760" cy="19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opardy-wait%20l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" nodeType="after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1000" autoRev="1" fill="hold"/>
                                        <p:tgtEl>
                                          <p:spTgt spid="1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1000" autoRev="1" fill="hold"/>
                                        <p:tgtEl>
                                          <p:spTgt spid="1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500" autoRev="1" fill="hold"/>
                                        <p:tgtEl>
                                          <p:spTgt spid="1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850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Этот Орден назван по имени выдающегося русского полководца, героя Ледового побоища 1242 г. этим орденом награждали офицеров Сов. Армии за личную храбрость и умение воевать малыми силами против значительно превосходящих сил противника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5" name="Rectangle 4"/>
          <p:cNvSpPr/>
          <p:nvPr/>
        </p:nvSpPr>
        <p:spPr>
          <a:xfrm>
            <a:off x="1182960" y="2924280"/>
            <a:ext cx="673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Ордена и медали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Text Box 5"/>
          <p:cNvSpPr/>
          <p:nvPr/>
        </p:nvSpPr>
        <p:spPr>
          <a:xfrm>
            <a:off x="684360" y="5516640"/>
            <a:ext cx="57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Орден Александра Невского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7" name="AutoShape 8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09120" y="1052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В каком году были вручены первые награды – медали «За оборону Ленинграда», «За оборону Одессы», </a:t>
            </a:r>
            <a:br>
              <a:rPr sz="2800"/>
            </a:b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«За оборону Севастополя»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9" name="Rectangle 4"/>
          <p:cNvSpPr/>
          <p:nvPr/>
        </p:nvSpPr>
        <p:spPr>
          <a:xfrm>
            <a:off x="1095840" y="2349360"/>
            <a:ext cx="673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Ордена и медали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Text Box 5"/>
          <p:cNvSpPr/>
          <p:nvPr/>
        </p:nvSpPr>
        <p:spPr>
          <a:xfrm>
            <a:off x="1258920" y="544500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b0601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1941-1942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1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Этот орденский знак сияет золотыми лучами, которые исходят от красной звезды, а сама звезда прикрывает собою кавалерийскую шашку и винтовку пехотинца.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3" name="Rectangle 4"/>
          <p:cNvSpPr/>
          <p:nvPr/>
        </p:nvSpPr>
        <p:spPr>
          <a:xfrm>
            <a:off x="1024200" y="2349360"/>
            <a:ext cx="673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Ордена и медали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Text Box 5"/>
          <p:cNvSpPr/>
          <p:nvPr/>
        </p:nvSpPr>
        <p:spPr>
          <a:xfrm>
            <a:off x="900000" y="5445000"/>
            <a:ext cx="605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Орден Отечественной войны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09120" y="404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Что написано на медали «За победу над Германией в ВОВ 1941-45 гг.»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7" name="Rectangle 4"/>
          <p:cNvSpPr/>
          <p:nvPr/>
        </p:nvSpPr>
        <p:spPr>
          <a:xfrm>
            <a:off x="1095840" y="2060640"/>
            <a:ext cx="673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Ордена и медали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Text Box 5"/>
          <p:cNvSpPr/>
          <p:nvPr/>
        </p:nvSpPr>
        <p:spPr>
          <a:xfrm>
            <a:off x="468360" y="4941720"/>
            <a:ext cx="67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Наше дело правое мы победили!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нимание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ыбор категории производите на 3 слайде. Когда на 2 слайде появятся категории со стоимостью вопросов, просто перейдите на 3 слайд, сделав щелчок мышью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Группа 29"/>
          <p:cNvGrpSpPr/>
          <p:nvPr/>
        </p:nvGrpSpPr>
        <p:grpSpPr>
          <a:xfrm>
            <a:off x="324000" y="620640"/>
            <a:ext cx="8493120" cy="5662800"/>
            <a:chOff x="324000" y="620640"/>
            <a:chExt cx="8493120" cy="5662800"/>
          </a:xfrm>
        </p:grpSpPr>
        <p:sp>
          <p:nvSpPr>
            <p:cNvPr id="1124" name="Rectangle 4">
              <a:hlinkClick r:id="" action="ppaction://hlinkshowjump?jump=nextslide"/>
            </p:cNvPr>
            <p:cNvSpPr/>
            <p:nvPr/>
          </p:nvSpPr>
          <p:spPr>
            <a:xfrm>
              <a:off x="324000" y="622080"/>
              <a:ext cx="1584360" cy="9889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ahoma"/>
                </a:rPr>
                <a:t>  </a:t>
              </a: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Герои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     </a:t>
              </a: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войны</a:t>
              </a:r>
              <a:r>
                <a:rPr b="0" lang="ru-RU" sz="4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5" name="Rectangle 5">
              <a:hlinkClick r:id="" action="ppaction://hlinkshowjump?jump=nextslide"/>
            </p:cNvPr>
            <p:cNvSpPr/>
            <p:nvPr/>
          </p:nvSpPr>
          <p:spPr>
            <a:xfrm>
              <a:off x="2050920" y="622080"/>
              <a:ext cx="1655640" cy="10065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Военные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операции</a:t>
              </a:r>
              <a:r>
                <a:rPr b="0" lang="ru-RU" sz="4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6" name="Rectangle 7">
              <a:hlinkClick r:id="" action="ppaction://hlinkshowjump?jump=nextslide"/>
            </p:cNvPr>
            <p:cNvSpPr/>
            <p:nvPr/>
          </p:nvSpPr>
          <p:spPr>
            <a:xfrm>
              <a:off x="7236000" y="622080"/>
              <a:ext cx="1581120" cy="10206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Ордена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и медали</a:t>
              </a: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7" name="Rectangle 8"/>
            <p:cNvSpPr/>
            <p:nvPr/>
          </p:nvSpPr>
          <p:spPr>
            <a:xfrm>
              <a:off x="395280" y="1774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8" name="Rectangle 9"/>
            <p:cNvSpPr/>
            <p:nvPr/>
          </p:nvSpPr>
          <p:spPr>
            <a:xfrm>
              <a:off x="2124000" y="1774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Rectangle 10"/>
            <p:cNvSpPr/>
            <p:nvPr/>
          </p:nvSpPr>
          <p:spPr>
            <a:xfrm>
              <a:off x="3851280" y="1774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0" name="Rectangle 11"/>
            <p:cNvSpPr/>
            <p:nvPr/>
          </p:nvSpPr>
          <p:spPr>
            <a:xfrm>
              <a:off x="7236000" y="1774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1" name="Rectangle 12"/>
            <p:cNvSpPr/>
            <p:nvPr/>
          </p:nvSpPr>
          <p:spPr>
            <a:xfrm>
              <a:off x="395280" y="2927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2" name="Rectangle 14"/>
            <p:cNvSpPr/>
            <p:nvPr/>
          </p:nvSpPr>
          <p:spPr>
            <a:xfrm>
              <a:off x="2124000" y="2927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3" name="Rectangle 15"/>
            <p:cNvSpPr/>
            <p:nvPr/>
          </p:nvSpPr>
          <p:spPr>
            <a:xfrm>
              <a:off x="3851280" y="2927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4" name="Rectangle 16"/>
            <p:cNvSpPr/>
            <p:nvPr/>
          </p:nvSpPr>
          <p:spPr>
            <a:xfrm>
              <a:off x="7236000" y="2927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5" name="Rectangle 17"/>
            <p:cNvSpPr/>
            <p:nvPr/>
          </p:nvSpPr>
          <p:spPr>
            <a:xfrm>
              <a:off x="395280" y="4078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6" name="Rectangle 18"/>
            <p:cNvSpPr/>
            <p:nvPr/>
          </p:nvSpPr>
          <p:spPr>
            <a:xfrm>
              <a:off x="2124000" y="4078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7" name="Rectangle 19"/>
            <p:cNvSpPr/>
            <p:nvPr/>
          </p:nvSpPr>
          <p:spPr>
            <a:xfrm>
              <a:off x="3851280" y="4078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8" name="Rectangle 20"/>
            <p:cNvSpPr/>
            <p:nvPr/>
          </p:nvSpPr>
          <p:spPr>
            <a:xfrm>
              <a:off x="7236000" y="4078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9" name="Rectangle 21"/>
            <p:cNvSpPr/>
            <p:nvPr/>
          </p:nvSpPr>
          <p:spPr>
            <a:xfrm>
              <a:off x="395280" y="5231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0" name="Rectangle 22"/>
            <p:cNvSpPr/>
            <p:nvPr/>
          </p:nvSpPr>
          <p:spPr>
            <a:xfrm>
              <a:off x="2124000" y="5231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1" name="Rectangle 23"/>
            <p:cNvSpPr/>
            <p:nvPr/>
          </p:nvSpPr>
          <p:spPr>
            <a:xfrm>
              <a:off x="3851280" y="5231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2" name="Rectangle 24"/>
            <p:cNvSpPr/>
            <p:nvPr/>
          </p:nvSpPr>
          <p:spPr>
            <a:xfrm>
              <a:off x="7236000" y="5231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3" name="Rectangle 25">
              <a:hlinkClick r:id="" action="ppaction://hlinkshowjump?jump=nextslide"/>
            </p:cNvPr>
            <p:cNvSpPr/>
            <p:nvPr/>
          </p:nvSpPr>
          <p:spPr>
            <a:xfrm>
              <a:off x="5508720" y="620640"/>
              <a:ext cx="1511280" cy="100944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" spc="-1" strike="noStrike">
                  <a:solidFill>
                    <a:srgbClr val="ffcc00"/>
                  </a:solidFill>
                  <a:latin typeface="Arial"/>
                </a:rPr>
                <a:t>  </a:t>
              </a:r>
              <a:endParaRPr b="0" lang="en-US" sz="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4" name="Rectangle 26">
              <a:hlinkClick r:id="" action="ppaction://hlinkshowjump?jump=nextslide"/>
            </p:cNvPr>
            <p:cNvSpPr/>
            <p:nvPr/>
          </p:nvSpPr>
          <p:spPr>
            <a:xfrm>
              <a:off x="3851280" y="622080"/>
              <a:ext cx="1584360" cy="10206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Советские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  </a:t>
              </a: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военачальники</a:t>
              </a:r>
              <a:r>
                <a:rPr b="0" lang="ru-RU" sz="4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5" name="Rectangle 27"/>
            <p:cNvSpPr/>
            <p:nvPr/>
          </p:nvSpPr>
          <p:spPr>
            <a:xfrm>
              <a:off x="5508720" y="1774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6" name="Rectangle 28"/>
            <p:cNvSpPr/>
            <p:nvPr/>
          </p:nvSpPr>
          <p:spPr>
            <a:xfrm>
              <a:off x="5508720" y="2927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7" name="Rectangle 29"/>
            <p:cNvSpPr/>
            <p:nvPr/>
          </p:nvSpPr>
          <p:spPr>
            <a:xfrm>
              <a:off x="5508720" y="4078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8" name="Rectangle 30"/>
            <p:cNvSpPr/>
            <p:nvPr/>
          </p:nvSpPr>
          <p:spPr>
            <a:xfrm>
              <a:off x="5508720" y="5231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9" name="Rectangle 32"/>
            <p:cNvSpPr/>
            <p:nvPr/>
          </p:nvSpPr>
          <p:spPr>
            <a:xfrm>
              <a:off x="5508720" y="695160"/>
              <a:ext cx="1584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Военная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техника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и вооружени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ВОВ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09120" y="836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27 января 1942 года в газете «Правда» был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опубликован очерк Петра Лидова «Таня». 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Назовите подлинное имя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героини этого очерка, героини-партизанки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1" name="AutoShape 5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Rectangle 7"/>
          <p:cNvSpPr/>
          <p:nvPr/>
        </p:nvSpPr>
        <p:spPr>
          <a:xfrm>
            <a:off x="1784160" y="2205000"/>
            <a:ext cx="527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Герои войн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Text Box 8"/>
          <p:cNvSpPr/>
          <p:nvPr/>
        </p:nvSpPr>
        <p:spPr>
          <a:xfrm>
            <a:off x="611280" y="4797360"/>
            <a:ext cx="7488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Зоя Космодемьянская (1923-41) – партизанка, Герой Советского Союза</a:t>
            </a: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На весь мир прозвучало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имя московского парня, в прошлом рабочего мясокомбината, а теперь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летчика. В ночном воздушном бою он таранил фашистский бомбардировщик. Это был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первый в мире ночной таран! После этого летчик сбил еще 5 вражеских самолетов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5" name="Rectangle 4"/>
          <p:cNvSpPr/>
          <p:nvPr/>
        </p:nvSpPr>
        <p:spPr>
          <a:xfrm>
            <a:off x="1498320" y="2997360"/>
            <a:ext cx="527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Герои войн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Text Box 5"/>
          <p:cNvSpPr/>
          <p:nvPr/>
        </p:nvSpPr>
        <p:spPr>
          <a:xfrm>
            <a:off x="250920" y="530064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Талалихин Виктор Васильевич</a:t>
            </a: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AutoShape 7"/>
          <p:cNvSpPr/>
          <p:nvPr/>
        </p:nvSpPr>
        <p:spPr>
          <a:xfrm>
            <a:off x="7524720" y="568944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79280" y="1628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Отважный летчик, в марте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1942 года его самолет был подбит и ему пришлось приземлиться в тылу врага.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18 суток он пробирался к своим. После ампутации обеих ног освоил протезы и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вернулся в строй. Назовите имя героя, как сложилась его судьба?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9" name="Rectangle 4"/>
          <p:cNvSpPr/>
          <p:nvPr/>
        </p:nvSpPr>
        <p:spPr>
          <a:xfrm>
            <a:off x="1857240" y="3357720"/>
            <a:ext cx="527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Герои войн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Text Box 5"/>
          <p:cNvSpPr/>
          <p:nvPr/>
        </p:nvSpPr>
        <p:spPr>
          <a:xfrm>
            <a:off x="179280" y="580536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аресьев Алексей Петрович (1916-2001)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1" name="AutoShape 7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79280" y="1773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Рядовой гвардейского стрелкового полка 23.02.1943 года в бою за деревню Чернушки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(Псковская обл.) закрыл телом амбразуру пулеметного дзота гитлеровцев, препятствовавшего продвижению подразделения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3" name="Rectangle 4"/>
          <p:cNvSpPr/>
          <p:nvPr/>
        </p:nvSpPr>
        <p:spPr>
          <a:xfrm>
            <a:off x="1714320" y="3141720"/>
            <a:ext cx="527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Герои войн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Text Box 5"/>
          <p:cNvSpPr/>
          <p:nvPr/>
        </p:nvSpPr>
        <p:spPr>
          <a:xfrm>
            <a:off x="324000" y="573408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атросов Александр Матвеевич (1924-43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Немецкий план ведения войны против СССР назывался…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7" name="Rectangle 4"/>
          <p:cNvSpPr/>
          <p:nvPr/>
        </p:nvSpPr>
        <p:spPr>
          <a:xfrm>
            <a:off x="748080" y="1773360"/>
            <a:ext cx="7425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ые операци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Text Box 5"/>
          <p:cNvSpPr/>
          <p:nvPr/>
        </p:nvSpPr>
        <p:spPr>
          <a:xfrm>
            <a:off x="826920" y="515772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План Барбаросса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AutoShape 7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061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Назовите кодовое название операции немецких войск под Москвой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1" name="Rectangle 4"/>
          <p:cNvSpPr/>
          <p:nvPr/>
        </p:nvSpPr>
        <p:spPr>
          <a:xfrm>
            <a:off x="752760" y="1773360"/>
            <a:ext cx="7425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ые операци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Text Box 5"/>
          <p:cNvSpPr/>
          <p:nvPr/>
        </p:nvSpPr>
        <p:spPr>
          <a:xfrm>
            <a:off x="2556000" y="4653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Тайфун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3" name="AutoShape 9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1:30:49Z</dcterms:created>
  <dc:creator>ученик</dc:creator>
  <dc:description/>
  <dc:language>en-US</dc:language>
  <cp:lastModifiedBy>Ёля</cp:lastModifiedBy>
  <dcterms:modified xsi:type="dcterms:W3CDTF">2012-10-08T15:35:30Z</dcterms:modified>
  <cp:revision>47</cp:revision>
  <dc:subject/>
  <dc:title>Презентация PowerPoint</dc:title>
</cp:coreProperties>
</file>