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jeopardy-wait%20long.wav" ContentType="audio/x-wav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3283-2B0E-4EF3-A5D7-B4227BA488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329-C7D7-4C4D-B944-31637C363C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9C6-F31D-47CD-8C1F-04954698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D9B-57E0-4A31-8341-8A7149E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B888D-48AB-4B27-B01D-0933F5C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A3300-423F-471C-8BBF-9B102B49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B2526-9E16-4DBE-AF7A-9F883E73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55188-83A6-43CE-B18A-B7FB2B7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8FB21-4681-4EFF-951F-00966AC4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1BBDD-5555-48C7-A622-9689FB5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987B0-B4BD-4D61-B146-4580F1D0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5090-1076-4DAB-B49D-0B52F6E0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7B7C8-0FEF-4303-8BBB-23159FA3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B2A1D-9BB3-4365-A807-38C37361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22D-3EEA-4858-82CB-FFA17569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D4F36-0695-4C1E-9A6E-22B69222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10F4F-D260-468C-B7AF-F0994CB1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E6E1D-6758-4C41-BE66-CFF643DC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632A4-998E-4A47-BA03-9E5EF207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2CA4A-6326-4638-8604-AD83488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CAF27-E1FB-48C9-AA3D-0B31338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AFEF4-CD8F-42F5-8B1C-28F8650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24C3F-4997-43B8-9408-2114D02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96A45-CD0F-43CE-8319-B1934498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8E14D-90D2-4513-9DA5-A19C6013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A87-3E4A-4782-B6BA-764D0FF1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7F187-466A-49C4-9608-DA3193D0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F40C5-6E8F-4F8B-9242-900EED62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DF586-9727-43E6-8D01-1E3C338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B38A0-7CD5-4130-BA4D-FCCA1F2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4B1CD-A84C-49EB-B4C1-DBAAAF7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C48A-70F4-48B8-87F4-64A1D22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1C009-590E-49FB-A7FF-10B93F9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51CA6-17DF-4BBA-B55D-D46B85DC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6805B-719B-4862-A78E-D63147F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5301A-C805-4ACD-879A-4E82150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4345-7106-43CC-AA48-1EDB9603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E1A7-C303-4856-AD8C-55FD6779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21D04-5D1F-4901-8B15-EDE6BD6E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AC4CB-5C13-4ABD-841A-3592A26C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0B84C-8AC8-4187-AE15-245A0992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09CBB-06F1-4851-8B2E-87C843EA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8BC48-2D31-41A6-9CB9-BC5E5A42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630D6-617F-46D5-B977-6466C532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9B4F5-A837-427A-B7D7-FF23230F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7DE35-4BC4-474D-85C5-C63DEA9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4C3FB-CBED-490E-9AD1-587D822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8DB8-C8DD-4EDD-8285-03AD095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948E8-5DC9-401B-885B-04A406E0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5AAF3-F6B5-46E3-AB6C-75309D5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5A420-3155-4CD9-BC68-286D2E25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C9DAE-250D-4CE2-B50D-2A718059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A6F88-F08A-451E-A326-719BCEA9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AB48E-032B-4E66-A0A0-6964650A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B7A6C-3C1D-426E-8F70-92C0320B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0BC70-225F-446D-98A0-113D947C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1737E-A7F3-4C1F-AA30-D9260AA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C30D6-DE56-4521-9FCE-CE2ABE6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F9B4-8220-4033-928F-4E0918E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01C57-4F3B-494D-9546-8C199FBA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58594-B6C0-46F6-9E98-0C9082E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9163B-2B5D-425F-95A8-6E38572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7EA59-E22B-4379-A374-17774AF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67B7C-1209-400F-B979-F97A223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98BD6-7503-4F4A-B1B3-57A9206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D8A89-5F4A-407A-B364-DC441B97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2733F-E998-4F74-B1E1-38E08BE6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2D6C0-E655-49BB-A2B8-7436BF6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A7F53-71AB-41E5-9E6C-66176704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D01-DFCD-40B5-AD47-95B4DF9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04716-16FB-4A3A-9099-90C0642C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9D047-9BAE-4556-9652-62F638D1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D7844-614F-4465-AE9E-8DD380B1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82749-A609-4A82-8CE1-C6CFECE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69E00-A697-4946-8D53-5540CDC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8303C-EDE0-49E0-B05A-9EF09AF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73381-DC54-4229-96AB-28B28A52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03268-D41D-4726-A413-93A39E0E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F8CF1-903F-425D-86B4-3A9A79FD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9B7A7-4EDE-4A1C-B095-B1D46C7D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3C17-1B47-493B-9810-FB538F94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03B5C-A5AE-4355-8DA3-65D07661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BA981-AB10-4989-9CF5-B628DBB9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66B0B-1E8B-41ED-987C-9522D0B2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1C7E0-38E8-4DE3-8789-9EB458BC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75CCA-EE62-4E15-B4CB-9A6496A4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18BFC-31E8-4842-B3A9-A3A2359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7FA6A-D90D-4EB4-9399-1ACAD2B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1F7AD-4229-43AF-927E-C1B3668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D7199-7A56-4A33-A744-21958D5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CFE14-E157-44A7-B470-A1367446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DC7E-FF4F-41DE-9968-9BC77E9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8E4E7-E6B4-4BBD-AA83-79931E11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A0E63-CD17-4588-94B6-EF94296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C5A57-F346-4542-97E7-98223DC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A10E2-2600-40A9-9F4F-4D51550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1FAF4-986A-42EB-A29C-75BC9AB2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B2361-1859-41BA-8BB0-ECF02B92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B0D30-FCAA-43A9-B905-A48760D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6104A-6CDE-48BC-81F3-2DAA038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20DB6-C175-471F-A884-88A4395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9F41F-50A1-495F-B23C-2434072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1958-3D1F-4882-B578-8441E36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7F8E9-16F6-46BF-A1EC-37BA1B3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15758-1B91-4999-BB58-B349A3C8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B156C-E8C6-4B07-BFDD-3EBEFDE1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90FDA-78E4-4C31-B768-ACAE057E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AC667-5A49-439D-AA4A-D55BBDF8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0B2A8-B132-42A5-9730-6F2328A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45EFE-6B67-4CC3-98AC-49A9C73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DECEDA-C292-48EE-9B1C-F40657CA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FD8CD-44C3-4239-BD48-9731E31A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83CCA-6F11-4F2C-BA91-7747FD3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7FF-D17B-4D47-BA9E-D14E674B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7DD1-27FB-4A44-AE37-15F9118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5BE3E-4ECC-4A8F-AA42-CB72DCD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7F1B6-345A-4677-91D5-FAE0DD4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733E0-8744-4015-9EFC-C4320DF9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E073A-9FE4-447F-8193-6BEBB52B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E90ED-7BCE-444A-9111-56F7197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BE323-2C6F-4671-B93D-09248481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E3A67-B1DC-4C7D-914C-8F79D3D7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024D3-1A72-4183-92E3-2ED8A115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CC192-8F22-460B-917A-A3340A1F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9594C-3964-47EA-9D69-56BE4458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88BD-8421-4C8C-BEEC-2301DCF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6111C-86B9-48A1-8670-E9819C0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547DC-DA00-4775-9123-77A30C2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11338-E1A7-4625-B5C8-4F4C7E0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DF6F9-2706-4FDC-9D42-3240977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0DC35-1E1D-446E-AB55-1FD3E98D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05C09-AA10-466B-86B1-E1A19DAD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17AE6-7B42-483E-BC7E-91FE914A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8561D-301E-497D-8288-7ED22FDF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42A47-7606-4640-A39B-CBDAF691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18EC3-3C7B-4DBB-93FE-78DA4FF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671D-0D37-4689-A340-F90EB87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EC7FC-A4A0-4971-97A0-2FFE9EE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35EBA-E3CF-474A-8ED4-8A135DE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E4B2E-681E-402B-AB6F-1951781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E58B8-FA9F-4A2A-BB7F-9F7102C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DF1DA-CF9C-4A30-9A0C-2172DA8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6536C-106A-4DC6-8C7B-A5242BE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CCF0E-9172-460C-B158-FCE2934C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05D6B-E799-47EB-9306-69BFF745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CA8F4-B16C-4AE4-B65C-36CFEB11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263BA-6F96-4E53-AA29-393C6DAB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2845-90D3-4FD9-95F7-03C265E8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F802B-F94C-4C03-B3A4-C38281A5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58D99-6871-4378-BFF3-5005AD46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B5467-D113-4602-973B-CB875C78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9F054-1DAD-457A-AECF-854DA6F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EACC6-B95F-4FDB-AECF-CEC3168B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9CA53-3D78-431C-87D4-20041B4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A5208-AADA-4F69-9FF9-3525E5D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E79E2-B6D9-42BC-8661-49D1EDB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551E9-F80A-4D14-ACD2-E019B99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31179-62B7-470D-B119-86ACFA21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98F6-59A6-425C-8D06-65D067CB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DDD71-0DB7-4C0F-8861-481945C7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CD24CD-0FD3-4D46-BB8A-C8E8A4BD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67FCC-D404-42D0-B0C8-B209ADAD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4926B3-D3E6-4E01-AC2D-216B9FC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11563-9914-4BF9-B251-D1740997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1CCBF-1C7A-4118-BE25-D3C79D3B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8FEC8-79CB-4973-85A8-4174412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EEA8CF-FF32-465D-A58A-BDDA447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D9E80-2AE1-4650-9762-B1F190E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12C972-6788-42E3-AFC8-04B3078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EBD99-5C9B-487C-915B-41E0D810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1346B-4762-4B10-A289-18E2B103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8A03F-FFD9-43C2-910E-97ED9CAF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E2D24-5767-4DE2-87DF-A438490E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E62AE-E4AB-4A9C-BEA9-7271F8C2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DD6A7-A175-4B2C-8C97-5E787888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092B9-294D-45B7-9FC5-7ADB7844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E1DA8C-2992-4E90-ABEC-D6016D69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966E1-58F3-49CC-8176-675C1399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47B09A-A1B7-4A62-B03C-3DBDA79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9934E-5170-4CE6-8D84-D91B600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D4197-2707-47E0-B7E3-256C0554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AFED37-B3B3-4542-83F1-8E7BB70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F6AF74-D94F-4DBD-A21A-5F42ED9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26D51E-0B8E-4261-8666-74EE7980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0FC01C-BCA3-4FE1-B13F-0E1A3D80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E5BF4-A415-447E-B4D7-DECFEE51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617C7-0FD3-4082-A16E-D14EA3F4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2C4CF3-4F9F-4A27-B89C-E6EE821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E2ED60-9998-4594-A284-576D97BD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646050-C778-47AB-9195-01E56E1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C55F44-435F-4AB5-A937-B32016A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AF5CF-8155-42B9-BCA7-216753F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F81614-05C2-4E7E-A9DC-FBC87F15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74BE66-CA6A-4E6D-A2BD-277E2669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035604-3087-49C5-91B0-262DE71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BA7CD7-2D30-4F79-96A2-0496DEB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960E70-B4BD-434C-936A-1CFAD53D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2B69F7-6D87-45FA-934E-981C62FD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8C4B7-2647-4A31-AF22-52C9BE9D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DD6A5D-9497-4EF5-A6AA-4E55E769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A72EDE-D9A7-4573-B17D-38B9B2C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E8960-7628-4B31-BC56-A485D4FE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BD9FE-0528-45C3-88DE-C2C3BE49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CCE063-9B5E-4760-ADA6-5A3DD7ED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8AD9C8-125A-4391-ABEC-ECAC5382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E7958-D818-4D50-AB65-2FEA910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29EFA-9F02-4565-B21C-97711AC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684757-97C6-4AC2-B899-B058064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A058D-30CE-496D-8A8C-A5C691C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3ED184-BC5F-4C25-A5C5-E6987529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926B8B-53D5-4BFF-BD2F-7F7D5515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AAE15E-E54A-4BE2-BE3C-3ADBB05B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460B9-3481-4DEB-90A3-8905B379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42C-7555-4D4A-8DFF-839409FF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0F7C3-A672-4023-8563-F948E1CB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116AB-A7F3-42C5-BB21-69165AD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D200C-B47F-49BF-AA3E-7C75F34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B051F-9277-4535-A4BD-3276ECA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2989D-6969-4E91-AEA6-9464677D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C56FB-06D3-40F6-BCCC-246698BD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6D64C-CDEC-454B-AE9D-760D4EAA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0976-ECC9-4AA6-B7FE-080C092C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9203-D137-4486-8AEE-B88C2EFD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CC3C-E156-46CD-B8FC-3EC0325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2A4-9279-4976-9B1A-B71B30F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621E-FB9A-4D74-BA6C-ACC09C3E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339B-13C6-4F5E-A5E9-8530678C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40BC-85BB-4617-9DF6-17161E59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AE88-A26D-483A-BCF4-CDFD03B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2B32-5E0E-473B-8151-F950C50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3F45-FF0B-46E4-8032-92023F75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44A9-D985-4AD1-A6E5-82B00A71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93F5-13ED-458A-A45B-D6B3E490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3728-7050-4CFB-A412-B18E0600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58840-3BA8-46EA-87B1-62A36421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D84-34DC-4AFF-8C9B-3B15FA51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06ED-F32B-47C1-A045-612EEB80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FB37-D1CD-47C7-97B1-13C52E26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0E05-F339-40FB-9432-7F957A4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4081-007D-4D9B-89D5-64F4CF8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DEE3-1997-45D2-BEC0-49761BE4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C9557-C658-4980-8EC1-7EDC2FF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88F8-8783-4699-9D3D-5B8A9B5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E9AC-BAE0-45A5-AEFD-B4EF312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4060-369F-4DF6-89CB-D6457C5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32AC-01EF-4792-B544-3D940763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5CE-2370-4069-9EE2-43511B3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8308-A2B7-4C7E-A74B-BA2D5196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63A9-E86B-4B76-882F-CB73384C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E24E-0D21-49D4-BD8A-AF443C0F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33CD-F648-4BE3-894F-727E1010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DEAF-CBDF-4488-B346-93E4896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5F4E0-A9FE-4EBD-A7F5-F8FFDF9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4660-6498-414D-8342-59BF6EBE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3C6C-45A6-4C6F-B578-3D3D82B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C269-34B0-449C-822A-25EDC841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868A-6A0B-4912-9231-EEB5638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324-CFCF-4FA6-9323-C30E4E4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600E-7EDD-451C-BFFF-CE5C682F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B42AA-FB13-4F46-901B-74306103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29D9-0FDE-43D8-A157-991CD3AC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514D-B729-4783-8BD4-1DB27F54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B519A-BCD4-4402-88F4-F5786F4A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4067-A998-4D6A-85D3-2DD01EBF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DB4C-A0D7-495D-9814-79B610AE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345F-5ED2-47B5-A344-DB9E3894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D4426-2B85-4084-B268-E2B7ECF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D4C0-A207-4297-A0FC-CB44D3B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20D-7D3D-41CA-B59E-B1A3CFB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7A18-B162-4822-B2D5-0461A9F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6D05-4CC7-425A-8530-3B7CFF4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615E-C568-4490-9633-9DA5180D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4F2EC-8C18-43D1-A8FD-EF7BB823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6B1CE-8206-4CF5-8EEC-BB520291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95A77-E9D0-4FE5-B5F7-DF9C3AAB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DC63B-69AB-4909-BAE0-1A0C507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A80A0-3BBA-4A37-95AD-5D609AB3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E832-0C00-449E-8F0D-E07D2D1E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4896-B50A-44DC-A616-39211C1D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6A9-470E-4CAA-AB53-2BF584F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820F9-1F1D-4913-9679-5D35612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CC02-FAF5-4D6E-901A-B008ED9B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41A1-AB1A-4AB9-BB1A-C9C0447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03E16-7C7C-4271-8EB1-F6DA742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51829-F017-4622-B942-921992D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DDAA-24BD-4E84-83AE-C23FC632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B8CF4-2D29-490F-A491-4B610FDE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382D2-A922-46B6-A02F-60A9B073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7D20-6C2B-4CB3-BCF7-8C33568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7989C-4DD3-428C-A9FE-203FCECB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5F05-C8F2-4DF8-B60A-D8D7447B8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856-3D83-4DFB-9BC7-306365060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0BD-582B-48E1-AC1B-D8588124A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FB85-5957-4EE6-A678-6816F07BD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7E13-219B-49C8-BBBE-D4565B0CC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57C0-ABDC-4622-8651-D14EA9E88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3690-8456-4F9F-89A8-129B42FD5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896-3838-4CF3-AC35-7E1245AA8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1B9-8EE6-4A81-ABD1-0B03AA6602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34CB-E2EF-4975-93FC-49D3BE6AB2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A4F2-F7A6-4E2F-BC13-6A9224387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AC9B-41AA-4FC4-B540-F256514E9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A85B-2647-492F-B7DF-73504938E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E21D-0207-4724-8882-D1CDF34A8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E994-1531-49F1-91B3-2C0964434D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3316-FE5B-444C-A3DC-7D916B32CE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A0F5-955D-43DB-BB91-4831147B5026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1DB-FB35-473B-A5D8-EE123DCEF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1F59-4675-4AA3-A040-E563B613A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6D7-E492-4266-9F27-9A357A943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FA28-35D3-4B77-BA17-F2BEFB342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6B51-148C-4686-B87E-FA1597B50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93F1-8861-4834-8A88-BCABFDF9A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9D66-FE14-403F-B6DB-94224602D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jeopardy-wait%20long.wav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аевое 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«Специальная (коррекционная) общеобразовательная школа V вида №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а Комсомольска – на – Амуре Хабаровского края»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26920" y="4292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мова Наталья Петровна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математики и информа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акая битва стала началом коренного перелома в ходе ВОВ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539640" y="4797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итва под Москвой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честь каких городов Москва впервые салютовала победителям в 1943 г. ?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75132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Белгород, Орёл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Советский военачальник. С сентября 1942 года командовал 62-й армией, прославившейся героической обороной Сталинграда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9280" y="206064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395280" y="522936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Чуйков Василий Иванович (1900-1982)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Генерал Советской армии был захвачен в плен в августе 1941 года. Немцы много раз предлагали перейти на их сторону. Ему сулили свободу и всяческие блага. Он решительно отказался. В нескольких лагерях смерти (Майданек, Освенцим и др.) он продолжал вести антифашистскую работу среди военнопленных. Наконец, в морозный зимний день 1945 года у стены лагеря Маутхаузен, фашисты, поливая его водой из шланга, превратили его в ледяную статую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17576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395280" y="587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Генерал Карбышев Дмитрий Михайлович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Советский военачальник. В январе-июле 1941 года – начальник Генштаба Вооруженных сил, заместитель наркома обороны СССР. Сыграл выдающуюся роль в Московской битве. С августа 1942 года – первый заместитель наркома обороны СССР и заместитель Верховного Главнокомандующего, координировал действия фронтов в Сталинградской битве, по прорыву блокады Ленинграда, в битвах под Курском и за Днепр, в Белорусской и других операциях. 9 мая 1945 года принял в Берлине капитуляцию вооруженных сил Германии.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888480" y="270828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880920" y="566064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уков Георгий Константинович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оветский военачальник. Участник Первой мировой и гражданский войн. В 1939 году необоснованно репрессирован, восстановлен на службе в 1940 году. В Великой Отечественной войне войска под его командованием успешно действовали в Смоленском сражении 1941 го, в Московской, Сталинградской и Курской битвах, Берлинской операции. С 1944 года Маршал Советского Союза. Командовал Парадом Победы в Москве 24 июня 1945 г.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104480" y="263700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Советск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военачальник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108000" y="52311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стантин Константинович Рокоссовский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4"/>
          <p:cNvSpPr/>
          <p:nvPr/>
        </p:nvSpPr>
        <p:spPr>
          <a:xfrm>
            <a:off x="1436760" y="1773360"/>
            <a:ext cx="623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Военная тех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и вооружение ВОВ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0" y="580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Михаил Тимофеевич Калашнико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Кто из советских конструкторов стрелкового оружия создал новый тип автомата и автоматические пулеметы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1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Лучшим танком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мировой войны считается легендарная машина, созданная в 1940 году коллективом под руководством М.И. Кошкина, Н.А. Кучеренко и А.А. Морозова. Один экземпляр стоит на берегу озера Балхаш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478160" y="1484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468360" y="544500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Танк Т-34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Грозное оружие ВОВ или языком официальных документов «мобильная установка залпового огня», ей устанавливали монументы и памятники, ей посвящали свои произведения писатели поэты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621080" y="249228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Катюш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ак назывались танки до того, как появился танк Т-34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1441800" y="1773360"/>
            <a:ext cx="658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ая техник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и вооружение ВОВ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763640" y="5805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Танкет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WordArt 4"/>
          <p:cNvSpPr txBox="1"/>
          <p:nvPr/>
        </p:nvSpPr>
        <p:spPr>
          <a:xfrm>
            <a:off x="1835280" y="4365720"/>
            <a:ext cx="532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135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Impact"/>
              </a:rPr>
              <a:t>Своя   игра</a:t>
            </a:r>
            <a:endParaRPr b="1" lang="en-US" sz="4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13500000"/>
              </a:gradFill>
              <a:effectLst>
                <a:outerShdw dist="0" dir="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1" name="Rectangle 6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199360" cy="1311120"/>
          </a:xfrm>
          <a:prstGeom prst="rect">
            <a:avLst/>
          </a:prstGeom>
          <a:ln w="0">
            <a:noFill/>
          </a:ln>
        </p:spPr>
      </p:pic>
      <p:pic>
        <p:nvPicPr>
          <p:cNvPr id="1122" name="Прямоугольник 6" descr=""/>
          <p:cNvPicPr/>
          <p:nvPr/>
        </p:nvPicPr>
        <p:blipFill>
          <a:blip r:embed="rId2"/>
          <a:stretch/>
        </p:blipFill>
        <p:spPr>
          <a:xfrm>
            <a:off x="1438200" y="1500120"/>
            <a:ext cx="622476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wait%20l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 назван по имени выдающегося русского полководца, героя Ледового побоища 1242 г. этим орденом награждали офицеров Сов. Армии за личную храбрость и умение воевать малыми силами против значительно превосходящих сил противника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1182960" y="292428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684360" y="5516640"/>
            <a:ext cx="57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Александра Невского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 каком году были вручены первые награды – медали «За оборону Ленинграда», «За оборону Одессы»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За оборону Севастополя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09584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1258920" y="5445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1941-1942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Этот орденский знак сияет золотыми лучами, которые исходят от красной звезды, а сама звезда прикрывает собою кавалерийскую шашку и винтовку пехотинца.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3" name="Rectangle 4"/>
          <p:cNvSpPr/>
          <p:nvPr/>
        </p:nvSpPr>
        <p:spPr>
          <a:xfrm>
            <a:off x="1024200" y="234936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рден Отечественной войны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то написано на медали «За победу над Германией в ВОВ 1941-45 гг.»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1095840" y="2060640"/>
            <a:ext cx="673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Ордена и медали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468360" y="494172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Наше дело правое мы победили!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нимание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бор категории производите на 3 слайде. Когда на 2 слайде появятся категории со стоимостью вопросов, просто перейдите на 3 слайд, сделав щелчок мышь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Группа 29"/>
          <p:cNvGrpSpPr/>
          <p:nvPr/>
        </p:nvGrpSpPr>
        <p:grpSpPr>
          <a:xfrm>
            <a:off x="324000" y="620640"/>
            <a:ext cx="8493120" cy="5662800"/>
            <a:chOff x="324000" y="620640"/>
            <a:chExt cx="8493120" cy="5662800"/>
          </a:xfrm>
        </p:grpSpPr>
        <p:sp>
          <p:nvSpPr>
            <p:cNvPr id="1124" name="Rectangle 4">
              <a:hlinkClick r:id="" action="ppaction://hlinkshowjump?jump=nextslide"/>
            </p:cNvPr>
            <p:cNvSpPr/>
            <p:nvPr/>
          </p:nvSpPr>
          <p:spPr>
            <a:xfrm>
              <a:off x="324000" y="62208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Герои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 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йны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5">
              <a:hlinkClick r:id="" action="ppaction://hlinkshowjump?jump=nextslide"/>
            </p:cNvPr>
            <p:cNvSpPr/>
            <p:nvPr/>
          </p:nvSpPr>
          <p:spPr>
            <a:xfrm>
              <a:off x="2050920" y="622080"/>
              <a:ext cx="1655640" cy="1006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ы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пераци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7">
              <a:hlinkClick r:id="" action="ppaction://hlinkshowjump?jump=nextslide"/>
            </p:cNvPr>
            <p:cNvSpPr/>
            <p:nvPr/>
          </p:nvSpPr>
          <p:spPr>
            <a:xfrm>
              <a:off x="7236000" y="62208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Орден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медали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8"/>
            <p:cNvSpPr/>
            <p:nvPr/>
          </p:nvSpPr>
          <p:spPr>
            <a:xfrm>
              <a:off x="395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9"/>
            <p:cNvSpPr/>
            <p:nvPr/>
          </p:nvSpPr>
          <p:spPr>
            <a:xfrm>
              <a:off x="2124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0"/>
            <p:cNvSpPr/>
            <p:nvPr/>
          </p:nvSpPr>
          <p:spPr>
            <a:xfrm>
              <a:off x="385128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11"/>
            <p:cNvSpPr/>
            <p:nvPr/>
          </p:nvSpPr>
          <p:spPr>
            <a:xfrm>
              <a:off x="723600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12"/>
            <p:cNvSpPr/>
            <p:nvPr/>
          </p:nvSpPr>
          <p:spPr>
            <a:xfrm>
              <a:off x="395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14"/>
            <p:cNvSpPr/>
            <p:nvPr/>
          </p:nvSpPr>
          <p:spPr>
            <a:xfrm>
              <a:off x="2124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85128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723600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17"/>
            <p:cNvSpPr/>
            <p:nvPr/>
          </p:nvSpPr>
          <p:spPr>
            <a:xfrm>
              <a:off x="395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18"/>
            <p:cNvSpPr/>
            <p:nvPr/>
          </p:nvSpPr>
          <p:spPr>
            <a:xfrm>
              <a:off x="2124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19"/>
            <p:cNvSpPr/>
            <p:nvPr/>
          </p:nvSpPr>
          <p:spPr>
            <a:xfrm>
              <a:off x="385128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0"/>
            <p:cNvSpPr/>
            <p:nvPr/>
          </p:nvSpPr>
          <p:spPr>
            <a:xfrm>
              <a:off x="723600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1"/>
            <p:cNvSpPr/>
            <p:nvPr/>
          </p:nvSpPr>
          <p:spPr>
            <a:xfrm>
              <a:off x="395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22"/>
            <p:cNvSpPr/>
            <p:nvPr/>
          </p:nvSpPr>
          <p:spPr>
            <a:xfrm>
              <a:off x="2124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23"/>
            <p:cNvSpPr/>
            <p:nvPr/>
          </p:nvSpPr>
          <p:spPr>
            <a:xfrm>
              <a:off x="385128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Rectangle 24"/>
            <p:cNvSpPr/>
            <p:nvPr/>
          </p:nvSpPr>
          <p:spPr>
            <a:xfrm>
              <a:off x="723600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Rectangle 25">
              <a:hlinkClick r:id="" action="ppaction://hlinkshowjump?jump=nextslide"/>
            </p:cNvPr>
            <p:cNvSpPr/>
            <p:nvPr/>
          </p:nvSpPr>
          <p:spPr>
            <a:xfrm>
              <a:off x="5508720" y="62064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4" name="Rectangle 26">
              <a:hlinkClick r:id="" action="ppaction://hlinkshowjump?jump=nextslide"/>
            </p:cNvPr>
            <p:cNvSpPr/>
            <p:nvPr/>
          </p:nvSpPr>
          <p:spPr>
            <a:xfrm>
              <a:off x="3851280" y="62208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Совет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ачальники</a:t>
              </a:r>
              <a:r>
                <a:rPr b="0" lang="ru-RU" sz="4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5" name="Rectangle 27"/>
            <p:cNvSpPr/>
            <p:nvPr/>
          </p:nvSpPr>
          <p:spPr>
            <a:xfrm>
              <a:off x="5508720" y="1774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>
              <a:off x="5508720" y="2927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Rectangle 29"/>
            <p:cNvSpPr/>
            <p:nvPr/>
          </p:nvSpPr>
          <p:spPr>
            <a:xfrm>
              <a:off x="5508720" y="4078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8" name="Rectangle 30"/>
            <p:cNvSpPr/>
            <p:nvPr/>
          </p:nvSpPr>
          <p:spPr>
            <a:xfrm>
              <a:off x="5508720" y="523116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9" name="Rectangle 32"/>
            <p:cNvSpPr/>
            <p:nvPr/>
          </p:nvSpPr>
          <p:spPr>
            <a:xfrm>
              <a:off x="5508720" y="695160"/>
              <a:ext cx="1584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енна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техника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и вооружени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cc00"/>
                  </a:solidFill>
                  <a:latin typeface="Tahoma"/>
                </a:rPr>
                <a:t>В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27 января 1942 года в газете «Правда»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публикован очерк Петра Лидова «Таня».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зовите подлинное имя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героини этого очерка, героини-партизанки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1784160" y="220500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611280" y="4797360"/>
            <a:ext cx="7488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оя Космодемьянская (1923-41) – партизанка, Герой Советского Союза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а весь мир прозвучало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имя московского парня, в прошлом рабочего мясокомбината, а теперь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летчика. В ночном воздушном бою он таранил фашистский бомбардировщик. Это был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ервый в мире ночной таран! После этого летчик сбил еще 5 вражеских самолетов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498320" y="299736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250920" y="5300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Талалихин Виктор Васильевич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Отважный летчик, в марте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942 года его самолет был подбит и ему пришлось приземлиться в тылу врага.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18 суток он пробирался к своим. После ампутации обеих ног освоил протезы 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вернулся в строй. Назовите имя героя, как сложилась его судьба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1857240" y="3357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179280" y="5805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ресьев Алексей Петрович (1916-2001)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Рядовой гвардейского стрелкового полка 23.02.1943 года в бою за деревню Чернушки</a:t>
            </a: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(Псковская обл.) закрыл телом амбразуру пулеметного дзота гитлеровцев, препятствовавшего продвижению подразделения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1714320" y="3141720"/>
            <a:ext cx="527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Герои войн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324000" y="57340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тросов Александр Матвеевич (1924-43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Немецкий план ведения войны против СССР назывался…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4808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План Барбаросс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Назовите кодовое название операции немецких войск под Москво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752760" y="1773360"/>
            <a:ext cx="7425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Военные операции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2556000" y="4653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Тайфун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Ёля</cp:lastModifiedBy>
  <dcterms:modified xsi:type="dcterms:W3CDTF">2012-10-08T15:35:30Z</dcterms:modified>
  <cp:revision>47</cp:revision>
  <dc:subject/>
  <dc:title>Презентация PowerPoint</dc:title>
</cp:coreProperties>
</file>