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9F0-FB22-4D48-B06B-FE28589F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E37-BB6F-451A-8814-165D9340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8F7-1DF2-4C3C-8581-87452571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98F-AB97-404F-8B12-085EA69B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3523-2A49-4310-B7F3-A130A8A9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6D0F-F0D2-4A8E-829A-F1264B54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C493-3362-4CCF-A29B-DAE2EF1F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F5EB-3764-40A4-B293-0C8CFDD9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1374-1CE6-4255-B9DC-AC501A0A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C046-85EC-4817-AB23-8C53C9A9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FF6A-2012-451B-BF2A-941BFE3B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178-A5E5-47DF-A467-AD2EDB11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0C3F-099B-49A1-AC7F-5834C73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AA36-DE44-45F0-A238-77580DC7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829C-5F5E-4218-8E3B-94FAF4E3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FAC9-94A3-4F40-948C-264840AC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38AE-5CE6-4D16-87CE-3D82E33C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69A5-201F-4CCA-93B2-50D6C337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3795-7826-4A6B-8A44-AD4F4D5B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22E31-3BE7-4235-BD78-7DAF3539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CDCA-27D1-4495-BF4E-2ED5ABC7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81C8-E77A-4BCA-AF6B-98F5C5B8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27C-E823-4E0C-805B-3D7199A1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25FDB-9ADE-4032-8C8A-3EBD5308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E541-3E56-47A4-B096-041E0E0C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BB42-0B7B-4EB9-B04F-5C5D6105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5350-6EE5-4019-8A6E-D4FC2A7F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90D2-1C88-4F02-AA83-7B1FB03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FB19-66E0-4EEE-BFFB-04BA59EE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D3B0-5F06-4B7A-83A3-84803F74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83B9-44F2-4F60-98AA-B6E6631E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4B2F-9E89-4556-8C05-D2EEF9C7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08B0-2B9C-4854-89D3-7ECDCCBC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E25-0899-47A0-97CD-F1465CA5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4CE6-0293-4803-B4C4-3BA66FF2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D38D-9D3B-4B75-BF57-ADEF9F9D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FA60-C6FD-4F14-B1B7-B3EB9139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14ED-63F0-4E4B-9B55-230A8D2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95B9-9371-4D25-A293-52ECA1EB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A3770-10AA-483C-8964-E487E937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CBBF8-327B-4F0D-8E0F-8F39398E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4F901-6250-4C3E-B995-E4E84737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F3414-4ECE-401C-9A9E-07153DC6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9DD1-9E6C-411F-BDC6-A1CD15E7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BB2-989C-4D95-99DF-B47E9301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156D8-1874-4B86-A199-5B2B3F03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C6795-6D1C-4BCD-91FA-0AC23ABC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5DB8B-EE80-41E1-911D-037B09EB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36E65-CD44-46A3-A90E-8FF5ADB4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028E-C786-4B4B-84A9-43D4606E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A44EC-A72B-4316-B62C-762D536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C158-880D-40D7-928E-FE3AF33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83F4-6CFE-4E66-BFE3-322E795E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4CBC8-6590-4A74-87F7-85269650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FA0A-0C16-4A31-BF42-6C3CD07A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328-6BF4-45A2-8CF9-931B0261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B42F2-0577-4221-AF65-7897742D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78CC2-16C8-4BCF-A0D3-8D1B9863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145DD-92EB-4E9D-BEEA-8E464FAC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F805D-D3B1-45A0-89CD-F706031C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20BA8-4AA0-4725-811A-D0833D9A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C6FF5-FC2D-4E77-A185-2E7CD77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D06BA-3396-4FD7-B5C0-B6295ECA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24FAD-4ADD-4964-992E-37894853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792FD-C658-4B5F-BC80-61DF763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5343A-1FA9-4FD4-B0C9-080A876D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4C5-607F-4D57-8CE7-B373CAF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2A4DE-F8A6-4354-AAD5-5A6CE8A6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32220-0C4D-49E5-805F-B3A69FD9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D3FE7-9EBC-435F-AC07-7B4D5609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3B92F-7C79-484D-9CCE-CA7521FF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6BE0E-81EA-4644-9FDA-04A3ECB4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CE1CF-E131-4E7D-9D52-D130EEA3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CACC5-1BED-4BC4-AF93-98DECB87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33E5-8867-4FDA-98D6-B31AEBFF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2ADA5-8D5B-4C62-92C5-55010209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CC9C6-E655-46AB-88B8-B8423CFC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383-E451-45D4-9D41-C2456503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CF43E-BC3C-4F14-BB00-7044274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0B499-B510-44E3-866D-495DEA6F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8D4A4-936E-44FF-97BE-7BB9EF6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7D657-F93A-4302-B82B-D2531E00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217DD-319B-457E-8E18-4C135461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7E9-6D46-4CCC-9B99-507506A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169F-2860-462C-A89A-7B0B28EF3309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9365-159C-4582-B97C-5CD769BFF8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90FE-A25C-4081-800D-4E3833CF2DD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6AB8-B2EF-461D-B68F-8983C1EBC380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4111-2D8B-4B97-85BF-47FAC20BB1A4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6808-AC31-4113-AA88-E16D17CB8F6D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6DED-53B4-4861-BE81-61D4639CD216}" type="slidenum">
              <a:rPr b="0" lang="ru-RU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378000" y="152280"/>
            <a:ext cx="8315280" cy="1262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42926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убаре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Прямоугольник 3" descr=""/>
          <p:cNvPicPr/>
          <p:nvPr/>
        </p:nvPicPr>
        <p:blipFill>
          <a:blip r:embed="rId2"/>
          <a:stretch/>
        </p:blipFill>
        <p:spPr>
          <a:xfrm>
            <a:off x="109440" y="1920960"/>
            <a:ext cx="9004320" cy="3193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5" descr="печать-круглая.png"/>
          <p:cNvPicPr/>
          <p:nvPr/>
        </p:nvPicPr>
        <p:blipFill>
          <a:blip r:embed="rId3"/>
          <a:stretch/>
        </p:blipFill>
        <p:spPr>
          <a:xfrm>
            <a:off x="0" y="470844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Oval 2"/>
          <p:cNvSpPr/>
          <p:nvPr/>
        </p:nvSpPr>
        <p:spPr>
          <a:xfrm>
            <a:off x="46836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Oval 3"/>
          <p:cNvSpPr/>
          <p:nvPr/>
        </p:nvSpPr>
        <p:spPr>
          <a:xfrm>
            <a:off x="2268360" y="692280"/>
            <a:ext cx="1008360" cy="10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Oval 4"/>
          <p:cNvSpPr/>
          <p:nvPr/>
        </p:nvSpPr>
        <p:spPr>
          <a:xfrm>
            <a:off x="4211640" y="620640"/>
            <a:ext cx="100800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6012000" y="620640"/>
            <a:ext cx="100800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7667640" y="692280"/>
            <a:ext cx="100800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250920" y="5229360"/>
            <a:ext cx="1368360" cy="1368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2050920" y="5229360"/>
            <a:ext cx="13687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3924360" y="5229360"/>
            <a:ext cx="1368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5724360" y="5229360"/>
            <a:ext cx="1368720" cy="1368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7524720" y="522936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C 0.04965 0.17361 0.09948 0.34722 0.03836 0.38241 C -0.02275 0.41759 -0.28976 0.15741 -0.36667 0.21111 C -0.44358 0.26482 -0.43351 0.48472 -0.42327 0.70463 E">
                                      <p:cBhvr>
                                        <p:cTn id="164" dur="5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92593E-006 C -0.05452 0.14282 -0.10886 0.28564 -0.16164 0.30647 C -0.21441 0.32731 -0.26303 0.09606 -0.31667 0.1243 C -0.37049 0.15254 -0.425 0.47476 -0.48334 0.47545 C -0.54167 0.47615 -0.61112 0.14467 -0.66667 0.1287 C -0.7224 0.11272 -0.79653 0.28564 -0.81823 0.37985 C -0.83994 0.47407 -0.80382 0.64004 -0.79671 0.69328 E">
                                      <p:cBhvr>
                                        <p:cTn id="166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Oval 2"/>
          <p:cNvSpPr/>
          <p:nvPr/>
        </p:nvSpPr>
        <p:spPr>
          <a:xfrm>
            <a:off x="46836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Oval 3"/>
          <p:cNvSpPr/>
          <p:nvPr/>
        </p:nvSpPr>
        <p:spPr>
          <a:xfrm>
            <a:off x="2268360" y="692280"/>
            <a:ext cx="1008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Oval 4"/>
          <p:cNvSpPr/>
          <p:nvPr/>
        </p:nvSpPr>
        <p:spPr>
          <a:xfrm>
            <a:off x="421164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Oval 5"/>
          <p:cNvSpPr/>
          <p:nvPr/>
        </p:nvSpPr>
        <p:spPr>
          <a:xfrm>
            <a:off x="601200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Oval 6"/>
          <p:cNvSpPr/>
          <p:nvPr/>
        </p:nvSpPr>
        <p:spPr>
          <a:xfrm>
            <a:off x="7667640" y="69228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d4d4d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250920" y="5229360"/>
            <a:ext cx="1368360" cy="1368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2050920" y="5229360"/>
            <a:ext cx="13687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3924360" y="5229360"/>
            <a:ext cx="1368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5724360" y="5229360"/>
            <a:ext cx="1368720" cy="1368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7524720" y="522936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93 C 0.06753 0.12037 0.13455 0.24167 0.22431 0.26204 C 0.31406 0.28241 0.44531 0.13449 0.53958 0.1213 C 0.63385 0.1081 0.75052 0.12384 0.78958 0.18241 C 0.82865 0.24097 0.84566 0.43889 0.77431 0.47315 C 0.70295 0.50741 0.48125 0.425 0.36181 0.38796 C 0.24236 0.35092 0.12344 0.23773 0.05764 0.25092 C -0.00816 0.26412 -0.0224 0.3919 -0.03264 0.46759 C -0.04288 0.54329 -0.01059 0.66505 -0.00347 0.70463 E">
                                      <p:cBhvr>
                                        <p:cTn id="172" dur="5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19 0.14097 0.03455 0.28217 0.03333 0.37592 C 0.03212 0.46967 0.04011 0.575 -0.00694 0.56296 C -0.05399 0.55092 -0.17969 0.34514 -0.24878 0.3037 C -0.31753 0.26227 -0.37621 0.32847 -0.42083 0.31481 C -0.46545 0.30116 -0.47917 0.25092 -0.51667 0.22222 C -0.55417 0.19352 -0.60885 0.13958 -0.64583 0.14259 C -0.68281 0.1456 -0.74601 0.19977 -0.73889 0.24074 C -0.73177 0.28171 -0.62621 0.31088 -0.60278 0.38889 C -0.57934 0.4669 -0.59948 0.65625 -0.59861 0.70926 E">
                                      <p:cBhvr>
                                        <p:cTn id="174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Oval 2"/>
          <p:cNvSpPr/>
          <p:nvPr/>
        </p:nvSpPr>
        <p:spPr>
          <a:xfrm>
            <a:off x="468360" y="62064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Oval 3"/>
          <p:cNvSpPr/>
          <p:nvPr/>
        </p:nvSpPr>
        <p:spPr>
          <a:xfrm>
            <a:off x="2268360" y="692280"/>
            <a:ext cx="1008360" cy="10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4211640" y="620640"/>
            <a:ext cx="100800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6012000" y="620640"/>
            <a:ext cx="100800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7667640" y="692280"/>
            <a:ext cx="1008000" cy="1008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5a63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50920" y="5229360"/>
            <a:ext cx="1368360" cy="1368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2050920" y="5229360"/>
            <a:ext cx="13687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3924360" y="5229360"/>
            <a:ext cx="1368360" cy="136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5724360" y="5229360"/>
            <a:ext cx="1368720" cy="1368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7524720" y="5229360"/>
            <a:ext cx="1368360" cy="13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0.01059 0.18935 0.02135 0.3787 0.1 0.42431 C 0.17864 0.46991 0.3592 0.28773 0.4717 0.27338 C 0.5842 0.25903 0.72257 0.26782 0.775 0.33773 C 0.82743 0.40764 0.78472 0.63472 0.78663 0.69329 E">
                                      <p:cBhvr>
                                        <p:cTn id="180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7.03704E-006 C 0.17275 0.10925 0.34549 0.21851 0.41181 0.33772 C 0.47813 0.45694 0.4382 0.5861 0.39844 0.7155 E">
                                      <p:cBhvr>
                                        <p:cTn id="182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C -0.00346 0.29421 -0.00695 0.58866 -0.01007 0.70648 E">
                                      <p:cBhvr>
                                        <p:cTn id="184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C -0.20625 0.11088 -0.4125 0.22176 -0.47968 0.34213 C -0.54687 0.4625 -0.475 0.59236 -0.40312 0.72222 E">
                                      <p:cBhvr>
                                        <p:cTn id="186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92593E-006 C 0.02586 0.21388 0.05225 0.42777 -0.07657 0.47545 C -0.20539 0.52314 -0.65348 0.24768 -0.77344 0.28657 C -0.89323 0.32545 -0.84497 0.51712 -0.79671 0.70879 E">
                                      <p:cBhvr>
                                        <p:cTn id="18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6840" y="1341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orbel"/>
              </a:rPr>
              <a:t>«Девочки нашего класса дежурят в столовой. Сколькими способами можно выбрать двух дежурных в столовую из 5 девочек?»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4" descr=""/>
          <p:cNvPicPr/>
          <p:nvPr/>
        </p:nvPicPr>
        <p:blipFill>
          <a:blip r:embed="rId1"/>
          <a:stretch/>
        </p:blipFill>
        <p:spPr>
          <a:xfrm>
            <a:off x="268200" y="244440"/>
            <a:ext cx="8285400" cy="1260360"/>
          </a:xfrm>
          <a:prstGeom prst="rect">
            <a:avLst/>
          </a:prstGeom>
          <a:ln w="0">
            <a:noFill/>
          </a:ln>
        </p:spPr>
      </p:pic>
      <p:sp>
        <p:nvSpPr>
          <p:cNvPr id="310" name="Oval 8"/>
          <p:cNvSpPr/>
          <p:nvPr/>
        </p:nvSpPr>
        <p:spPr>
          <a:xfrm>
            <a:off x="140328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Oval 13"/>
          <p:cNvSpPr/>
          <p:nvPr/>
        </p:nvSpPr>
        <p:spPr>
          <a:xfrm>
            <a:off x="774072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4"/>
          <p:cNvSpPr/>
          <p:nvPr/>
        </p:nvSpPr>
        <p:spPr>
          <a:xfrm>
            <a:off x="428472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637236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16"/>
          <p:cNvSpPr/>
          <p:nvPr/>
        </p:nvSpPr>
        <p:spPr>
          <a:xfrm>
            <a:off x="284328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7"/>
          <p:cNvSpPr/>
          <p:nvPr/>
        </p:nvSpPr>
        <p:spPr>
          <a:xfrm flipV="1">
            <a:off x="1476360" y="191628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1476360" y="342900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1476360" y="342900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1476360" y="3429000"/>
            <a:ext cx="136692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397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3976920" y="136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1026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793800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6642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224964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26" name="Oval 8"/>
          <p:cNvSpPr/>
          <p:nvPr/>
        </p:nvSpPr>
        <p:spPr>
          <a:xfrm>
            <a:off x="140328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774072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428472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6372360" y="5950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Oval 12"/>
          <p:cNvSpPr/>
          <p:nvPr/>
        </p:nvSpPr>
        <p:spPr>
          <a:xfrm>
            <a:off x="284328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3"/>
          <p:cNvSpPr/>
          <p:nvPr/>
        </p:nvSpPr>
        <p:spPr>
          <a:xfrm flipV="1">
            <a:off x="1476360" y="191628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4"/>
          <p:cNvSpPr/>
          <p:nvPr/>
        </p:nvSpPr>
        <p:spPr>
          <a:xfrm>
            <a:off x="1476360" y="3429000"/>
            <a:ext cx="633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1476360" y="3429000"/>
            <a:ext cx="4896000" cy="252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1476360" y="3500280"/>
            <a:ext cx="1366920" cy="259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397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976920" y="136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1026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793800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642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224964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3"/>
          <p:cNvSpPr/>
          <p:nvPr/>
        </p:nvSpPr>
        <p:spPr>
          <a:xfrm>
            <a:off x="4284720" y="1916280"/>
            <a:ext cx="345600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4284720" y="1916280"/>
            <a:ext cx="2087640" cy="403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5"/>
          <p:cNvSpPr/>
          <p:nvPr/>
        </p:nvSpPr>
        <p:spPr>
          <a:xfrm flipH="1">
            <a:off x="2916000" y="191628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45" name="Oval 8"/>
          <p:cNvSpPr/>
          <p:nvPr/>
        </p:nvSpPr>
        <p:spPr>
          <a:xfrm>
            <a:off x="1403280" y="3429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774072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428472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Oval 11"/>
          <p:cNvSpPr/>
          <p:nvPr/>
        </p:nvSpPr>
        <p:spPr>
          <a:xfrm>
            <a:off x="637236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Oval 12"/>
          <p:cNvSpPr/>
          <p:nvPr/>
        </p:nvSpPr>
        <p:spPr>
          <a:xfrm>
            <a:off x="2843280" y="609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13"/>
          <p:cNvSpPr/>
          <p:nvPr/>
        </p:nvSpPr>
        <p:spPr>
          <a:xfrm flipV="1">
            <a:off x="1476360" y="191628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14"/>
          <p:cNvSpPr/>
          <p:nvPr/>
        </p:nvSpPr>
        <p:spPr>
          <a:xfrm>
            <a:off x="1476360" y="3429000"/>
            <a:ext cx="633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5"/>
          <p:cNvSpPr/>
          <p:nvPr/>
        </p:nvSpPr>
        <p:spPr>
          <a:xfrm>
            <a:off x="1476360" y="342900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6"/>
          <p:cNvSpPr/>
          <p:nvPr/>
        </p:nvSpPr>
        <p:spPr>
          <a:xfrm>
            <a:off x="1476360" y="3500280"/>
            <a:ext cx="1366920" cy="259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397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385308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026000" y="30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793800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6642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224964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23"/>
          <p:cNvSpPr/>
          <p:nvPr/>
        </p:nvSpPr>
        <p:spPr>
          <a:xfrm>
            <a:off x="4284720" y="1916280"/>
            <a:ext cx="345600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4284720" y="1916280"/>
            <a:ext cx="2087640" cy="41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25"/>
          <p:cNvSpPr/>
          <p:nvPr/>
        </p:nvSpPr>
        <p:spPr>
          <a:xfrm flipH="1">
            <a:off x="2916000" y="191628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26"/>
          <p:cNvSpPr/>
          <p:nvPr/>
        </p:nvSpPr>
        <p:spPr>
          <a:xfrm flipH="1">
            <a:off x="6372000" y="3500280"/>
            <a:ext cx="1368360" cy="259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7"/>
          <p:cNvSpPr/>
          <p:nvPr/>
        </p:nvSpPr>
        <p:spPr>
          <a:xfrm flipH="1">
            <a:off x="2916000" y="3429000"/>
            <a:ext cx="482436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28"/>
          <p:cNvSpPr/>
          <p:nvPr/>
        </p:nvSpPr>
        <p:spPr>
          <a:xfrm>
            <a:off x="2916360" y="6093000"/>
            <a:ext cx="34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Corbel"/>
              </a:rPr>
              <a:t>«Девочки нашего класса решили обменяться фотографиями. Сколько нужно фотографий, учитывая что их 5 человек?»</a:t>
            </a:r>
            <a:endParaRPr b="0" lang="en-US" sz="5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69" name="Oval 8"/>
          <p:cNvSpPr/>
          <p:nvPr/>
        </p:nvSpPr>
        <p:spPr>
          <a:xfrm>
            <a:off x="1403280" y="3860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Oval 9"/>
          <p:cNvSpPr/>
          <p:nvPr/>
        </p:nvSpPr>
        <p:spPr>
          <a:xfrm>
            <a:off x="7740720" y="3860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4284720" y="2276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11"/>
          <p:cNvSpPr/>
          <p:nvPr/>
        </p:nvSpPr>
        <p:spPr>
          <a:xfrm>
            <a:off x="6372360" y="6524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2843280" y="6524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1476360" y="234792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>
            <a:off x="1476360" y="3860640"/>
            <a:ext cx="6264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1476360" y="386064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1476360" y="3860640"/>
            <a:ext cx="136692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399564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399780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1026000" y="344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7938000" y="33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6642360" y="604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2249640" y="625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4" descr=""/>
          <p:cNvPicPr/>
          <p:nvPr/>
        </p:nvPicPr>
        <p:blipFill>
          <a:blip r:embed="rId1"/>
          <a:stretch/>
        </p:blipFill>
        <p:spPr>
          <a:xfrm>
            <a:off x="-23760" y="146160"/>
            <a:ext cx="8435880" cy="1298520"/>
          </a:xfrm>
          <a:prstGeom prst="rect">
            <a:avLst/>
          </a:prstGeom>
          <a:ln w="0">
            <a:noFill/>
          </a:ln>
        </p:spPr>
      </p:pic>
      <p:sp>
        <p:nvSpPr>
          <p:cNvPr id="385" name="Oval 26"/>
          <p:cNvSpPr/>
          <p:nvPr/>
        </p:nvSpPr>
        <p:spPr>
          <a:xfrm>
            <a:off x="1403280" y="38624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Oval 27"/>
          <p:cNvSpPr/>
          <p:nvPr/>
        </p:nvSpPr>
        <p:spPr>
          <a:xfrm>
            <a:off x="7740720" y="3862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Oval 28"/>
          <p:cNvSpPr/>
          <p:nvPr/>
        </p:nvSpPr>
        <p:spPr>
          <a:xfrm>
            <a:off x="4284720" y="2278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372360" y="63831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2843280" y="6526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1"/>
          <p:cNvSpPr/>
          <p:nvPr/>
        </p:nvSpPr>
        <p:spPr>
          <a:xfrm flipV="1">
            <a:off x="1476360" y="2349000"/>
            <a:ext cx="2808360" cy="1513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2"/>
          <p:cNvSpPr/>
          <p:nvPr/>
        </p:nvSpPr>
        <p:spPr>
          <a:xfrm flipV="1">
            <a:off x="1476360" y="3860280"/>
            <a:ext cx="626436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476360" y="3862440"/>
            <a:ext cx="4896000" cy="252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34"/>
          <p:cNvSpPr/>
          <p:nvPr/>
        </p:nvSpPr>
        <p:spPr>
          <a:xfrm>
            <a:off x="1547640" y="3933720"/>
            <a:ext cx="1366920" cy="259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3975120" y="1793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3976920" y="179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1026000" y="344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7938000" y="33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6642360" y="604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2249640" y="625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41"/>
          <p:cNvSpPr/>
          <p:nvPr/>
        </p:nvSpPr>
        <p:spPr>
          <a:xfrm>
            <a:off x="4284720" y="2349360"/>
            <a:ext cx="3456000" cy="1513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42"/>
          <p:cNvSpPr/>
          <p:nvPr/>
        </p:nvSpPr>
        <p:spPr>
          <a:xfrm>
            <a:off x="4284720" y="2349360"/>
            <a:ext cx="2087640" cy="4033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2916000" y="234936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4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04" name="Oval 8"/>
          <p:cNvSpPr/>
          <p:nvPr/>
        </p:nvSpPr>
        <p:spPr>
          <a:xfrm>
            <a:off x="1403280" y="3789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Oval 9"/>
          <p:cNvSpPr/>
          <p:nvPr/>
        </p:nvSpPr>
        <p:spPr>
          <a:xfrm>
            <a:off x="774072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4284720" y="2205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Oval 11"/>
          <p:cNvSpPr/>
          <p:nvPr/>
        </p:nvSpPr>
        <p:spPr>
          <a:xfrm>
            <a:off x="6372360" y="645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val 12"/>
          <p:cNvSpPr/>
          <p:nvPr/>
        </p:nvSpPr>
        <p:spPr>
          <a:xfrm>
            <a:off x="2843280" y="645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13"/>
          <p:cNvSpPr/>
          <p:nvPr/>
        </p:nvSpPr>
        <p:spPr>
          <a:xfrm flipV="1">
            <a:off x="1476360" y="2276640"/>
            <a:ext cx="2808360" cy="151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1476360" y="3789360"/>
            <a:ext cx="6335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76360" y="3789360"/>
            <a:ext cx="489600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>
            <a:off x="1476360" y="3860640"/>
            <a:ext cx="1366920" cy="259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397512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3976920" y="172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102600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7938000" y="323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6642360" y="596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2249640" y="61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23"/>
          <p:cNvSpPr/>
          <p:nvPr/>
        </p:nvSpPr>
        <p:spPr>
          <a:xfrm>
            <a:off x="4284720" y="2276640"/>
            <a:ext cx="3456000" cy="151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24"/>
          <p:cNvSpPr/>
          <p:nvPr/>
        </p:nvSpPr>
        <p:spPr>
          <a:xfrm>
            <a:off x="4284720" y="2276640"/>
            <a:ext cx="2087640" cy="41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25"/>
          <p:cNvSpPr/>
          <p:nvPr/>
        </p:nvSpPr>
        <p:spPr>
          <a:xfrm flipH="1">
            <a:off x="2916000" y="2276640"/>
            <a:ext cx="1368360" cy="41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26"/>
          <p:cNvSpPr/>
          <p:nvPr/>
        </p:nvSpPr>
        <p:spPr>
          <a:xfrm flipH="1">
            <a:off x="6372000" y="3860640"/>
            <a:ext cx="1368360" cy="2592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27"/>
          <p:cNvSpPr/>
          <p:nvPr/>
        </p:nvSpPr>
        <p:spPr>
          <a:xfrm flipH="1">
            <a:off x="2916000" y="3789360"/>
            <a:ext cx="4824360" cy="266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28"/>
          <p:cNvSpPr/>
          <p:nvPr/>
        </p:nvSpPr>
        <p:spPr>
          <a:xfrm>
            <a:off x="2916360" y="6453360"/>
            <a:ext cx="3456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6:17:03Z</dcterms:created>
  <dc:creator>Alex</dc:creator>
  <dc:description/>
  <dc:language>en-US</dc:language>
  <cp:lastModifiedBy>Ёля</cp:lastModifiedBy>
  <dcterms:modified xsi:type="dcterms:W3CDTF">2012-11-12T15:12:28Z</dcterms:modified>
  <cp:revision>16</cp:revision>
  <dc:subject/>
  <dc:title>РОССИЯ</dc:title>
</cp:coreProperties>
</file>