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7.gif" ContentType="image/gif"/>
  <Override PartName="/ppt/media/image8.gif" ContentType="image/gif"/>
  <Override PartName="/ppt/media/image9.gif" ContentType="image/gi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6396-DF50-45A4-8991-B8B15BD5C0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E8C47-4A92-4E85-A3F0-62A8D5512ABE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510C-2105-464C-9171-7512D947DB66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A78C-60FD-47C2-AD75-BD52315D67FE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EECD-C6F1-466B-B243-1C746DFFA69A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BFE2-4A3B-41E8-B41F-E377FF40BEAC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A94D-7153-4285-985E-763D76467EE4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00C6-3D59-428C-A867-430CAF41427C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7BB8-8E90-405E-8096-C91A40815098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B557-25B3-40A8-A674-7C8E3A6604ED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ECB6-8FCC-496D-9ED1-6B283786C79A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0BB0-2367-4949-A965-7C0C25B5C7E5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8830-048E-411E-87A0-8D53C9C45092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F38A-D0BD-4446-8292-2871BB1C0D1D}" type="slidenum">
              <a:rPr b="0" lang="ru-RU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6CC2-4722-4F56-8D64-8B052260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131-DFEE-4D81-B7D7-5AD001B1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E861-7FE8-47D0-A64D-73DA49BE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B210-1948-4027-974B-80B829B0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8E67-6581-4ADB-8F9E-763FA570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5CA5-D9C5-49CE-B833-C07A9359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2CCC-E71E-4D63-850B-EBE77A65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7CB0-6990-43A7-A5A2-A7F5E32D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E4CA-693A-4E0B-8C3A-E8552D82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4695E-5E1D-45A8-890A-1DA94054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729D-B13B-43E2-A050-CFF0DC3F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9E49-A435-4477-8DBF-1E557CC2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37E9-78BB-40D4-89D8-A4BA8F29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0E5C-DF5A-4B75-A77D-93BE80F7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B8C5-7B55-43A6-8511-5C4926B5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5B08-986D-4844-8B63-A9BEB099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09F1-4870-4E26-BBFA-E585A6051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FE77-5BD0-4BE5-B065-BB134C94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F80-20D8-4C3F-8645-0322D830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228-1B70-4F4A-8F36-B351485A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A762-4D32-4598-AE30-B6856EA8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039-CF74-49FC-A299-70464AEE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98C-6713-4049-8F7C-9DAAB982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534D-004F-421F-9845-7A1C5D6F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ABFC-8DDF-4B5A-A33F-3F87C42F2D94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1031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1032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1033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34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035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036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037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038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039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040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Rectangle 1041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042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043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1044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1045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05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205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205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205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205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205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205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205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206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206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206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206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419E-EAA2-4EF4-A9AE-CD84FCCB4E9C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estival.1september.ru/" TargetMode="External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899640" y="1844280"/>
            <a:ext cx="7417080" cy="25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Тема урока: «Решение алгоритмических задач. Исполнение фрагмента программ.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4572000" y="4437000"/>
            <a:ext cx="40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Автор: Барсукова М.А., </a:t>
            </a:r>
            <a:br>
              <a:rPr sz="2400"/>
            </a:b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учитель информатики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МБОУ СОШ №76 г.Ульяновск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80880" y="765000"/>
          <a:ext cx="8439120" cy="5212080"/>
        </p:xfrm>
        <a:graphic>
          <a:graphicData uri="http://schemas.openxmlformats.org/drawingml/2006/table">
            <a:tbl>
              <a:tblPr/>
              <a:tblGrid>
                <a:gridCol w="1204920"/>
                <a:gridCol w="1027080"/>
                <a:gridCol w="1076400"/>
                <a:gridCol w="2565360"/>
                <a:gridCol w="2565360"/>
              </a:tblGrid>
              <a:tr h="106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интерации цикла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Значение х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Значение у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x&lt;&gt;y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x&gt;y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&gt;20 – нет (вычитаем х из у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выполняем тело цикла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&gt;5 – да (вычитаем у из х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выполняем тело цикла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&gt;5 – да (вычитаем у из х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67840" cy="11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00"/>
                </a:solidFill>
                <a:uFillTx/>
                <a:latin typeface="Tahoma"/>
              </a:rPr>
              <a:t>Пример 2</a:t>
            </a:r>
            <a:r>
              <a:rPr b="0" lang="ru-RU" sz="3200" spc="-1" strike="noStrike">
                <a:solidFill>
                  <a:srgbClr val="ffff00"/>
                </a:solidFill>
                <a:latin typeface="Tahoma"/>
              </a:rPr>
              <a:t>.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пределите значение целочисленных переменных после выполнения фрагмента программ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8763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x:=5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y:=7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:=x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x:=y mod x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y:=t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96" name="Picture 5" descr="j0288928"/>
          <p:cNvPicPr/>
          <p:nvPr/>
        </p:nvPicPr>
        <p:blipFill>
          <a:blip r:embed="rId1"/>
          <a:stretch/>
        </p:blipFill>
        <p:spPr>
          <a:xfrm>
            <a:off x="5195880" y="2349360"/>
            <a:ext cx="2616120" cy="247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360"/>
                            </p:stCondLst>
                            <p:childTnLst>
                              <p:par>
                                <p:cTn id="2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360"/>
                            </p:stCondLst>
                            <p:childTnLst>
                              <p:par>
                                <p:cTn id="2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36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636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360"/>
                            </p:stCondLst>
                            <p:childTnLst>
                              <p:par>
                                <p:cTn id="2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8360"/>
                            </p:stCondLst>
                            <p:childTnLst>
                              <p:par>
                                <p:cTn id="2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ahoma"/>
              </a:rPr>
              <a:t>Решение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ставим и заполним таблиц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85800" y="1295280"/>
          <a:ext cx="7772400" cy="47833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117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аг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чение х после шага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чение у после шага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начение 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ле шага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=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=7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определено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9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=x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=y mod x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=t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Задание 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7632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Что нарисует Улитка, выполнив следующую программу?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24000" y="1341360"/>
            <a:ext cx="4535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РОГРАММА </a:t>
            </a:r>
            <a:br>
              <a:rPr sz="1600"/>
            </a:b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2,0)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2,-4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-2,-4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-2,0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0,0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одними перо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1,-1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опусти перо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1,-3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-1,-3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-1,-1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1,-1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одними перо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-2,0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опусти перо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0,2)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переведи в точку (2,0) </a:t>
            </a:r>
            <a:br>
              <a:rPr sz="1600"/>
            </a:b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 КОНЕЦ   </a:t>
            </a:r>
            <a:br>
              <a:rPr sz="1600"/>
            </a:b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03" name="Group 65"/>
          <p:cNvGrpSpPr/>
          <p:nvPr/>
        </p:nvGrpSpPr>
        <p:grpSpPr>
          <a:xfrm>
            <a:off x="3995640" y="1413000"/>
            <a:ext cx="4392720" cy="4608360"/>
            <a:chOff x="3995640" y="1413000"/>
            <a:chExt cx="4392720" cy="4608360"/>
          </a:xfrm>
        </p:grpSpPr>
        <p:sp>
          <p:nvSpPr>
            <p:cNvPr id="204" name="Line 25"/>
            <p:cNvSpPr/>
            <p:nvPr/>
          </p:nvSpPr>
          <p:spPr>
            <a:xfrm>
              <a:off x="435600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5" name="Line 26"/>
            <p:cNvSpPr/>
            <p:nvPr/>
          </p:nvSpPr>
          <p:spPr>
            <a:xfrm>
              <a:off x="464328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500364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7" name="Line 28"/>
            <p:cNvSpPr/>
            <p:nvPr/>
          </p:nvSpPr>
          <p:spPr>
            <a:xfrm>
              <a:off x="558000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8" name="Line 29"/>
            <p:cNvSpPr/>
            <p:nvPr/>
          </p:nvSpPr>
          <p:spPr>
            <a:xfrm>
              <a:off x="594036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9" name="Line 30"/>
            <p:cNvSpPr/>
            <p:nvPr/>
          </p:nvSpPr>
          <p:spPr>
            <a:xfrm>
              <a:off x="622764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0" name="Line 31"/>
            <p:cNvSpPr/>
            <p:nvPr/>
          </p:nvSpPr>
          <p:spPr>
            <a:xfrm>
              <a:off x="687708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1" name="Line 32"/>
            <p:cNvSpPr/>
            <p:nvPr/>
          </p:nvSpPr>
          <p:spPr>
            <a:xfrm>
              <a:off x="716436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2" name="Line 33"/>
            <p:cNvSpPr/>
            <p:nvPr/>
          </p:nvSpPr>
          <p:spPr>
            <a:xfrm>
              <a:off x="774072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3" name="Line 34"/>
            <p:cNvSpPr/>
            <p:nvPr/>
          </p:nvSpPr>
          <p:spPr>
            <a:xfrm>
              <a:off x="810108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4" name="Line 37"/>
            <p:cNvSpPr/>
            <p:nvPr/>
          </p:nvSpPr>
          <p:spPr>
            <a:xfrm>
              <a:off x="529272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5" name="Line 39"/>
            <p:cNvSpPr/>
            <p:nvPr/>
          </p:nvSpPr>
          <p:spPr>
            <a:xfrm>
              <a:off x="651672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6" name="Line 41"/>
            <p:cNvSpPr/>
            <p:nvPr/>
          </p:nvSpPr>
          <p:spPr>
            <a:xfrm>
              <a:off x="7451640" y="1413000"/>
              <a:ext cx="0" cy="460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7" name="Line 43"/>
            <p:cNvSpPr/>
            <p:nvPr/>
          </p:nvSpPr>
          <p:spPr>
            <a:xfrm>
              <a:off x="3995640" y="177300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8" name="Line 44"/>
            <p:cNvSpPr/>
            <p:nvPr/>
          </p:nvSpPr>
          <p:spPr>
            <a:xfrm>
              <a:off x="3995640" y="206064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9" name="Line 45"/>
            <p:cNvSpPr/>
            <p:nvPr/>
          </p:nvSpPr>
          <p:spPr>
            <a:xfrm>
              <a:off x="3995640" y="242100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0" name="Line 46"/>
            <p:cNvSpPr/>
            <p:nvPr/>
          </p:nvSpPr>
          <p:spPr>
            <a:xfrm>
              <a:off x="3995640" y="278136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1" name="Line 47"/>
            <p:cNvSpPr/>
            <p:nvPr/>
          </p:nvSpPr>
          <p:spPr>
            <a:xfrm>
              <a:off x="3995640" y="306864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2" name="Line 48"/>
            <p:cNvSpPr/>
            <p:nvPr/>
          </p:nvSpPr>
          <p:spPr>
            <a:xfrm>
              <a:off x="3995640" y="342900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3" name="Line 49"/>
            <p:cNvSpPr/>
            <p:nvPr/>
          </p:nvSpPr>
          <p:spPr>
            <a:xfrm>
              <a:off x="3995640" y="378936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4" name="Line 50"/>
            <p:cNvSpPr/>
            <p:nvPr/>
          </p:nvSpPr>
          <p:spPr>
            <a:xfrm>
              <a:off x="3995640" y="407808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5" name="Line 51"/>
            <p:cNvSpPr/>
            <p:nvPr/>
          </p:nvSpPr>
          <p:spPr>
            <a:xfrm>
              <a:off x="3995640" y="436536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6" name="Line 52"/>
            <p:cNvSpPr/>
            <p:nvPr/>
          </p:nvSpPr>
          <p:spPr>
            <a:xfrm>
              <a:off x="3995640" y="465300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7" name="Line 53"/>
            <p:cNvSpPr/>
            <p:nvPr/>
          </p:nvSpPr>
          <p:spPr>
            <a:xfrm>
              <a:off x="3995640" y="501336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8" name="Line 54"/>
            <p:cNvSpPr/>
            <p:nvPr/>
          </p:nvSpPr>
          <p:spPr>
            <a:xfrm>
              <a:off x="3995640" y="501336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29" name="Line 55"/>
            <p:cNvSpPr/>
            <p:nvPr/>
          </p:nvSpPr>
          <p:spPr>
            <a:xfrm>
              <a:off x="3995640" y="537372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0" name="Line 56"/>
            <p:cNvSpPr/>
            <p:nvPr/>
          </p:nvSpPr>
          <p:spPr>
            <a:xfrm>
              <a:off x="3995640" y="5661000"/>
              <a:ext cx="4392720" cy="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1" name="Line 58"/>
            <p:cNvSpPr/>
            <p:nvPr/>
          </p:nvSpPr>
          <p:spPr>
            <a:xfrm flipV="1">
              <a:off x="6227640" y="1628640"/>
              <a:ext cx="0" cy="403200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32" name="Line 61"/>
            <p:cNvSpPr/>
            <p:nvPr/>
          </p:nvSpPr>
          <p:spPr>
            <a:xfrm>
              <a:off x="4356000" y="3429000"/>
              <a:ext cx="3816360" cy="0"/>
            </a:xfrm>
            <a:prstGeom prst="line">
              <a:avLst/>
            </a:prstGeom>
            <a:ln w="76320">
              <a:solidFill>
                <a:srgbClr val="f8f8f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33" name="Line 66"/>
          <p:cNvSpPr/>
          <p:nvPr/>
        </p:nvSpPr>
        <p:spPr>
          <a:xfrm>
            <a:off x="6227640" y="3429000"/>
            <a:ext cx="6494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Line 67"/>
          <p:cNvSpPr/>
          <p:nvPr/>
        </p:nvSpPr>
        <p:spPr>
          <a:xfrm>
            <a:off x="6877080" y="3429000"/>
            <a:ext cx="0" cy="1224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Line 68"/>
          <p:cNvSpPr/>
          <p:nvPr/>
        </p:nvSpPr>
        <p:spPr>
          <a:xfrm flipH="1">
            <a:off x="5579640" y="4653000"/>
            <a:ext cx="12970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Line 69"/>
          <p:cNvSpPr/>
          <p:nvPr/>
        </p:nvSpPr>
        <p:spPr>
          <a:xfrm flipV="1">
            <a:off x="5580000" y="3429000"/>
            <a:ext cx="0" cy="1224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Line 70"/>
          <p:cNvSpPr/>
          <p:nvPr/>
        </p:nvSpPr>
        <p:spPr>
          <a:xfrm>
            <a:off x="5580000" y="3429000"/>
            <a:ext cx="64764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8" name="Line 71"/>
          <p:cNvSpPr/>
          <p:nvPr/>
        </p:nvSpPr>
        <p:spPr>
          <a:xfrm>
            <a:off x="6516720" y="3789360"/>
            <a:ext cx="0" cy="576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Line 72"/>
          <p:cNvSpPr/>
          <p:nvPr/>
        </p:nvSpPr>
        <p:spPr>
          <a:xfrm flipH="1">
            <a:off x="5940000" y="4365720"/>
            <a:ext cx="5763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Line 73"/>
          <p:cNvSpPr/>
          <p:nvPr/>
        </p:nvSpPr>
        <p:spPr>
          <a:xfrm flipV="1">
            <a:off x="5940360" y="3789000"/>
            <a:ext cx="0" cy="576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Line 74"/>
          <p:cNvSpPr/>
          <p:nvPr/>
        </p:nvSpPr>
        <p:spPr>
          <a:xfrm>
            <a:off x="5940360" y="3789360"/>
            <a:ext cx="57636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2" name="Line 75"/>
          <p:cNvSpPr/>
          <p:nvPr/>
        </p:nvSpPr>
        <p:spPr>
          <a:xfrm flipV="1">
            <a:off x="5580000" y="2781000"/>
            <a:ext cx="647640" cy="6476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Line 76"/>
          <p:cNvSpPr/>
          <p:nvPr/>
        </p:nvSpPr>
        <p:spPr>
          <a:xfrm>
            <a:off x="6227640" y="2781360"/>
            <a:ext cx="649440" cy="6476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44" name="Picture 22" descr="a46"/>
          <p:cNvPicPr/>
          <p:nvPr/>
        </p:nvPicPr>
        <p:blipFill>
          <a:blip r:embed="rId1"/>
          <a:stretch/>
        </p:blipFill>
        <p:spPr>
          <a:xfrm>
            <a:off x="5940360" y="2997360"/>
            <a:ext cx="720720" cy="63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60"/>
                            </p:stCondLst>
                            <p:childTnLst>
                              <p:par>
                                <p:cTn id="2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36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86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36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31214E-006 L 0.071 2.31214E-006 E">
                                      <p:cBhvr>
                                        <p:cTn id="287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10360"/>
                            </p:stCondLst>
                            <p:childTnLst>
                              <p:par>
                                <p:cTn id="2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2.31214E-006 L 0.071 0.16786 E">
                                      <p:cBhvr>
                                        <p:cTn id="295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5360"/>
                            </p:stCondLst>
                            <p:childTnLst>
                              <p:par>
                                <p:cTn id="2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0.16787 L -0.07084 0.16787 E">
                                      <p:cBhvr>
                                        <p:cTn id="300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0360"/>
                            </p:stCondLst>
                            <p:childTnLst>
                              <p:par>
                                <p:cTn id="3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4 0.16787 L -0.07084 -0.0104 E">
                                      <p:cBhvr>
                                        <p:cTn id="308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360"/>
                            </p:stCondLst>
                            <p:childTnLst>
                              <p:par>
                                <p:cTn id="31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4 -0.0104 L 0.00798 -0.0104 E">
                                      <p:cBhvr>
                                        <p:cTn id="313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360"/>
                            </p:stCondLst>
                            <p:childTnLst>
                              <p:par>
                                <p:cTn id="3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89017E-006 C 0.00972 0.01942 -0.00504 -0.00694 0.00955 0.00856 C 0.01076 0.00994 0.01041 0.01295 0.01111 0.0148 C 0.01198 0.01711 0.01319 0.01896 0.01423 0.02104 C 0.01475 0.02382 0.01423 0.02752 0.0158 0.0296 C 0.01736 0.03168 0.02152 0.0289 0.02222 0.03168 C 0.02413 0.03838 0.02222 0.04578 0.02222 0.05295 E">
                                      <p:cBhvr>
                                        <p:cTn id="321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536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0.05295 L 0.02222 0.13688 E">
                                      <p:cBhvr>
                                        <p:cTn id="324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40360"/>
                            </p:stCondLst>
                            <p:childTnLst>
                              <p:par>
                                <p:cTn id="3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2 0.13688 L -0.0408 0.13688 E">
                                      <p:cBhvr>
                                        <p:cTn id="329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5360"/>
                            </p:stCondLst>
                            <p:childTnLst>
                              <p:par>
                                <p:cTn id="3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8 0.13689 L -0.0408 0.05296 E">
                                      <p:cBhvr>
                                        <p:cTn id="337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360"/>
                            </p:stCondLst>
                            <p:childTnLst>
                              <p:par>
                                <p:cTn id="3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08 0.05295 L 0.02222 0.05295 E">
                                      <p:cBhvr>
                                        <p:cTn id="342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5360"/>
                            </p:stCondLst>
                            <p:childTnLst>
                              <p:par>
                                <p:cTn id="3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23 0.05295 C -0.02066 0.03307 -0.06336 0.01318 -0.07934 0.0044 E">
                                      <p:cBhvr>
                                        <p:cTn id="350" dur="5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5860"/>
                            </p:stCondLst>
                            <p:childTnLst>
                              <p:par>
                                <p:cTn id="3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83 -0.0104 L -0.00781 -0.10473 E">
                                      <p:cBhvr>
                                        <p:cTn id="353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60860"/>
                            </p:stCondLst>
                            <p:childTnLst>
                              <p:par>
                                <p:cTn id="3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0.10474 L 0.06319 0.00023 E">
                                      <p:cBhvr>
                                        <p:cTn id="358" dur="5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Список литератур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Андреева Е.В. Математические основы информатики. Элективный курс: Учебное пособие/М.: БИНОМ. Лаборатория знаний, 2005.-328с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Бондарев В.М., Рублинецкий В.И., Качко Е.Г. Основы программирования/ Харьков: Фолио, 1997.- 386с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Кузнецов А.А. Информатика. Тестовые задания. – 2-е изд., испр. – М.: БИНОМ. Лаборатория знаний, 2003.-232с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Мациевский С.В., Ишанов С.А., Клевцур С.В. Информатика: Учебное пособие/ Калининград: КГУ, 2003.-140с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ahoma"/>
                <a:hlinkClick r:id="rId1"/>
              </a:rPr>
              <a:t>http://festival.1september.ru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247" name="Picture 4" descr="j0356789"/>
          <p:cNvPicPr/>
          <p:nvPr/>
        </p:nvPicPr>
        <p:blipFill>
          <a:blip r:embed="rId2"/>
          <a:stretch/>
        </p:blipFill>
        <p:spPr>
          <a:xfrm>
            <a:off x="7288200" y="338040"/>
            <a:ext cx="146052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3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3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3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680"/>
                            </p:stCondLst>
                            <p:childTnLst>
                              <p:par>
                                <p:cTn id="3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3000" y="69228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ffff"/>
                </a:solidFill>
                <a:latin typeface="Tahoma"/>
              </a:rPr>
              <a:t>Цели урока: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закрепить знания систем команд и конструкций алгоритмов-исполнителей;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формировать операционный стиль мышления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94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Ход уро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989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1. Организационной момент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2. Актуализация знаний по теме: «Алгоритмизация и основы программирования в среде Паскаль»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3. Изучение нового материала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4. Закрепление изученного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5. Подведение итогов урока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6. Домашнее задание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3" name="Picture 2" descr="j0283002"/>
          <p:cNvPicPr/>
          <p:nvPr/>
        </p:nvPicPr>
        <p:blipFill>
          <a:blip r:embed="rId1"/>
          <a:stretch/>
        </p:blipFill>
        <p:spPr>
          <a:xfrm>
            <a:off x="6012000" y="3860640"/>
            <a:ext cx="2371680" cy="23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Фронтальный опрос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79"/>
          <p:cNvSpPr/>
          <p:nvPr/>
        </p:nvSpPr>
        <p:spPr>
          <a:xfrm>
            <a:off x="179280" y="902160"/>
            <a:ext cx="8496360" cy="55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четкая, понятная исполнителю серия команд, позволяющая выполнить данную задачу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алгоритм, действия которого выполняются строго по порядку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алгоритм, действия в котором выполняются в зависимости от выполнения или невыполнения некоторого условия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алгоритм, действия которого выполняются несколько раз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набор инструкций для компьютера, направленных на решение конкретной задачи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множество величин, объединенных совокупностью допустимых операций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называется предложение языка программирования, задающее полное описание некоторого действия, которое необходимо выполнить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Как мы можем запустить написанную нами программу в среде Турбо Паскаль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Назовите основные формы представления алгоритма.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Назовите свойства алгоритма.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Из чего состоит алфавит языка Паскаль?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  <a:p>
            <a:pPr indent="343080">
              <a:buClr>
                <a:srgbClr val="f8f8f8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8f8f8"/>
                </a:solidFill>
                <a:latin typeface="Times New Roman"/>
              </a:rPr>
              <a:t>Назовите основные элементы программирования.</a:t>
            </a:r>
            <a:endParaRPr b="0" lang="en-US" sz="19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6" name="Picture 80" descr="j0288870"/>
          <p:cNvPicPr/>
          <p:nvPr/>
        </p:nvPicPr>
        <p:blipFill>
          <a:blip r:embed="rId1"/>
          <a:stretch/>
        </p:blipFill>
        <p:spPr>
          <a:xfrm>
            <a:off x="7192800" y="5013360"/>
            <a:ext cx="126684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21384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Tahoma"/>
              </a:rPr>
              <a:t>Работа с карточкам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yramidChart 1;Master;1;0.15;3"/>
          <p:cNvSpPr/>
          <p:nvPr/>
        </p:nvSpPr>
        <p:spPr>
          <a:xfrm>
            <a:off x="1216080" y="198108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AutoShape 7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d5c99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yramidChart 2;Master;1;0.15;3"/>
          <p:cNvSpPr/>
          <p:nvPr/>
        </p:nvSpPr>
        <p:spPr>
          <a:xfrm>
            <a:off x="1219320" y="2057400"/>
            <a:ext cx="672300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AutoShape 11"/>
          <p:cNvSpPr/>
          <p:nvPr/>
        </p:nvSpPr>
        <p:spPr>
          <a:xfrm flipH="1">
            <a:off x="4577760" y="2143080"/>
            <a:ext cx="360" cy="360"/>
          </a:xfrm>
          <a:prstGeom prst="rtTriangle">
            <a:avLst/>
          </a:prstGeom>
          <a:gradFill rotWithShape="0">
            <a:gsLst>
              <a:gs pos="0">
                <a:srgbClr val="6699ff"/>
              </a:gs>
              <a:gs pos="100000">
                <a:srgbClr val="3d5c99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1200240"/>
          <a:ext cx="8280360" cy="5394240"/>
        </p:xfrm>
        <a:graphic>
          <a:graphicData uri="http://schemas.openxmlformats.org/drawingml/2006/table">
            <a:tbl>
              <a:tblPr/>
              <a:tblGrid>
                <a:gridCol w="2760840"/>
                <a:gridCol w="1681200"/>
                <a:gridCol w="383832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Элемент блок-схемы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На языке Паскаль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Выполняемые действия</a:t>
                      </a: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Начало работы программы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(служебное слово)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END.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Конец работы программы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(служебное слово)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На экране появляется значение переменной </a:t>
                      </a:r>
                      <a:r>
                        <a:rPr b="1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С</a:t>
                      </a:r>
                      <a:r>
                        <a:rPr b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(оператор вывода данных)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128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WRITE</a:t>
                      </a:r>
                      <a:r>
                        <a:rPr b="0" lang="ru-RU" sz="20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(‘результат=’,S)</a:t>
                      </a:r>
                      <a:r>
                        <a:rPr b="0" lang="ru-RU" sz="28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На экране появляется текст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результат=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</a:t>
                      </a: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и значение переменной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S.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(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оператор вывода данных)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Надо вводить два числа с клавиатуры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(оператор ввода данных)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После выполнения операторов, переменным присваиваются следующие значения: </a:t>
                      </a:r>
                      <a:r>
                        <a:rPr b="1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C=4T, D=A+B, I=I+1</a:t>
                      </a:r>
                      <a:r>
                        <a:rPr b="0" lang="ru-RU" sz="1600" spc="-1" strike="noStrike">
                          <a:solidFill>
                            <a:srgbClr val="f8f8f8"/>
                          </a:solidFill>
                          <a:latin typeface="Tahoma"/>
                        </a:rPr>
                        <a:t> (операторы присваивания) 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3" name="Picture 57" descr="img1.gif (1061 bytes)"/>
          <p:cNvPicPr/>
          <p:nvPr/>
        </p:nvPicPr>
        <p:blipFill>
          <a:blip r:embed="rId1"/>
          <a:stretch/>
        </p:blipFill>
        <p:spPr>
          <a:xfrm>
            <a:off x="1241280" y="1844640"/>
            <a:ext cx="1386000" cy="488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5" descr="img4.gif (1227 bytes)"/>
          <p:cNvPicPr/>
          <p:nvPr/>
        </p:nvPicPr>
        <p:blipFill>
          <a:blip r:embed="rId2"/>
          <a:stretch/>
        </p:blipFill>
        <p:spPr>
          <a:xfrm>
            <a:off x="539640" y="3139920"/>
            <a:ext cx="2664000" cy="5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7" descr="img6.gif (1087 bytes)"/>
          <p:cNvPicPr/>
          <p:nvPr/>
        </p:nvPicPr>
        <p:blipFill>
          <a:blip r:embed="rId3"/>
          <a:stretch/>
        </p:blipFill>
        <p:spPr>
          <a:xfrm>
            <a:off x="814320" y="4941720"/>
            <a:ext cx="1812960" cy="557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3" descr="img7.gif (1149 bytes)"/>
          <p:cNvPicPr/>
          <p:nvPr/>
        </p:nvPicPr>
        <p:blipFill>
          <a:blip r:embed="rId4"/>
          <a:stretch/>
        </p:blipFill>
        <p:spPr>
          <a:xfrm>
            <a:off x="812880" y="5711760"/>
            <a:ext cx="2174760" cy="66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Tahoma"/>
              </a:rPr>
              <a:t>Какие из перечисленных далее описаний можно рассматривать как алгоритмы? Почему?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68360" y="1954080"/>
            <a:ext cx="813600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Рецепт приготовления торта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Правила поведения в компьютерном классе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Метод перевода двоичных чисел в другую систему счисления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Доказательство теоремы о трех перпендикулярах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Правило правописания сочетаний –чу- и –щю- в русском языке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Способ решения головоломки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Каталог товаров, имеющихся в продаже в магазине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  <a:p>
            <a:pPr marL="457200" indent="-457200">
              <a:buClr>
                <a:srgbClr val="f8f8f8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8f8f8"/>
                </a:solidFill>
                <a:latin typeface="Times New Roman"/>
              </a:rPr>
              <a:t>Инструкция по распаковке, установке, подключению и настройки телевизора.</a:t>
            </a:r>
            <a:endParaRPr b="0" lang="en-US" sz="25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40" name="Picture 7" descr="j0283551"/>
          <p:cNvPicPr/>
          <p:nvPr/>
        </p:nvPicPr>
        <p:blipFill>
          <a:blip r:embed="rId1"/>
          <a:stretch/>
        </p:blipFill>
        <p:spPr>
          <a:xfrm>
            <a:off x="7020000" y="1125360"/>
            <a:ext cx="165564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55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550"/>
                            </p:stCondLst>
                            <p:childTnLst>
                              <p:par>
                                <p:cTn id="12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8f8f8"/>
                </a:solidFill>
                <a:latin typeface="Tahoma"/>
              </a:rPr>
              <a:t>Тема урока:</a:t>
            </a:r>
            <a:br>
              <a:rPr sz="5000"/>
            </a:br>
            <a:br>
              <a:rPr sz="1400"/>
            </a:br>
            <a:r>
              <a:rPr b="0" lang="ru-RU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i="1" lang="ru-RU" sz="5400" spc="-1" strike="noStrike">
                <a:solidFill>
                  <a:srgbClr val="00ffff"/>
                </a:solidFill>
                <a:latin typeface="Tahoma"/>
              </a:rPr>
              <a:t>«Решение алгоритмических задач. Исполнение фрагмента программ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6" descr="j0223770"/>
          <p:cNvPicPr/>
          <p:nvPr/>
        </p:nvPicPr>
        <p:blipFill>
          <a:blip r:embed="rId1"/>
          <a:stretch/>
        </p:blipFill>
        <p:spPr>
          <a:xfrm>
            <a:off x="6680160" y="4437000"/>
            <a:ext cx="1924200" cy="167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8640" y="404280"/>
            <a:ext cx="82900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00"/>
                </a:solidFill>
                <a:uFillTx/>
                <a:latin typeface="Tahoma"/>
              </a:rPr>
              <a:t>Пример 1</a:t>
            </a:r>
            <a:r>
              <a:rPr b="0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пределить значение целочисленной переменной х после выполнения следующего фрагмента программ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63"/>
          <p:cNvSpPr/>
          <p:nvPr/>
        </p:nvSpPr>
        <p:spPr>
          <a:xfrm>
            <a:off x="3924360" y="1700280"/>
            <a:ext cx="2001600" cy="743040"/>
          </a:xfrm>
          <a:prstGeom prst="rect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х:=5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у:=7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Line 64"/>
          <p:cNvSpPr/>
          <p:nvPr/>
        </p:nvSpPr>
        <p:spPr>
          <a:xfrm>
            <a:off x="4932360" y="242100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AutoShape 65"/>
          <p:cNvSpPr/>
          <p:nvPr/>
        </p:nvSpPr>
        <p:spPr>
          <a:xfrm>
            <a:off x="3924360" y="2781360"/>
            <a:ext cx="2001600" cy="743040"/>
          </a:xfrm>
          <a:prstGeom prst="diamond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x&lt;&gt;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Line 66"/>
          <p:cNvSpPr/>
          <p:nvPr/>
        </p:nvSpPr>
        <p:spPr>
          <a:xfrm>
            <a:off x="4956120" y="355608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AutoShape 67"/>
          <p:cNvSpPr/>
          <p:nvPr/>
        </p:nvSpPr>
        <p:spPr>
          <a:xfrm>
            <a:off x="3954600" y="3927600"/>
            <a:ext cx="2001600" cy="741240"/>
          </a:xfrm>
          <a:prstGeom prst="diamond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x&gt;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Line 68"/>
          <p:cNvSpPr/>
          <p:nvPr/>
        </p:nvSpPr>
        <p:spPr>
          <a:xfrm>
            <a:off x="5956200" y="4297320"/>
            <a:ext cx="75096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Line 69"/>
          <p:cNvSpPr/>
          <p:nvPr/>
        </p:nvSpPr>
        <p:spPr>
          <a:xfrm>
            <a:off x="6707160" y="429732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Rectangle 70"/>
          <p:cNvSpPr/>
          <p:nvPr/>
        </p:nvSpPr>
        <p:spPr>
          <a:xfrm>
            <a:off x="5956200" y="4668840"/>
            <a:ext cx="1752840" cy="557280"/>
          </a:xfrm>
          <a:prstGeom prst="rect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у:=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y-x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Line 71"/>
          <p:cNvSpPr/>
          <p:nvPr/>
        </p:nvSpPr>
        <p:spPr>
          <a:xfrm>
            <a:off x="3454560" y="4297320"/>
            <a:ext cx="500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Line 72"/>
          <p:cNvSpPr/>
          <p:nvPr/>
        </p:nvSpPr>
        <p:spPr>
          <a:xfrm>
            <a:off x="3454560" y="429732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Rectangle 73"/>
          <p:cNvSpPr/>
          <p:nvPr/>
        </p:nvSpPr>
        <p:spPr>
          <a:xfrm>
            <a:off x="3203640" y="4668840"/>
            <a:ext cx="1501560" cy="557280"/>
          </a:xfrm>
          <a:prstGeom prst="rect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:=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x-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Line 74"/>
          <p:cNvSpPr/>
          <p:nvPr/>
        </p:nvSpPr>
        <p:spPr>
          <a:xfrm>
            <a:off x="3703680" y="522612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Line 75"/>
          <p:cNvSpPr/>
          <p:nvPr/>
        </p:nvSpPr>
        <p:spPr>
          <a:xfrm>
            <a:off x="6707160" y="522612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Line 76"/>
          <p:cNvSpPr/>
          <p:nvPr/>
        </p:nvSpPr>
        <p:spPr>
          <a:xfrm>
            <a:off x="3703680" y="5597640"/>
            <a:ext cx="300348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Line 77"/>
          <p:cNvSpPr/>
          <p:nvPr/>
        </p:nvSpPr>
        <p:spPr>
          <a:xfrm>
            <a:off x="4956120" y="5597640"/>
            <a:ext cx="0" cy="36972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Line 78"/>
          <p:cNvSpPr/>
          <p:nvPr/>
        </p:nvSpPr>
        <p:spPr>
          <a:xfrm>
            <a:off x="5956200" y="3184560"/>
            <a:ext cx="25034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Line 79"/>
          <p:cNvSpPr/>
          <p:nvPr/>
        </p:nvSpPr>
        <p:spPr>
          <a:xfrm>
            <a:off x="8459640" y="3184560"/>
            <a:ext cx="0" cy="296856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Line 80"/>
          <p:cNvSpPr/>
          <p:nvPr/>
        </p:nvSpPr>
        <p:spPr>
          <a:xfrm>
            <a:off x="5707080" y="6153120"/>
            <a:ext cx="275256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4" name="Line 81"/>
          <p:cNvSpPr/>
          <p:nvPr/>
        </p:nvSpPr>
        <p:spPr>
          <a:xfrm>
            <a:off x="5707080" y="615312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Text Box 82"/>
          <p:cNvSpPr/>
          <p:nvPr/>
        </p:nvSpPr>
        <p:spPr>
          <a:xfrm>
            <a:off x="6443640" y="2492280"/>
            <a:ext cx="150192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Line 84"/>
          <p:cNvSpPr/>
          <p:nvPr/>
        </p:nvSpPr>
        <p:spPr>
          <a:xfrm>
            <a:off x="4859280" y="1328760"/>
            <a:ext cx="0" cy="371520"/>
          </a:xfrm>
          <a:prstGeom prst="line">
            <a:avLst/>
          </a:prstGeom>
          <a:ln w="936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Line 105"/>
          <p:cNvSpPr/>
          <p:nvPr/>
        </p:nvSpPr>
        <p:spPr>
          <a:xfrm>
            <a:off x="2700360" y="5950080"/>
            <a:ext cx="22478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Line 106"/>
          <p:cNvSpPr/>
          <p:nvPr/>
        </p:nvSpPr>
        <p:spPr>
          <a:xfrm>
            <a:off x="2700360" y="3141720"/>
            <a:ext cx="0" cy="282420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Line 107"/>
          <p:cNvSpPr/>
          <p:nvPr/>
        </p:nvSpPr>
        <p:spPr>
          <a:xfrm>
            <a:off x="2700360" y="3141720"/>
            <a:ext cx="122400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Text Box 108"/>
          <p:cNvSpPr/>
          <p:nvPr/>
        </p:nvSpPr>
        <p:spPr>
          <a:xfrm>
            <a:off x="2987640" y="3429000"/>
            <a:ext cx="150192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Line 109"/>
          <p:cNvSpPr/>
          <p:nvPr/>
        </p:nvSpPr>
        <p:spPr>
          <a:xfrm>
            <a:off x="4859280" y="1341360"/>
            <a:ext cx="0" cy="371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Rectangle 110"/>
          <p:cNvSpPr/>
          <p:nvPr/>
        </p:nvSpPr>
        <p:spPr>
          <a:xfrm>
            <a:off x="3924360" y="1700280"/>
            <a:ext cx="2001600" cy="7430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х:=5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у:=7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Line 111"/>
          <p:cNvSpPr/>
          <p:nvPr/>
        </p:nvSpPr>
        <p:spPr>
          <a:xfrm>
            <a:off x="4932360" y="2409840"/>
            <a:ext cx="0" cy="3715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AutoShape 112"/>
          <p:cNvSpPr/>
          <p:nvPr/>
        </p:nvSpPr>
        <p:spPr>
          <a:xfrm>
            <a:off x="3924360" y="2781360"/>
            <a:ext cx="2001600" cy="743040"/>
          </a:xfrm>
          <a:prstGeom prst="diamond">
            <a:avLst/>
          </a:prstGeom>
          <a:solidFill>
            <a:srgbClr val="0000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x&lt;&gt;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Text Box 113"/>
          <p:cNvSpPr/>
          <p:nvPr/>
        </p:nvSpPr>
        <p:spPr>
          <a:xfrm>
            <a:off x="2987640" y="3429000"/>
            <a:ext cx="150192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Line 114"/>
          <p:cNvSpPr/>
          <p:nvPr/>
        </p:nvSpPr>
        <p:spPr>
          <a:xfrm>
            <a:off x="4932360" y="3562200"/>
            <a:ext cx="0" cy="371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AutoShape 115"/>
          <p:cNvSpPr/>
          <p:nvPr/>
        </p:nvSpPr>
        <p:spPr>
          <a:xfrm>
            <a:off x="3995640" y="3933720"/>
            <a:ext cx="2001960" cy="741600"/>
          </a:xfrm>
          <a:prstGeom prst="diamond">
            <a:avLst/>
          </a:prstGeom>
          <a:solidFill>
            <a:srgbClr val="000000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x&gt;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Text Box 116"/>
          <p:cNvSpPr/>
          <p:nvPr/>
        </p:nvSpPr>
        <p:spPr>
          <a:xfrm>
            <a:off x="2916360" y="3645000"/>
            <a:ext cx="63648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да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Text Box 117"/>
          <p:cNvSpPr/>
          <p:nvPr/>
        </p:nvSpPr>
        <p:spPr>
          <a:xfrm>
            <a:off x="6300720" y="3645000"/>
            <a:ext cx="1501920" cy="55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нет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Line 118"/>
          <p:cNvSpPr/>
          <p:nvPr/>
        </p:nvSpPr>
        <p:spPr>
          <a:xfrm>
            <a:off x="5940360" y="4292640"/>
            <a:ext cx="7509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Line 119"/>
          <p:cNvSpPr/>
          <p:nvPr/>
        </p:nvSpPr>
        <p:spPr>
          <a:xfrm>
            <a:off x="6732720" y="4292640"/>
            <a:ext cx="0" cy="3715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Rectangle 120"/>
          <p:cNvSpPr/>
          <p:nvPr/>
        </p:nvSpPr>
        <p:spPr>
          <a:xfrm>
            <a:off x="5915160" y="4672080"/>
            <a:ext cx="1752480" cy="557280"/>
          </a:xfrm>
          <a:prstGeom prst="rect">
            <a:avLst/>
          </a:prstGeom>
          <a:solidFill>
            <a:srgbClr val="00000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у:=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y-x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Line 121"/>
          <p:cNvSpPr/>
          <p:nvPr/>
        </p:nvSpPr>
        <p:spPr>
          <a:xfrm>
            <a:off x="6732720" y="5229360"/>
            <a:ext cx="0" cy="3715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Line 122"/>
          <p:cNvSpPr/>
          <p:nvPr/>
        </p:nvSpPr>
        <p:spPr>
          <a:xfrm>
            <a:off x="5003640" y="5589720"/>
            <a:ext cx="17082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Line 123"/>
          <p:cNvSpPr/>
          <p:nvPr/>
        </p:nvSpPr>
        <p:spPr>
          <a:xfrm>
            <a:off x="4932360" y="5589720"/>
            <a:ext cx="0" cy="369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Line 124"/>
          <p:cNvSpPr/>
          <p:nvPr/>
        </p:nvSpPr>
        <p:spPr>
          <a:xfrm>
            <a:off x="2700360" y="5950080"/>
            <a:ext cx="22478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Line 125"/>
          <p:cNvSpPr/>
          <p:nvPr/>
        </p:nvSpPr>
        <p:spPr>
          <a:xfrm>
            <a:off x="2700360" y="3141720"/>
            <a:ext cx="0" cy="2824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Line 126"/>
          <p:cNvSpPr/>
          <p:nvPr/>
        </p:nvSpPr>
        <p:spPr>
          <a:xfrm>
            <a:off x="2700360" y="3141720"/>
            <a:ext cx="1224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5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78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23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98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13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43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58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73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0880" y="380880"/>
          <a:ext cx="8439120" cy="6248520"/>
        </p:xfrm>
        <a:graphic>
          <a:graphicData uri="http://schemas.openxmlformats.org/drawingml/2006/table">
            <a:tbl>
              <a:tblPr/>
              <a:tblGrid>
                <a:gridCol w="1204920"/>
                <a:gridCol w="1027080"/>
                <a:gridCol w="1076400"/>
                <a:gridCol w="2565360"/>
                <a:gridCol w="256536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интерации цикла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Значение х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Значение у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x&lt;&gt;y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x&gt;y</a:t>
                      </a:r>
                      <a:endParaRPr b="0" lang="en-US" sz="1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75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выполняем тело цикла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&gt;75 – нет (вычитаем х из у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выполняем тело цикла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&gt;20 – да (вычитаем у из х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выполняем тело цикла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&gt;20 – да (вычитаем у из х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выполняем тело цикла)</a:t>
                      </a:r>
                      <a:endParaRPr b="0" lang="en-US" sz="1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16:46:59Z</dcterms:created>
  <dc:creator>User</dc:creator>
  <dc:description/>
  <dc:language>en-US</dc:language>
  <cp:lastModifiedBy>Metod-kopilka.ru</cp:lastModifiedBy>
  <dcterms:modified xsi:type="dcterms:W3CDTF">2013-02-09T06:32:36Z</dcterms:modified>
  <cp:revision>148</cp:revision>
  <dc:subject/>
  <dc:title>МОУ-гуманитарно-педагогический лицей-интернат  г. Балашова Саратовской обла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