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8F9-DAD2-4D18-A514-E923C11E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0EE-7A90-4B51-9B36-1A50E575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C60-BD79-4B78-81D8-8717F622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57B-B1CA-4D24-98C4-75E58B57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7FF-C41E-4969-97B7-D25DA00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A68-4B42-41C9-BB3F-7A2834D8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939-21E0-4EF0-8B9A-BEBE8787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435-E4AE-4E6A-8321-0D5D568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05F-DA7B-4506-81B5-D20C0BD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631-9F35-4C23-AC7C-BC51FCC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773-F696-43DD-BF28-2A3D58E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87D-01AF-4C4F-AAB5-7B4FD56F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3C6D-5CD5-46A8-9F70-C731E78015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2FDF-3C98-4F2A-AF31-7722985F5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61инкора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542880" y="3706920"/>
            <a:ext cx="6004080" cy="131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304920" y="308160"/>
            <a:ext cx="6248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Управление образования администрации города  Прокопьев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Муниципальное казенное образовательное учреждение для детей-сирот и детей, оставшихся без попечения родителей 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законных представителей) «Специальный (коррекционный) детский дом № 6 для детей-сирот и детей, оставшихся без попечения родителей (законных представителей), с ограниченными возможностями здоровья»</a:t>
            </a:r>
            <a:r>
              <a:rPr b="0" lang="ru-RU" sz="1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2060"/>
                </a:solidFill>
                <a:latin typeface="Times New Roman"/>
                <a:ea typeface="Calibri"/>
              </a:rPr>
              <a:t>(МКОУ «Детский дом № 6»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750400" y="92962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копьевск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1" descr="1.gif"/>
          <p:cNvPicPr/>
          <p:nvPr/>
        </p:nvPicPr>
        <p:blipFill>
          <a:blip r:embed="rId3"/>
          <a:stretch/>
        </p:blipFill>
        <p:spPr>
          <a:xfrm>
            <a:off x="304920" y="5943600"/>
            <a:ext cx="3514680" cy="3063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822840" y="5943600"/>
            <a:ext cx="277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-состав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ова Елена Василь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57200" y="304920"/>
            <a:ext cx="59436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е занятие имеет логически законченную, целостную ограниченную временными рамками систему. В коррекционном занятии представлены почти все основные элементы коррекционно-образовательного процесса: задачи, содержание, средства, методы организации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Качество занятия зависит от правильного определения каждого из этих компонентов и их рационального сочетания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При построении коррекционного занятия, необходимо определить на каком уровне ребенок будет усваивать  предлагаемый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в процессе сопряжённых (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заимодействия с помощью полусопряжённых  (частично совместных) с педагогом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восприятия (работа после обучающего эксперимен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применения знаний по образц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вне речевой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ременное содержание специального образования детей с особыми образовательными потребностями определяют ряд обязательных требований к коррекционному занятию, которые необходимо учитывать при построении структуры зан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занятия имеют гибкую структуру, разработанную с учетом возрастных особенностей детей и степени выраженности деф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BDA-C702-4502-AABD-B729A8FE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3520" y="57600"/>
            <a:ext cx="59436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я строятся на основе принципов интегрирования (включение элементов музо-, изо-, песко-, водо-, кукло-, танцевально-двигательной терап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анятиях должна прослеживаться системность и преем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ор тематики занятий должен определяться характером нарушения развития детей с особыми образовательными потребностями и подбором наиболее адекватной тактики коррекционной 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ы работы должны определяться задачами занятия, для которых характерно сочетание как традиционных приемов и методов (фронтальные и индивидуальные занятия), так и инновацио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инновационным прие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ребенка в процесс взаимодействия с педагогом, группой детей или сверстником с использованием метода «аттракции» (называние по имени, активное включение в процесс рассматривания себя в зеркале, телесный контакт с ребенком с целью расслабления, успокоение, вселение уверенности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сование под музыку, используя различные методики рисования – ладошкой, пальчиком, губкой, тампоном и т.д. (из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песком (песк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водой (водотерап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ы с куклами (куклотерапия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111-D2BC-43DE-B3E6-DD2BFEC23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6" descr="81885ffaaae5.png"/>
          <p:cNvPicPr/>
          <p:nvPr/>
        </p:nvPicPr>
        <p:blipFill>
          <a:blip r:embed="rId2"/>
          <a:stretch/>
        </p:blipFill>
        <p:spPr>
          <a:xfrm>
            <a:off x="4114800" y="7184880"/>
            <a:ext cx="2430360" cy="2721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248520" y="929628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80880" y="457200"/>
            <a:ext cx="6172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 традиционным приёмам относятся следующие виды работ на заня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нятие должно включать как познавательный материал, так и различные релаксационные упражнения, которые способствуют развитию у детей коммуникативных умений, обогащают эмоциональный опыт, формируют личностное развит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в структуру занятий заданий, способствующих развитию поисковых действ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ожение материала на занятии должно быть вариативным по своей струк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дних случаях предъявляется готовая информация в форме практического объяснения, сопровождающегося показом, демонстрацией определённых действий с простой речевой инстру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ругих случаях используется частичная инструкция, регламентирующая частичное выполнение действия, задания с последующими усложнениями. Используются варианты  сопряжённых и полусопряжённых действий с педаг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4e96c18fed68.png"/>
          <p:cNvPicPr/>
          <p:nvPr/>
        </p:nvPicPr>
        <p:blipFill>
          <a:blip r:embed="rId2"/>
          <a:stretch/>
        </p:blipFill>
        <p:spPr>
          <a:xfrm>
            <a:off x="2133720" y="6472080"/>
            <a:ext cx="3124080" cy="287352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F22-002B-4ACC-9135-0166DE3C6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60994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2489-03A4-4BAE-9EAF-CABF45AA5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5" descr=""/>
          <p:cNvPicPr/>
          <p:nvPr/>
        </p:nvPicPr>
        <p:blipFill>
          <a:blip r:embed="rId2"/>
          <a:stretch/>
        </p:blipFill>
        <p:spPr>
          <a:xfrm>
            <a:off x="1109520" y="585720"/>
            <a:ext cx="4761000" cy="2462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dosk126.png"/>
          <p:cNvPicPr/>
          <p:nvPr/>
        </p:nvPicPr>
        <p:blipFill>
          <a:blip r:embed="rId3"/>
          <a:stretch/>
        </p:blipFill>
        <p:spPr>
          <a:xfrm>
            <a:off x="1295280" y="3429000"/>
            <a:ext cx="4740480" cy="4040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251760" y="9296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880" y="1397880"/>
            <a:ext cx="624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жде всего, обдумай тему сочинения. Помни: каждое слово в названии темы имеет значение. Определи, о чем следует писать в сочин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думай свой замысел, зачем, кому адресуешь своё сочинение, какова его мысль.  Что и как (в каком стиле и в какой форме) напишешь, чтобы ее раскрыть. Составь, если нужно,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ери круг слов, предложений для отражения темы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ервый вариант своего сочинения: раскрыты ли в нем тема и основная мысль? Зачеркни то, о чём можно не говорить в сочинении на данную тему (лишнее); дополни те части сочинения, в которых тема и основная мысль раскрыты недостаточно. Соответствует ли заголовок сочинения его содержа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ти внимание на язык сочинения. Насколько удачно выражены мысли и чувства? Внеси ис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359000" y="914400"/>
            <a:ext cx="38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СОЧИ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6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0C91-7AF4-4BDC-B7BC-A19E9EF8C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9" descr="29244dc814c5.png"/>
          <p:cNvPicPr/>
          <p:nvPr/>
        </p:nvPicPr>
        <p:blipFill>
          <a:blip r:embed="rId2"/>
          <a:stretch/>
        </p:blipFill>
        <p:spPr>
          <a:xfrm>
            <a:off x="2438280" y="7010280"/>
            <a:ext cx="1943280" cy="28958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8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856080"/>
            <a:ext cx="5029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КА К ДИКТА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B2F-A3B4-479F-81D8-BBDB113B9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5" descr="4414d6e477eb.png"/>
          <p:cNvPicPr/>
          <p:nvPr/>
        </p:nvPicPr>
        <p:blipFill>
          <a:blip r:embed="rId2"/>
          <a:stretch/>
        </p:blipFill>
        <p:spPr>
          <a:xfrm>
            <a:off x="1676520" y="5486400"/>
            <a:ext cx="337320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632808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685800" y="731520"/>
            <a:ext cx="5715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ИЗЛО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нимательно, не торопясь; уясни его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ясни правописание выделенных и пропущенных 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я текст вторично, останови свое внимание на тех словах, которые не выделены, но правописание которых может вас затруднить. Если сможешь, объясни их 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771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еще раз. Объясни знаки препинания в известных вам случа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AC63-BAA1-4495-81B5-CAE876B74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5" descr="199cc7796884.png"/>
          <p:cNvPicPr/>
          <p:nvPr/>
        </p:nvPicPr>
        <p:blipFill>
          <a:blip r:embed="rId2"/>
          <a:stretch/>
        </p:blipFill>
        <p:spPr>
          <a:xfrm>
            <a:off x="2438280" y="6477120"/>
            <a:ext cx="230184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404040" y="9448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380880" y="417600"/>
            <a:ext cx="6096240" cy="82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АРАГРАФОМ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итай название параграфа, уясни, и чём в нём гово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весь параграф. Найди в нём главное. Отметь непонятные места, выражения, слова. Попытайся разобраться в них самостоятельно. В случае необходимости обратись к предыдущим параграфам, к своим товарищам, а если нужно, к воспитате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, из каких частей состоит правило, какие признаки изучаемого материала в нём отличаются. Найди эти признаки в приме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ь изучаемый параграф с параграфом, в котором излагается похожий материал, изученный ранее. Найди в них сходное и различн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и, что ты узнал из нового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содержание параграф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ытайся запомнить вывод из параграфа, а правило выучи наизу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леди по учебнику, как применяется данное правило. Сделай то же на своем примере. Если ты выполнял задание письменно, проверь написанное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733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8105-7D1B-438E-B116-4004B9484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5" descr="0c119f17d7bc.png"/>
          <p:cNvPicPr/>
          <p:nvPr/>
        </p:nvPicPr>
        <p:blipFill>
          <a:blip r:embed="rId2"/>
          <a:stretch/>
        </p:blipFill>
        <p:spPr>
          <a:xfrm>
            <a:off x="4495680" y="7763040"/>
            <a:ext cx="20574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625176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304920" y="696960"/>
            <a:ext cx="601956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О 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еть порядок выполнения проверки: сначала проверь по смыслу, потом проверь по напис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смысл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предложение вслу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слова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слов в предло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ём говорится в предложении, бывает ли 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проверить предложение по написани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й каждое слово по порядку по слогам и выделяй каждый с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, подходят ли буквы к сло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ли пропуска бук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433-0BE6-48D7-A09D-6CA5C88DF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6" descr="f5d620e07ee2.png"/>
          <p:cNvPicPr/>
          <p:nvPr/>
        </p:nvPicPr>
        <p:blipFill>
          <a:blip r:embed="rId2"/>
          <a:stretch/>
        </p:blipFill>
        <p:spPr>
          <a:xfrm>
            <a:off x="1981080" y="6429240"/>
            <a:ext cx="2863800" cy="34768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219320" y="6094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57200" y="1361520"/>
            <a:ext cx="5867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текст в медленном тем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меть слова, которые тебе непоня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райся ответить на главн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ком говорится в рассказ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действующие лица (персонажи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чем говорится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сни у воспитателя значения новых или  незнакомых с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 в тексте слова, которыми автор характеризует главного героя, либо описывает природу (дерево, цветок, животное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ти рассказ еще раз, выделяя смысловые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ждой части выдели важные мысли (2-3 предло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34308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текст по частям (при затруднении можно заглядывать в книг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6" descr="1.gif"/>
          <p:cNvPicPr/>
          <p:nvPr/>
        </p:nvPicPr>
        <p:blipFill>
          <a:blip r:embed="rId2"/>
          <a:stretch/>
        </p:blipFill>
        <p:spPr>
          <a:xfrm>
            <a:off x="3886200" y="6640560"/>
            <a:ext cx="1828800" cy="3265560"/>
          </a:xfrm>
          <a:prstGeom prst="rect">
            <a:avLst/>
          </a:prstGeom>
          <a:ln w="0">
            <a:noFill/>
          </a:ln>
        </p:spPr>
      </p:pic>
      <p:sp>
        <p:nvSpPr>
          <p:cNvPr id="150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CBE4-34E3-40C5-A13A-DD2DC0801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81A7-74F0-4831-A7A7-8C746DBC2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533520" y="457200"/>
            <a:ext cx="601956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  Коррекционный уголок………………………………………………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    Содержание коррекционно-развивающего уголка………………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коррекционного занятия………………………………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    Список используемой литературы…………………………………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  Приложения…………………………………………………………... 14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33520" y="228600"/>
            <a:ext cx="586728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над какой темой работали на   уроке. Творчество и произведения какого автора изуч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о прочти опорные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статью или теоретический   материал по заданной т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кажи прочит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хрестоматии по литературе нет художественного произведения, которое задали прочитать, возьми его в библиот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ься с текстом целиком или с отдельно взятыми частями, в зависимости от полученного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 на вопросы учебника и выполни, если задано, индивидуальное задание устно или письменно в тетради по литера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E509-363E-44A8-A74B-B62015FAD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6" descr="4414d6e477eb.png"/>
          <p:cNvPicPr/>
          <p:nvPr/>
        </p:nvPicPr>
        <p:blipFill>
          <a:blip r:embed="rId2"/>
          <a:stretch/>
        </p:blipFill>
        <p:spPr>
          <a:xfrm>
            <a:off x="533520" y="6580080"/>
            <a:ext cx="2886120" cy="33260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57200" y="402840"/>
            <a:ext cx="59436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 ПО МАТЕМА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ни, что изучали на уроке, просмотри записи в тет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и усвой материал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ния, изуч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какие правила и приёмы следует применять для их выполнения, пользуясь, если нужно, предыдущей письменной работой, общими и частными приёмам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нужно, выполни полностью или частично задание на чернов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тем или иным способом решения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выполненное задание в тетрадь, соблюдая правила ведения тетради по матема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правильность записей, чертежей,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6559-C00D-42C2-A8C1-A08882470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328080" y="92203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 flipV="1" rot="10800000">
            <a:off x="533520" y="385920"/>
            <a:ext cx="586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 задачу и представь себе, о чем говорится в зад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иши задачу кратко или выполни чертё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и, что показывает каждое число, повтори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й, можно ли сразу ответить на вопрос задачи. Если нет, то почему. Что нужно узнать сначала, что пот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ь план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 реш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решение и ответь на вопрос 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5" descr="0c119f17d7bc.png"/>
          <p:cNvPicPr/>
          <p:nvPr/>
        </p:nvPicPr>
        <p:blipFill>
          <a:blip r:embed="rId2"/>
          <a:stretch/>
        </p:blipFill>
        <p:spPr>
          <a:xfrm>
            <a:off x="2438280" y="5334120"/>
            <a:ext cx="365472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9824-04A0-4C09-94CA-93B0B3F1B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17544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ACE-CE64-4A31-8944-ECDE77516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2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1969920" y="45720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251760" y="9372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380880" y="1600200"/>
            <a:ext cx="6248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жков, М.И. Воспитание трудного ребенка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 Рожков М.И.-М: ВЛАДОС, 2003-24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елест, Е.Г. Использование игры в работе с детьми.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лест Е.Г.-Спб: Речь, 2009-103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   Шевченко, С.Г. Коррекционно-развивающее обучение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ст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]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/ Шевченко Е.Г.- М: ВЛАДОС, 2010-136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828800" y="45720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казано, что на развитие ребенка большое влияние оказывает окружающее его пространство, среда, в которой он находится большую часть времени. В условиях детского дома такой средой является групповая ком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80880" y="2666880"/>
            <a:ext cx="6096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ями организуются индивидуальные и подгрупповые коррекционно-ориентированные формы взаимодействия с детьми. Предметно-развивающая среда позволяет обогатить опыт эмоционально-практического взаимодействия ребенка со сверстниками и педагогом, включить в активную познавательную деятельность всех детей группы. Среда стимулирует развитие самостоятельности, инициативности. В ней дети реализуют свои способ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c28c59bf13bc.png"/>
          <p:cNvPicPr/>
          <p:nvPr/>
        </p:nvPicPr>
        <p:blipFill>
          <a:blip r:embed="rId2"/>
          <a:stretch/>
        </p:blipFill>
        <p:spPr>
          <a:xfrm>
            <a:off x="304920" y="533520"/>
            <a:ext cx="1582560" cy="195408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8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476-9F35-43FB-878A-166DCA258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11"/>
          <p:cNvSpPr/>
          <p:nvPr/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2" descr="e513ec98b236.png"/>
          <p:cNvPicPr/>
          <p:nvPr/>
        </p:nvPicPr>
        <p:blipFill>
          <a:blip r:embed="rId3"/>
          <a:stretch/>
        </p:blipFill>
        <p:spPr>
          <a:xfrm>
            <a:off x="1905120" y="6019920"/>
            <a:ext cx="315108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8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pic>
          <p:nvPicPr>
            <p:cNvPr id="59" name="Рисунок 3" descr="4ccca622295c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5"/>
            <p:cNvSpPr/>
            <p:nvPr/>
          </p:nvSpPr>
          <p:spPr>
            <a:xfrm>
              <a:off x="1828800" y="380880"/>
              <a:ext cx="4800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состав предметно-развивающей среды входит коррекционный уголок. В его оборудование входят стеллажи, расположенные на разном уровне, игровой, дидактический и наглядный материа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Рисунок 9" descr="0_86ab5_e49c6ace_orig.png"/>
            <p:cNvPicPr/>
            <p:nvPr/>
          </p:nvPicPr>
          <p:blipFill>
            <a:blip r:embed="rId2"/>
            <a:stretch/>
          </p:blipFill>
          <p:spPr>
            <a:xfrm>
              <a:off x="380880" y="228600"/>
              <a:ext cx="1523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0"/>
            <p:cNvSpPr/>
            <p:nvPr/>
          </p:nvSpPr>
          <p:spPr>
            <a:xfrm>
              <a:off x="380880" y="228600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 их помощью воспитатели создают условия для коррекции отклонений в развитии детей, стимуляции речевой деятельности и речевого общения</a:t>
              </a:r>
              <a:r>
                <a:rPr b="0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4"/>
            <p:cNvSpPr/>
            <p:nvPr/>
          </p:nvSpPr>
          <p:spPr>
            <a:xfrm>
              <a:off x="380880" y="3505320"/>
              <a:ext cx="33526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и подборе дидактического материала нужно учитывать: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наполняемость уголк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разнообразие материала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оответствие возрасту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доступ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системность;</a:t>
              </a:r>
              <a:br>
                <a:rPr sz="2000"/>
              </a:b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- эстетику оформления;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5"/>
            <p:cNvSpPr/>
            <p:nvPr/>
          </p:nvSpPr>
          <p:spPr>
            <a:xfrm>
              <a:off x="304560" y="6324840"/>
              <a:ext cx="62485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дбор игрового и дидактического материала осуществляется на основе рекомендаций логопеда, что делает его взаимодействие с воспитателями не формальным, а очень тесным и плодотворным. Дидактическое оснащение должно соответствовать индивидуальным и возрастным особенностям. При случайном, формальном подборе игр объем восприятия детей оказывается перегруженным и обучаемость резко снижае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Рисунок 11" descr="4414d6e477eb.png"/>
          <p:cNvPicPr/>
          <p:nvPr/>
        </p:nvPicPr>
        <p:blipFill>
          <a:blip r:embed="rId3"/>
          <a:stretch/>
        </p:blipFill>
        <p:spPr>
          <a:xfrm>
            <a:off x="3809880" y="3505320"/>
            <a:ext cx="2662200" cy="3066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2"/>
          <p:cNvSpPr/>
          <p:nvPr/>
        </p:nvSpPr>
        <p:spPr>
          <a:xfrm>
            <a:off x="6558840" y="9536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380880" y="38088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, содержащийся в коррекционном уголке, имеет многофункциональный характер. Игры должны быть подобраны в порядке нарастающей слож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80880" y="160020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образить деятельность детей в коррекционном уголке.              Дидактическое оснащение должно удовлетворять потребности актуального, ближайшего развития ребенка и его саморазвития. Пуст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80880" y="4038480"/>
            <a:ext cx="601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держанию предметное пространство утомляет, побуждает к безделью и агрессии. В то же время не следует перегружать уголок оборудованием, так как это затрудняет выб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380880" y="525780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ь материал должен соответствовать возрасту детей. Например: опора на игру, как на ведущий вид деятельности дошкольников, обеспечивает педагогам значительный положительный эффект в коррекционной рабо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352680" y="6705720"/>
            <a:ext cx="3200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 создает условия для неформального общения ребенка со сверстниками и взрослым, предоставляет ему полную свободу действий. Поэтому игровой материал должен быть доступным для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10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39CD-7392-495A-8B7E-F36FDA6B3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1" descr="f5d620e07ee2.png"/>
          <p:cNvPicPr/>
          <p:nvPr/>
        </p:nvPicPr>
        <p:blipFill>
          <a:blip r:embed="rId2"/>
          <a:stretch/>
        </p:blipFill>
        <p:spPr>
          <a:xfrm>
            <a:off x="533520" y="6924600"/>
            <a:ext cx="2514600" cy="25606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199cc7796884.png"/>
          <p:cNvPicPr/>
          <p:nvPr/>
        </p:nvPicPr>
        <p:blipFill>
          <a:blip r:embed="rId3"/>
          <a:stretch/>
        </p:blipFill>
        <p:spPr>
          <a:xfrm>
            <a:off x="4876920" y="1828800"/>
            <a:ext cx="172548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3"/>
          <p:cNvSpPr/>
          <p:nvPr/>
        </p:nvSpPr>
        <p:spPr>
          <a:xfrm>
            <a:off x="6251040" y="92203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380880" y="114120"/>
            <a:ext cx="6019920" cy="89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положительно влияет на развитие речи и интеллектуальное развитие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ый уголок дошкольников будет отличаться от коррекционного уголка детей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го уголка дошкольников должно способствовать развитию психологических процессов, мелкой моторики. Обучение осуществляется через игровую деятельность. Поэтому в коррекционном уголке преобладает наличие игр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младших школьников ведущим видом деятельности остается игра. Поэтому развитие познавательных процессов проходит через различ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ий школьный возраст - приоритетным направлением является самоподготовка к занятиям, развитие социальных навыков (игра «Магазин», «Поход в театр» и т.п), самообслуживание (штопка и чистка одеж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школьный возраст – приоритетным направлением является профориентационная деятельность, направленная на самоопределение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</a:t>
            </a:r>
            <a:fld id="{0F412ABA-BBA2-449D-9EE7-133AF8F88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6251760" y="9448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30492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вая развивающую среду группы, очень важно, чтобы окружающая детей обстановка была комфортной и эстетичной. Красота формирует ребенка. Поэтому нужно уделять большое внимание эстетике коррекционного уголка. Его оформление должно быть привлекательным для детей и вызывать у них стремление к самостоятельной деятельности. В то же время необходимо научить детей поддерживать порядок в уголке и воспитывать бережное отношение 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7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5A2E-B8B5-471C-9234-02CF73289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f7f44873e759.png"/>
          <p:cNvPicPr/>
          <p:nvPr/>
        </p:nvPicPr>
        <p:blipFill>
          <a:blip r:embed="rId2"/>
          <a:stretch/>
        </p:blipFill>
        <p:spPr>
          <a:xfrm>
            <a:off x="1371600" y="3276720"/>
            <a:ext cx="4500720" cy="4162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640332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80880" y="754200"/>
          <a:ext cx="6019920" cy="8269200"/>
        </p:xfrm>
        <a:graphic>
          <a:graphicData uri="http://schemas.openxmlformats.org/drawingml/2006/table">
            <a:tbl>
              <a:tblPr/>
              <a:tblGrid>
                <a:gridCol w="381240"/>
                <a:gridCol w="1525320"/>
                <a:gridCol w="2284560"/>
                <a:gridCol w="825480"/>
                <a:gridCol w="1003320"/>
              </a:tblGrid>
              <a:tr h="31248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кран звукопроизнош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артикуляционной  гимнасти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 упражнений (речевой материал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глядный материал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мелкой моторики и графических навыко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ы на развитие крупной мотори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огопед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дактические материалы на развитие психологических процессов (память, внимание, мышление и т.д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тодические пособия для восполнения пробелов в знаниях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ефектолог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лаксационные упражн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ически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ксты сказок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цита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44280"/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оно и видеотека с релаксационными материала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подгото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рточки-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ые материал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с технологиями подготовки изложения, сочинения, рассказа и др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разцы заполнения деловых бумаг (объяснительная, заявление и т.п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, библиотека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мплексы упражнений для глаз, для формирования правильной осанки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паузы во время выполнения домашних зада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вижные игр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уклет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ециальная литература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840" rIns="24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ед.служба, руководитель по ФВ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840" marR="24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6"/>
          <p:cNvSpPr/>
          <p:nvPr/>
        </p:nvSpPr>
        <p:spPr>
          <a:xfrm>
            <a:off x="914400" y="1522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коррекционно-развивающего уг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D09-21EA-4724-B79B-6380C8891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4ccca622295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380880" y="304920"/>
          <a:ext cx="6172200" cy="8764560"/>
        </p:xfrm>
        <a:graphic>
          <a:graphicData uri="http://schemas.openxmlformats.org/drawingml/2006/table">
            <a:tbl>
              <a:tblPr/>
              <a:tblGrid>
                <a:gridCol w="390600"/>
                <a:gridCol w="1563840"/>
                <a:gridCol w="2263680"/>
                <a:gridCol w="925560"/>
                <a:gridCol w="1028520"/>
              </a:tblGrid>
              <a:tr h="14097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удов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хнологические карты (самообслуживание, ремонт одежды, книг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обия по вязанию, вышиванию, бисероплетению и т.д.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торы по труду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 д/о, воспита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61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о-бытовая 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горитмы действий в определенных  жизненных ситуациях (поход в магазин, оплата коммунальных услуг, вызов скорой помощи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семейному воспитанию), инструкторы по труду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дагоги д/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опасность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, памятки, буклеты по действиям в чрезвычайных ситуациях, по правилам дорожного движения и т.п.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ЗО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льтура поведения и ре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мятки («Говори правильно!», «В театре», «В гостях»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0">
                <a:tc>
                  <a:txBody>
                    <a:bodyPr lIns="30240" rIns="30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фориен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гровой дидактический материа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матические словар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струкции (составление резюме, собеседование при приеме на работу и т.п.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стовые зада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правочник «Куда пойти учиться» и д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школьный, мл.школьный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.школьный, ст.шко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оспитатель (творческая группа по духовно-нравственному воспитанию)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сихоло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циальные педаго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491508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4DBF-915B-43D6-BB0E-396875854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479640" y="929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5:23:17Z</dcterms:created>
  <dc:creator>1</dc:creator>
  <dc:description/>
  <dc:language>en-US</dc:language>
  <cp:lastModifiedBy>Metod-kopilka.ru</cp:lastModifiedBy>
  <dcterms:modified xsi:type="dcterms:W3CDTF">2013-03-06T07:38:43Z</dcterms:modified>
  <cp:revision>80</cp:revision>
  <dc:subject/>
  <dc:title>Слайд 1</dc:title>
</cp:coreProperties>
</file>