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CFA-0F3D-4D14-AAA8-6ED96C35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83FC-8D8D-4190-BF70-B64C1EA9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3A8-39DE-4EF5-8C00-98D95CAC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777-FE50-4D5E-A7C8-2CCB7D6B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B626-F7CB-4F5D-B7A3-CF055630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AD9F-8B63-44E4-828D-C5F5C79D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4820-6DF5-4FFC-9828-BDE216CF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1229-FC92-4069-88C9-C146063F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3144-B0BF-44CD-87BB-5AE508B7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261B-C896-4FC1-911A-7C5AB0C3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442C-F873-47F5-BB3C-71AE4768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BCC-6D37-43FD-9F0A-8987FF6A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12C0-7E95-47B1-AC3F-587BC5B7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02EF-1A48-4893-8A22-217DAE13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FB03-AC36-48C4-AFF6-38DB9C2C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9BF8-7815-47F2-AAB2-37ABE5A6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0C64-0D48-49AC-85C5-6D6AFCC6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A86E3-93C7-4A5F-8728-2449C1DC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A1BD-23AE-4F08-AE18-DEA93790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52F1-8FA5-4ACD-BD52-3ADEDD58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A0E39-91CC-45AB-9DC3-F0BAF465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C0E5-4CB1-426C-B446-1CB0BF60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4B4-71C3-4E47-B99A-549764EC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8C62-BB0A-4FC8-9715-B4321A4A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9AF2-8213-4CA7-8524-EABC904E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C89D8-A451-4C3B-8680-4F51B365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E07FA-B48C-4456-9B0E-CC90D217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8318A-3B4C-4083-947A-F96C275E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F11F-AED4-495A-B310-EFFFD6DF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1108-596E-430A-B0B9-B0390F24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1EA0D-80D9-489E-AAB2-37792317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740CA-D829-4846-8651-A3CC9E84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327EE-250B-4FD2-B694-A58B0B91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969-642A-4B65-B023-FE60C908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387B5-7DCA-404E-B404-70EDEBE6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1391-FDEF-4ADF-98F8-9D156B27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99ABF-EA42-4022-822A-BCF94C50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B4379-0924-4432-8BAF-223851CA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721B0-8B5F-4959-9A35-14720E99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B459C-8A60-4F58-A7A2-3B748810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6350-BDF1-4439-A9A7-1D958BCE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56EDA-4C05-49AD-851D-41A531CE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71F25-DC0B-448E-BF66-800230CB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8FFB6-FEA4-4B10-B448-A906AD12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88A-5197-40D5-9838-47D8738F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7FE2-4A09-4C45-A635-151E5447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B9D0C-DEA6-41B2-AC6C-4C7FE436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FEA5E-7E27-40C8-AA2C-0EB2D702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281B9-66EF-4428-885F-91CE4412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9F899-BEE4-40CD-81E5-9BA4C09F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BE2D7-BBF7-4AEE-82D8-095FC99F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74B29-E73B-4B30-8926-DC79A432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AD887-4D3C-4783-A9CB-800C4B1E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D9674-B929-42F1-B292-27A509AB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78147-74A3-4840-A74B-E20C668F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9DD-DA54-4CCC-A5DC-B478C4F4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DA578-97AC-49EA-A7CA-43594462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488A1-C407-486B-B24F-81B3EA0C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C1DCE-4A54-4D00-8A97-F011DB7B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967DE-3D4F-4764-BB66-8799ECE7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8409C-28B1-4C6D-9DBF-71FC269F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188BC-48DF-4CA4-8600-4CC06684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09035-F201-4430-BF37-5BABB8AA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750BE-C069-4A39-94BC-CD2389EE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079B8-3E6A-47B3-B67F-5911E7CB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39A4D-36F2-4D54-A121-17AB3BC8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9C3-6B7A-4473-9F34-5B02FB15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257A7-699B-41A6-879A-D88D9688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FD6EC-692B-4AA0-86D1-BDD769E6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39528-18BB-4387-BF68-C7214E88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961D6-6609-4196-A3B0-E24C721A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C32A3-EF4A-4F8F-B125-D29B1CF7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6B2E2-3A10-4F6F-AC42-9D44C308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8E98C-8D90-4D44-9DEB-6CAA25F3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CABFC-2FDC-476D-B18A-5695C01A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DB752-3A73-4373-AEA4-4F472F1F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AFBC9-105F-48F3-AD57-3D7A4253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634-8299-4FC4-9099-E1702DA3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A7E89-FB5F-4736-953C-0E0513B8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9620D-84E7-4235-96D3-5A626197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E52C7-FECA-4432-BB9F-566940CF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EC794-8E75-440F-A03F-248F3463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0B915-9DCD-497D-80BA-DC63D3ED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6A92F-EFAB-4638-A03C-C17E2E27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BC150-363F-458A-9801-F29DC443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0D209-206E-43A0-8821-E84FB261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E5EC0-8CBE-4FD2-880B-CEAB1D5A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6BB23-BD5C-45EC-8DDC-58E7A41B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D78-2765-4196-880F-BAB3B11C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687E5-0281-4C29-9209-4BB0A163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1EC60-5963-4CEB-A181-F867405B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C9453-8D38-4B22-BE97-1789C0A9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8542E-AC1A-4B27-AB68-42E4465E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4AE4B-F2F2-4718-ACC0-306B9CAD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CEDE2-9AB9-4C01-9994-17E73C02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9E880-B6F4-46B0-BE9C-9365EC99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53C5-6A4B-4B87-A268-10D2399705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7E78-A579-4E27-9852-FBBF5B5CB3B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6D8C-CEC6-4F1A-ACBE-EEAEF4DB31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55D7-82C3-4356-936B-BB698E6186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64F6-5D7C-4EFA-A2F8-7C24AF963C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C6CD-2367-45AD-B6AD-F3889D33CF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27BD-3599-41B2-A916-F3C1FECA23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8CFC-27E2-46B1-A4A0-B2368E47AB5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9" descr="0_8da05_9df99442_XL.png"/>
          <p:cNvPicPr/>
          <p:nvPr/>
        </p:nvPicPr>
        <p:blipFill>
          <a:blip r:embed="rId1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6"/>
          <p:cNvSpPr/>
          <p:nvPr/>
        </p:nvSpPr>
        <p:spPr>
          <a:xfrm>
            <a:off x="1523880" y="281952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cademy"/>
              </a:rPr>
              <a:t>Повторение изуче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cademy"/>
              </a:rPr>
              <a:t>в 5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26668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cademy"/>
              </a:rPr>
              <a:t>Чачкова Анна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cademy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cademy"/>
              </a:rPr>
              <a:t>МОУ Будинской ООШ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Прямоугольник 8" descr=""/>
          <p:cNvPicPr/>
          <p:nvPr/>
        </p:nvPicPr>
        <p:blipFill>
          <a:blip r:embed="rId2"/>
          <a:stretch/>
        </p:blipFill>
        <p:spPr>
          <a:xfrm>
            <a:off x="0" y="103320"/>
            <a:ext cx="5310360" cy="811080"/>
          </a:xfrm>
          <a:prstGeom prst="rect">
            <a:avLst/>
          </a:prstGeom>
          <a:ln w="0">
            <a:noFill/>
          </a:ln>
        </p:spPr>
      </p:pic>
      <p:pic>
        <p:nvPicPr>
          <p:cNvPr id="374" name="Rectangle 5" descr=""/>
          <p:cNvPicPr/>
          <p:nvPr/>
        </p:nvPicPr>
        <p:blipFill>
          <a:blip r:embed="rId3"/>
          <a:stretch/>
        </p:blipFill>
        <p:spPr>
          <a:xfrm>
            <a:off x="225360" y="1006560"/>
            <a:ext cx="86994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152280" y="808200"/>
            <a:ext cx="899172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611280" indent="12600"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ть правило с. 5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533520" y="107640"/>
            <a:ext cx="8381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a1f28"/>
                </a:solidFill>
                <a:latin typeface="Times New Roman"/>
              </a:rPr>
              <a:t>Цель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ить понятия о лексикологии как науки о язы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ить понятие «лексическое» и «грамматическое» значение сл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ить понятия однозначные и многозначные слова, переносное значение слова; синонимы, антони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304920" y="-2520"/>
            <a:ext cx="8686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       </a:t>
            </a: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Словарно-орфографическая рабо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осв..тить стихотворение, пос..деть у говорливого ручья, разр..дить обстановку, разд..дил морковь, дремл..т камыш(?), горячий ключ(?), хороший товарищ(?), ярк..м колоритом, пл..хая погода, верн..го  дру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304920" y="-1800"/>
            <a:ext cx="853416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 по материалам словарного дик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слова, для правильного написания которых необходимо знать их лексическ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синонимы к прилагат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антонимы к слову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яч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р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шите слова, употребленные в переносном значении. Составьте словосочетания, в которых они имели бы прям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304920" y="306000"/>
            <a:ext cx="8534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 по материалам словарного дик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ишите слово, значение которого можно определить только в контексте (словосочетании или предложении). Как называются такие сл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я толковый словарь учебника, определите, однозначное или многозначное слово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ряч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лори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04920" y="1800"/>
            <a:ext cx="8534160" cy="61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ем с текст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ябнет оси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рожит на вет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ынет на солныш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рзнет в ж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Если б дали березке расчес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зменила б березка причес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речку, как в зеркало, гляд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счесала б кудрявые пряд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вошло б у нее в привы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утрам заплетать коси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Токмаков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152280" y="-212040"/>
            <a:ext cx="8991720" cy="66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ем с текст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метаф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метафоры использует поэт, чтобы образнее ярче представить карти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ишите из первого отрывка синонимы к слов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рзну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кова их роль в тек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ишите из второго отрывка глаголы, которые употребляются в переносном значении. Графически объясните в них правописание гласной в коне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ите и запишите синонимы к слов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яде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ли возможна синонимическая замена? Например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мотреть (глядеть) филь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152280" y="518760"/>
            <a:ext cx="8991720" cy="51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611280" indent="-343080"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Лексический дикта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по лексическому значению слово и запиш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 слова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рный запас одного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дел лингвистики, изучающий лекс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, имеющие одно лексическ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, имеющие несколько лексических знач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 одной части речи,  одинаковые по звучанию и написанию, но разные по зна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 одной части речи, обозначающие одно и то же, но с разными оттенками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152280" y="154080"/>
            <a:ext cx="8991720" cy="53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611280" indent="12600"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Проверьте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с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сико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сиколог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нозна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ногозначные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мони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ин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ольцева Э.М-А.</cp:lastModifiedBy>
  <dcterms:modified xsi:type="dcterms:W3CDTF">2013-09-29T06:28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