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21E-7978-437E-963E-8698C416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195-6191-4051-BEA7-8697A39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8B4-7F84-442F-AE97-B56C5790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E85-D547-4C36-9C76-BDB8FAE5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ECB-FC25-4D58-BA74-F5371B2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AD8-C14F-44C9-B75A-C3E3920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DCA-3545-47C7-9ACC-51BCF9A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D66-1D73-47FA-9835-AC948B2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D38-76CE-43D9-9232-EEBC2EB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225-7EDF-4341-A686-0C6E3C6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F06-B36D-45CE-96B9-BDF6860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A1B-D25F-4245-AF5F-1BBCA04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DD30-6942-4D55-8068-9CF7AC3AC4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5.xml"/><Relationship Id="rId5" Type="http://schemas.openxmlformats.org/officeDocument/2006/relationships/slide" Target="slide33.xml"/><Relationship Id="rId6" Type="http://schemas.openxmlformats.org/officeDocument/2006/relationships/slide" Target="slide31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slide" Target="slide25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hyperlink" Target="file:///tmp/home/.config/libreoffice/4/user/gallery/ricochet.wav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-1133640" y="-390600"/>
            <a:ext cx="1142388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печать-круглая.png"/>
          <p:cNvPicPr/>
          <p:nvPr/>
        </p:nvPicPr>
        <p:blipFill>
          <a:blip r:embed="rId2"/>
          <a:stretch/>
        </p:blipFill>
        <p:spPr>
          <a:xfrm>
            <a:off x="5643720" y="342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22960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11778" y="3837"/>
                </a:moveTo>
                <a:lnTo>
                  <a:pt x="14354" y="6448"/>
                </a:ln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lnTo>
                  <a:pt x="18741" y="10800"/>
                </a:lnTo>
                <a:lnTo>
                  <a:pt x="17087" y="10800"/>
                </a:lnTo>
                <a:lnTo>
                  <a:pt x="17087" y="17989"/>
                </a:lnTo>
                <a:lnTo>
                  <a:pt x="6469" y="17989"/>
                </a:lnTo>
                <a:lnTo>
                  <a:pt x="6469" y="10800"/>
                </a:lnTo>
                <a:lnTo>
                  <a:pt x="4815" y="10800"/>
                </a:lnTo>
                <a:close/>
              </a:path>
              <a:path fill="darkenLess" w="23556" h="21600">
                <a:moveTo>
                  <a:pt x="14354" y="6448"/>
                </a:move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close/>
              </a:path>
              <a:path fill="darkenLess" w="23556" h="21600">
                <a:moveTo>
                  <a:pt x="10855" y="14299"/>
                </a:moveTo>
                <a:lnTo>
                  <a:pt x="12701" y="14299"/>
                </a:lnTo>
                <a:lnTo>
                  <a:pt x="12701" y="17989"/>
                </a:lnTo>
                <a:lnTo>
                  <a:pt x="17087" y="17989"/>
                </a:lnTo>
                <a:lnTo>
                  <a:pt x="17087" y="10800"/>
                </a:lnTo>
                <a:lnTo>
                  <a:pt x="6469" y="10800"/>
                </a:lnTo>
                <a:lnTo>
                  <a:pt x="6469" y="17989"/>
                </a:lnTo>
                <a:lnTo>
                  <a:pt x="10855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0  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близости один от другого расположены 2 деревни А и В. Все жители А говорят только правду, а жители В все лгут. Жители А и В посещают друг друга. Представьте, что вы находитесь в какой-то из этих деревень. Какой вопрос (только один) следует задать первому встретившемуся в этой деревне, чтобы по ответу на этот вопрос установить, А это или В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Вы в этой деревне живете?»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46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5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ой русский писатель окончил физико-математический факультет университет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2743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С.Грибоедов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ирпич имеет массу 1,5 кг и еще полкирпича. Какова масса кирпич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кг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 уроках физкультуры ученики выстроились в линейку на расстоянии 1 м друг от друга. Вся линейка растянулась на 25 м. Сколько было учеников?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6 учеников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итератур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Кто этот человек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одился в Москв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чился в сел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мер в Санкт-Петербург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се его знают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5" name="Rectangle 3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4">
            <a:hlinkClick r:id="rId1" action="ppaction://hlinksldjump"/>
          </p:cNvPr>
          <p:cNvSpPr/>
          <p:nvPr/>
        </p:nvSpPr>
        <p:spPr>
          <a:xfrm>
            <a:off x="731520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Rectangle 5">
            <a:hlinkClick r:id="rId2" action="ppaction://hlinksldjump"/>
          </p:cNvPr>
          <p:cNvSpPr/>
          <p:nvPr/>
        </p:nvSpPr>
        <p:spPr>
          <a:xfrm>
            <a:off x="548784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6">
            <a:hlinkClick r:id="rId3" action="ppaction://hlinksldjump"/>
          </p:cNvPr>
          <p:cNvSpPr/>
          <p:nvPr/>
        </p:nvSpPr>
        <p:spPr>
          <a:xfrm>
            <a:off x="3656160" y="5149800"/>
            <a:ext cx="183168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Rectangle 7">
            <a:hlinkClick r:id="rId4" action="ppaction://hlinksldjump"/>
          </p:cNvPr>
          <p:cNvSpPr/>
          <p:nvPr/>
        </p:nvSpPr>
        <p:spPr>
          <a:xfrm>
            <a:off x="182880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9">
            <a:hlinkClick r:id="rId5" action="ppaction://hlinksldjump"/>
          </p:cNvPr>
          <p:cNvSpPr/>
          <p:nvPr/>
        </p:nvSpPr>
        <p:spPr>
          <a:xfrm>
            <a:off x="731520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Rectangle 10">
            <a:hlinkClick r:id="rId6" action="ppaction://hlinksldjump"/>
          </p:cNvPr>
          <p:cNvSpPr/>
          <p:nvPr/>
        </p:nvSpPr>
        <p:spPr>
          <a:xfrm>
            <a:off x="5487840" y="3978360"/>
            <a:ext cx="182736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Rectangle 11">
            <a:hlinkClick r:id="rId7" action="ppaction://hlinksldjump"/>
          </p:cNvPr>
          <p:cNvSpPr/>
          <p:nvPr/>
        </p:nvSpPr>
        <p:spPr>
          <a:xfrm>
            <a:off x="3656160" y="3978360"/>
            <a:ext cx="183168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Rectangle 12">
            <a:hlinkClick r:id="rId8" action="ppaction://hlinksldjump"/>
          </p:cNvPr>
          <p:cNvSpPr/>
          <p:nvPr/>
        </p:nvSpPr>
        <p:spPr>
          <a:xfrm>
            <a:off x="1792440" y="4008600"/>
            <a:ext cx="1828800" cy="117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-РИ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Rectangle 14">
            <a:hlinkClick r:id="rId9" action="ppaction://hlinksldjump"/>
          </p:cNvPr>
          <p:cNvSpPr/>
          <p:nvPr/>
        </p:nvSpPr>
        <p:spPr>
          <a:xfrm>
            <a:off x="7315200" y="285264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Rectangle 15">
            <a:hlinkClick r:id="rId10" action="ppaction://hlinksldjump"/>
          </p:cNvPr>
          <p:cNvSpPr/>
          <p:nvPr/>
        </p:nvSpPr>
        <p:spPr>
          <a:xfrm>
            <a:off x="548784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Rectangle 16">
            <a:hlinkClick r:id="rId11" action="ppaction://hlinksldjump"/>
          </p:cNvPr>
          <p:cNvSpPr/>
          <p:nvPr/>
        </p:nvSpPr>
        <p:spPr>
          <a:xfrm>
            <a:off x="3657600" y="2803680"/>
            <a:ext cx="183024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Rectangle 17">
            <a:hlinkClick r:id="rId12" action="ppaction://hlinksldjump"/>
          </p:cNvPr>
          <p:cNvSpPr/>
          <p:nvPr/>
        </p:nvSpPr>
        <p:spPr>
          <a:xfrm>
            <a:off x="182880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280368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ИТЕРА-ТУР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Rectangle 19">
            <a:hlinkClick r:id="rId13" action="ppaction://hlinksldjump"/>
          </p:cNvPr>
          <p:cNvSpPr/>
          <p:nvPr/>
        </p:nvSpPr>
        <p:spPr>
          <a:xfrm>
            <a:off x="731520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Rectangle 20">
            <a:hlinkClick r:id="rId14" action="ppaction://hlinksldjump"/>
          </p:cNvPr>
          <p:cNvSpPr/>
          <p:nvPr/>
        </p:nvSpPr>
        <p:spPr>
          <a:xfrm>
            <a:off x="548784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Rectangle 21">
            <a:hlinkClick r:id="rId15" action="ppaction://hlinksldjump"/>
          </p:cNvPr>
          <p:cNvSpPr/>
          <p:nvPr/>
        </p:nvSpPr>
        <p:spPr>
          <a:xfrm>
            <a:off x="3656160" y="1631880"/>
            <a:ext cx="183168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82880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731520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5487840" y="457200"/>
            <a:ext cx="182736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3656160" y="457200"/>
            <a:ext cx="183168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1828800" y="457200"/>
            <a:ext cx="1827360" cy="1042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Rectangle 28">
            <a:hlinkClick r:id="rId16"/>
          </p:cNvPr>
          <p:cNvSpPr/>
          <p:nvPr/>
        </p:nvSpPr>
        <p:spPr>
          <a:xfrm>
            <a:off x="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ФИЗ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0" y="1631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0" y="28036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9783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0" y="5149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19810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365616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548784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731520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914400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.С. Пушкин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772400" y="57150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837"/>
                </a:moveTo>
                <a:lnTo>
                  <a:pt x="15536" y="6448"/>
                </a:ln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lnTo>
                  <a:pt x="19922" y="10800"/>
                </a:lnTo>
                <a:lnTo>
                  <a:pt x="18269" y="10800"/>
                </a:lnTo>
                <a:lnTo>
                  <a:pt x="18269" y="17989"/>
                </a:lnTo>
                <a:lnTo>
                  <a:pt x="7650" y="17989"/>
                </a:lnTo>
                <a:lnTo>
                  <a:pt x="7650" y="10800"/>
                </a:lnTo>
                <a:lnTo>
                  <a:pt x="5996" y="10800"/>
                </a:lnTo>
                <a:close/>
              </a:path>
              <a:path fill="darkenLess" w="25919" h="21600">
                <a:moveTo>
                  <a:pt x="15536" y="6448"/>
                </a:move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close/>
              </a:path>
              <a:path fill="darkenLess" w="25919" h="21600">
                <a:moveTo>
                  <a:pt x="12037" y="14299"/>
                </a:moveTo>
                <a:lnTo>
                  <a:pt x="13882" y="14299"/>
                </a:lnTo>
                <a:lnTo>
                  <a:pt x="13882" y="17989"/>
                </a:lnTo>
                <a:lnTo>
                  <a:pt x="18269" y="17989"/>
                </a:lnTo>
                <a:lnTo>
                  <a:pt x="18269" y="10800"/>
                </a:lnTo>
                <a:lnTo>
                  <a:pt x="7650" y="10800"/>
                </a:lnTo>
                <a:lnTo>
                  <a:pt x="7650" y="17989"/>
                </a:lnTo>
                <a:lnTo>
                  <a:pt x="120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Литература 50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то этот литературный герой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го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родина — Англи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тличается завидным аппетито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дин из его друзей — настоящая свинь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бычно говорит и поёт голосом  Евгения Леонов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ни - Пух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762012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4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настоящую  фамилию  Максима Горького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шков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Папа, отзовись!»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был папой А. С. Пушкин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ергей Львович Пушки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77240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3" y="6448"/>
                </a:ln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3" y="6448"/>
                </a:move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4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4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10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з-за какой женщины началась Троянская войн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ле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7848720" y="58672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4119" y="3837"/>
                </a:moveTo>
                <a:lnTo>
                  <a:pt x="16695" y="6448"/>
                </a:ln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lnTo>
                  <a:pt x="21082" y="10800"/>
                </a:lnTo>
                <a:lnTo>
                  <a:pt x="19428" y="10800"/>
                </a:lnTo>
                <a:lnTo>
                  <a:pt x="19428" y="17989"/>
                </a:lnTo>
                <a:lnTo>
                  <a:pt x="8810" y="17989"/>
                </a:lnTo>
                <a:lnTo>
                  <a:pt x="8810" y="10800"/>
                </a:lnTo>
                <a:lnTo>
                  <a:pt x="7156" y="10800"/>
                </a:lnTo>
                <a:close/>
              </a:path>
              <a:path fill="darkenLess" w="28238" h="21600">
                <a:moveTo>
                  <a:pt x="16695" y="6448"/>
                </a:move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close/>
              </a:path>
              <a:path fill="darkenLess" w="28238" h="21600">
                <a:moveTo>
                  <a:pt x="13196" y="14299"/>
                </a:moveTo>
                <a:lnTo>
                  <a:pt x="15041" y="14299"/>
                </a:lnTo>
                <a:lnTo>
                  <a:pt x="15041" y="17989"/>
                </a:lnTo>
                <a:lnTo>
                  <a:pt x="19428" y="17989"/>
                </a:lnTo>
                <a:lnTo>
                  <a:pt x="19428" y="10800"/>
                </a:lnTo>
                <a:lnTo>
                  <a:pt x="8810" y="10800"/>
                </a:lnTo>
                <a:lnTo>
                  <a:pt x="8810" y="17989"/>
                </a:lnTo>
                <a:lnTo>
                  <a:pt x="13196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5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имя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истории России их было тро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торой, и третий были внуками первог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то, чтобы зваться третьим, было много претендентов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вого прозвали Великий.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великих мудрецов сказал : «Дайте мне точку опоры и я переверну Землю»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) Аристотель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) Евкли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) Пифаг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2514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886200" y="5943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6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6" h="21600">
                <a:moveTo>
                  <a:pt x="17303" y="14281"/>
                </a:moveTo>
                <a:lnTo>
                  <a:pt x="17303" y="12323"/>
                </a:lnTo>
                <a:cubicBezTo>
                  <a:pt x="17303" y="11496"/>
                  <a:pt x="17634" y="10800"/>
                  <a:pt x="18235" y="10800"/>
                </a:cubicBezTo>
                <a:cubicBezTo>
                  <a:pt x="19366" y="10800"/>
                  <a:pt x="20263" y="9434"/>
                  <a:pt x="20263" y="7849"/>
                </a:cubicBezTo>
                <a:cubicBezTo>
                  <a:pt x="20263" y="5534"/>
                  <a:pt x="18409" y="3794"/>
                  <a:pt x="16198" y="3794"/>
                </a:cubicBezTo>
                <a:cubicBezTo>
                  <a:pt x="13987" y="3794"/>
                  <a:pt x="12316" y="5534"/>
                  <a:pt x="12316" y="7849"/>
                </a:cubicBezTo>
                <a:lnTo>
                  <a:pt x="14170" y="7849"/>
                </a:lnTo>
                <a:cubicBezTo>
                  <a:pt x="14170" y="6709"/>
                  <a:pt x="15093" y="5821"/>
                  <a:pt x="16198" y="5821"/>
                </a:cubicBezTo>
                <a:cubicBezTo>
                  <a:pt x="17303" y="5821"/>
                  <a:pt x="18235" y="6709"/>
                  <a:pt x="18235" y="7849"/>
                </a:cubicBezTo>
                <a:cubicBezTo>
                  <a:pt x="18235" y="8589"/>
                  <a:pt x="17765" y="9320"/>
                  <a:pt x="17303" y="9320"/>
                </a:cubicBezTo>
                <a:cubicBezTo>
                  <a:pt x="16198" y="9320"/>
                  <a:pt x="15093" y="10800"/>
                  <a:pt x="15093" y="12323"/>
                </a:cubicBezTo>
                <a:lnTo>
                  <a:pt x="15093" y="142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тр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40</a:t>
            </a:r>
            <a:br>
              <a:rPr sz="44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е победы над царём Фарнаком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Юлий Цезарь в своём  сообщении из 3 слов не использовал слово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А) увиде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) напа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) победи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) пришёл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поднял восстание рабов в 73-71 гг. до н.э.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) Зенит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Реал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) Ювентус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620120" y="5715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100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музее компьютеров в Мальборо (США) можно видеть блок памяти одного из первых компьютеров, построенных в 50-х годах. Рядом с ними микросхема с тем же объёмом памяти. Назовите  третий предмет этой экспозици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ко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7162920" y="5486400"/>
            <a:ext cx="990360" cy="10666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форматика 50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ВА НЕ ЕСТ КОРМ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Т, ТАК НАМ СОВСЕМНЕ РЕЗОН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АРКОМ ВЕДЁТ ТОРТ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ОЗЕТКА НЕ ЗАМКНЁТ ТОК.</a:t>
            </a:r>
            <a:br>
              <a:rPr sz="32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первый взгляд  единственное, что их объединяет, — это то, что все они на русском языке. Однако если вы попробуете набрать эти фразы на  клавиатуре компьютера,  то обнаружите еще одну общую  черту этих фраз. Какую?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8380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и фразы можно набрать на  нерусифицированной клавиатуре, ограничившись заглавными латинскими  А, В, Е, К, М, Н, О, Р, С, Т, Х и цифрой 3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-380880"/>
            <a:ext cx="830556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кажите, пожалуйста: какую техническую процедуру часто проделывают и с почтовыми конвертами,  и с набранным на компьютере текстом ,и  даже с футбольными воротами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41148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89" h="21600">
                <a:moveTo>
                  <a:pt x="14850" y="14281"/>
                </a:moveTo>
                <a:lnTo>
                  <a:pt x="14850" y="12323"/>
                </a:lnTo>
                <a:cubicBezTo>
                  <a:pt x="14850" y="11496"/>
                  <a:pt x="15181" y="10800"/>
                  <a:pt x="15781" y="10800"/>
                </a:cubicBezTo>
                <a:cubicBezTo>
                  <a:pt x="16913" y="10800"/>
                  <a:pt x="17809" y="9434"/>
                  <a:pt x="17809" y="7849"/>
                </a:cubicBezTo>
                <a:cubicBezTo>
                  <a:pt x="17809" y="5534"/>
                  <a:pt x="15955" y="3794"/>
                  <a:pt x="13745" y="3794"/>
                </a:cubicBezTo>
                <a:cubicBezTo>
                  <a:pt x="11534" y="3794"/>
                  <a:pt x="9863" y="5534"/>
                  <a:pt x="9863" y="7849"/>
                </a:cubicBezTo>
                <a:lnTo>
                  <a:pt x="11717" y="7849"/>
                </a:lnTo>
                <a:cubicBezTo>
                  <a:pt x="11717" y="6709"/>
                  <a:pt x="12639" y="5821"/>
                  <a:pt x="13745" y="5821"/>
                </a:cubicBezTo>
                <a:cubicBezTo>
                  <a:pt x="14850" y="5821"/>
                  <a:pt x="15781" y="6709"/>
                  <a:pt x="15781" y="7849"/>
                </a:cubicBezTo>
                <a:cubicBezTo>
                  <a:pt x="15781" y="8589"/>
                  <a:pt x="15311" y="9320"/>
                  <a:pt x="14850" y="9320"/>
                </a:cubicBezTo>
                <a:cubicBezTo>
                  <a:pt x="13745" y="9320"/>
                  <a:pt x="12639" y="10800"/>
                  <a:pt x="12639" y="12323"/>
                </a:cubicBezTo>
                <a:lnTo>
                  <a:pt x="12639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56040" y="271296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162920" y="54100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спечатывание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ор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Средние века их изготовляли из хрусталя и специальным образом дробленого мрамора. Их специальные модели носили, прикрепляя к колену. Сейчас в быту они почти не встречаются, правда, любители компьютеров их видят очень часто. О чем идёт речь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сочные час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50</a:t>
            </a:r>
            <a:br>
              <a:rPr sz="4400"/>
            </a:b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Чьей температурной шкалой пользуются в СШ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045160" y="3048120"/>
            <a:ext cx="50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шкалой Фаренгейта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AutoShape 5">
            <a:hlinkClick r:id="rId1"/>
          </p:cNvPr>
          <p:cNvSpPr/>
          <p:nvPr/>
        </p:nvSpPr>
        <p:spPr>
          <a:xfrm>
            <a:off x="7772400" y="5791320"/>
            <a:ext cx="914400" cy="10666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6680"/>
              <a:gd name="textAreaBottom" fmla="*/ 1007640 h 1066680"/>
            </a:gdLst>
            <a:ahLst/>
            <a:rect l="textAreaLeft" t="textAreaTop" r="textAreaRight" b="textAreaBottom"/>
            <a:pathLst>
              <a:path w="21600" h="25196">
                <a:moveTo>
                  <a:pt x="0" y="0"/>
                </a:moveTo>
                <a:lnTo>
                  <a:pt x="21600" y="0"/>
                </a:lnTo>
                <a:lnTo>
                  <a:pt x="21600" y="25196"/>
                </a:lnTo>
                <a:lnTo>
                  <a:pt x="0" y="25196"/>
                </a:lnTo>
                <a:close/>
              </a:path>
              <a:path fill="lightenLess" w="21600" h="25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6">
                <a:moveTo>
                  <a:pt x="21600" y="0"/>
                </a:moveTo>
                <a:lnTo>
                  <a:pt x="21600" y="25196"/>
                </a:lnTo>
                <a:lnTo>
                  <a:pt x="20200" y="23796"/>
                </a:lnTo>
                <a:lnTo>
                  <a:pt x="20200" y="1400"/>
                </a:lnTo>
                <a:close/>
              </a:path>
              <a:path fill="darkenLess" w="21600" h="25196">
                <a:moveTo>
                  <a:pt x="21600" y="25196"/>
                </a:moveTo>
                <a:lnTo>
                  <a:pt x="0" y="25196"/>
                </a:lnTo>
                <a:lnTo>
                  <a:pt x="1400" y="23796"/>
                </a:lnTo>
                <a:lnTo>
                  <a:pt x="20200" y="23796"/>
                </a:lnTo>
                <a:close/>
              </a:path>
              <a:path fill="lighten" w="21600" h="25196">
                <a:moveTo>
                  <a:pt x="0" y="25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6"/>
                </a:lnTo>
                <a:close/>
              </a:path>
              <a:path fill="darken" w="21600" h="25196">
                <a:moveTo>
                  <a:pt x="10800" y="5635"/>
                </a:moveTo>
                <a:lnTo>
                  <a:pt x="13376" y="8246"/>
                </a:ln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lnTo>
                  <a:pt x="17763" y="12598"/>
                </a:lnTo>
                <a:lnTo>
                  <a:pt x="16109" y="12598"/>
                </a:lnTo>
                <a:lnTo>
                  <a:pt x="16109" y="19787"/>
                </a:lnTo>
                <a:lnTo>
                  <a:pt x="5491" y="19787"/>
                </a:lnTo>
                <a:lnTo>
                  <a:pt x="5491" y="12598"/>
                </a:lnTo>
                <a:lnTo>
                  <a:pt x="3837" y="12598"/>
                </a:lnTo>
                <a:close/>
              </a:path>
              <a:path fill="darkenLess" w="21600" h="25196">
                <a:moveTo>
                  <a:pt x="13376" y="8246"/>
                </a:move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close/>
              </a:path>
              <a:path fill="darkenLess" w="21600" h="25196">
                <a:moveTo>
                  <a:pt x="9877" y="16097"/>
                </a:moveTo>
                <a:lnTo>
                  <a:pt x="11723" y="16097"/>
                </a:lnTo>
                <a:lnTo>
                  <a:pt x="11723" y="19787"/>
                </a:lnTo>
                <a:lnTo>
                  <a:pt x="16109" y="19787"/>
                </a:lnTo>
                <a:lnTo>
                  <a:pt x="16109" y="12598"/>
                </a:lnTo>
                <a:lnTo>
                  <a:pt x="5491" y="12598"/>
                </a:lnTo>
                <a:lnTo>
                  <a:pt x="5491" y="19787"/>
                </a:lnTo>
                <a:lnTo>
                  <a:pt x="9877" y="1978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ученых был основоположником научного эксперимента в физике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Галилей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В) Ньютон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С)Архимед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Д) Ломоносов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267080" y="5562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72" h="21600">
                <a:moveTo>
                  <a:pt x="12741" y="14281"/>
                </a:moveTo>
                <a:lnTo>
                  <a:pt x="12741" y="12323"/>
                </a:lnTo>
                <a:cubicBezTo>
                  <a:pt x="12741" y="11496"/>
                  <a:pt x="13072" y="10800"/>
                  <a:pt x="13673" y="10800"/>
                </a:cubicBezTo>
                <a:cubicBezTo>
                  <a:pt x="14804" y="10800"/>
                  <a:pt x="15701" y="9434"/>
                  <a:pt x="15701" y="7849"/>
                </a:cubicBezTo>
                <a:cubicBezTo>
                  <a:pt x="15701" y="5534"/>
                  <a:pt x="13847" y="3794"/>
                  <a:pt x="11636" y="3794"/>
                </a:cubicBezTo>
                <a:cubicBezTo>
                  <a:pt x="9425" y="3794"/>
                  <a:pt x="7754" y="5534"/>
                  <a:pt x="7754" y="7849"/>
                </a:cubicBezTo>
                <a:lnTo>
                  <a:pt x="9608" y="7849"/>
                </a:lnTo>
                <a:cubicBezTo>
                  <a:pt x="9608" y="6709"/>
                  <a:pt x="10531" y="5821"/>
                  <a:pt x="11636" y="5821"/>
                </a:cubicBezTo>
                <a:cubicBezTo>
                  <a:pt x="12741" y="5821"/>
                  <a:pt x="13673" y="6709"/>
                  <a:pt x="13673" y="7849"/>
                </a:cubicBezTo>
                <a:cubicBezTo>
                  <a:pt x="13673" y="8589"/>
                  <a:pt x="13203" y="9320"/>
                  <a:pt x="12741" y="9320"/>
                </a:cubicBezTo>
                <a:cubicBezTo>
                  <a:pt x="11636" y="9320"/>
                  <a:pt x="10531" y="10800"/>
                  <a:pt x="10531" y="12323"/>
                </a:cubicBezTo>
                <a:lnTo>
                  <a:pt x="10531" y="1428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.Галилей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62012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837"/>
                </a:moveTo>
                <a:lnTo>
                  <a:pt x="15036" y="6448"/>
                </a:ln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lnTo>
                  <a:pt x="19422" y="10800"/>
                </a:lnTo>
                <a:lnTo>
                  <a:pt x="17769" y="10800"/>
                </a:lnTo>
                <a:lnTo>
                  <a:pt x="17769" y="17989"/>
                </a:lnTo>
                <a:lnTo>
                  <a:pt x="7150" y="17989"/>
                </a:lnTo>
                <a:lnTo>
                  <a:pt x="7150" y="10800"/>
                </a:lnTo>
                <a:lnTo>
                  <a:pt x="5496" y="10800"/>
                </a:lnTo>
                <a:close/>
              </a:path>
              <a:path fill="darkenLess" w="24919" h="21600">
                <a:moveTo>
                  <a:pt x="15036" y="6448"/>
                </a:move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close/>
              </a:path>
              <a:path fill="darkenLess" w="24919" h="21600">
                <a:moveTo>
                  <a:pt x="11537" y="14299"/>
                </a:moveTo>
                <a:lnTo>
                  <a:pt x="13382" y="14299"/>
                </a:lnTo>
                <a:lnTo>
                  <a:pt x="13382" y="17989"/>
                </a:lnTo>
                <a:lnTo>
                  <a:pt x="17769" y="17989"/>
                </a:lnTo>
                <a:lnTo>
                  <a:pt x="17769" y="10800"/>
                </a:lnTo>
                <a:lnTo>
                  <a:pt x="7150" y="10800"/>
                </a:lnTo>
                <a:lnTo>
                  <a:pt x="7150" y="17989"/>
                </a:lnTo>
                <a:lnTo>
                  <a:pt x="115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1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не является счетным устройством?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А) Абак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) Арифмомет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) Калькулят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3886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07:02Z</dcterms:created>
  <dc:creator>Лена</dc:creator>
  <dc:description/>
  <dc:language>en-US</dc:language>
  <cp:lastModifiedBy>Усольцева Э.М-А.</cp:lastModifiedBy>
  <dcterms:modified xsi:type="dcterms:W3CDTF">2013-12-01T14:20:03Z</dcterms:modified>
  <cp:revision>18</cp:revision>
  <dc:subject/>
  <dc:title>Презентация PowerPoint</dc:title>
</cp:coreProperties>
</file>