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Орищенко ЕИ" initials="ОЕ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2-04-16T13:28:04.30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9C9-496A-4BBE-8A4E-0BB9D913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7A5-9D60-49B3-8375-80078485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D4F-1CB2-4536-AEA7-DB67C939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2F5-56D5-4890-820B-B1686FD7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0B8C-C895-409E-ABD8-82B2F6C8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C008-0CCC-4C9F-B0D1-68605763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394-F3C7-47DC-9C32-5D0631E2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4CD6-291D-4B00-9ED0-9A11DC7B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1E7C-7E86-4647-B849-C2B79CE6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B47D-3A50-4A44-B377-CF6E8E1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8CE1-58F6-4721-B257-27599382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5A2-387D-4056-BEEB-D4F501EF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6DED-F809-4D22-9A83-55BCBBE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5265-2238-46B4-BC93-5B7939FB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EE08-7FD0-48F5-B6FC-58C4BDAE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A2C3-5BF2-4F92-95BE-9C8D47F9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A28F-3AD3-432A-A7F1-8CBB561D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86C-ADC7-440F-A72C-FFADE93B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BF2-9185-4113-903C-022FCF6A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1B6-5ED2-44AF-AE27-AF1DB479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A70-72D4-48C9-8D0F-EEE5D3A2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8C8-0234-4608-BF7E-146C61C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100-D3E8-4774-A742-47404DE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10F-BC0B-4F99-9C56-179D035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0720"/>
                <a:ext cx="1833120" cy="1668960"/>
                <a:chOff x="852840" y="4050720"/>
                <a:chExt cx="1833120" cy="16689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5120" y="3933720"/>
                  <a:ext cx="477360" cy="12459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5960"/>
                    <a:gd name="textAreaBottom" fmla="*/ 1246320 h 12459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7360" y="4979520"/>
                  <a:ext cx="110520" cy="51084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840"/>
                    <a:gd name="textAreaBottom" fmla="*/ 511200 h 5108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7DA8-FDCD-45EE-BAB2-329CE2CEE14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1440" y="58320"/>
              <a:ext cx="3628440" cy="6141240"/>
              <a:chOff x="5401440" y="58320"/>
              <a:chExt cx="3628440" cy="6141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4760" y="343080"/>
                <a:ext cx="2112480" cy="2355480"/>
              </a:xfrm>
              <a:custGeom>
                <a:avLst/>
                <a:gdLst>
                  <a:gd name="textAreaLeft" fmla="*/ 0 w 2112480"/>
                  <a:gd name="textAreaRight" fmla="*/ 2112840 w 2112480"/>
                  <a:gd name="textAreaTop" fmla="*/ -360 h 2355480"/>
                  <a:gd name="textAreaBottom" fmla="*/ 2355480 h 23554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3200" y="1962000"/>
                <a:ext cx="905040" cy="842400"/>
              </a:xfrm>
              <a:custGeom>
                <a:avLst/>
                <a:gdLst>
                  <a:gd name="textAreaLeft" fmla="*/ 0 w 905040"/>
                  <a:gd name="textAreaRight" fmla="*/ 905400 w 90504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8588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3280" y="668880"/>
                <a:ext cx="388080" cy="55044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14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2320" y="124164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1720" y="2939040"/>
                <a:ext cx="522720" cy="326664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>
                <a:gd name="textAreaLeft" fmla="*/ 0 w 1999080"/>
                <a:gd name="textAreaRight" fmla="*/ 1999440 w 199908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3160"/>
              <a:ext cx="1690560" cy="1146600"/>
              <a:chOff x="375840" y="44316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16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868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08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8640" y="3712320"/>
              <a:ext cx="1156320" cy="1607760"/>
              <a:chOff x="738864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33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408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700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4CA6-FBD5-4C9C-952E-A7B2085BB7F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4400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Презентация к внеклассному мероприятию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ИГРА-ПУТЕШЕСТВИЕ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«ТРОПИНКАМИ ЗДОРОВЬЯ»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 </a:t>
            </a:r>
            <a:r>
              <a:rPr b="0" lang="ru-RU" sz="1800" spc="-1" strike="noStrike">
                <a:solidFill>
                  <a:srgbClr val="006666"/>
                </a:solidFill>
                <a:latin typeface="Meiryo UI"/>
                <a:ea typeface="Meiryo UI"/>
              </a:rPr>
              <a:t>подготовил учитель начальных классов МКОУ Копанская ООШ Россошанского муниципального района Воронежской области Орищенко Елена Ивановна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imgpreviewCAQ3P6TP.jpg"/>
          <p:cNvPicPr/>
          <p:nvPr/>
        </p:nvPicPr>
        <p:blipFill>
          <a:blip r:embed="rId1"/>
          <a:stretch/>
        </p:blipFill>
        <p:spPr>
          <a:xfrm>
            <a:off x="1619280" y="1052640"/>
            <a:ext cx="5977080" cy="4464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9"/>
          <p:cNvSpPr/>
          <p:nvPr/>
        </p:nvSpPr>
        <p:spPr>
          <a:xfrm>
            <a:off x="1714680" y="285840"/>
            <a:ext cx="6286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ЧЁ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1"/>
          <p:cNvSpPr/>
          <p:nvPr/>
        </p:nvSpPr>
        <p:spPr>
          <a:xfrm>
            <a:off x="971640" y="1197000"/>
            <a:ext cx="7200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539640" y="530280"/>
            <a:ext cx="7848720" cy="54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just">
              <a:lnSpc>
                <a:spcPct val="9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Защищать уши от сильного шум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Защищать уши от ветр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ковырять в ушах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сморкаться сильн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допускать попадания воды в уши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Если уши заболели, обратиться к врачу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Правильно чистить уши: намыленным пальцем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Мыть уши каждый день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Каждое утро разминать ушную раковину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AATW2SWCAUW84FTCAE5FUYBCAJYB6W9CAWG42I7CAIWFYM4CALEJLT3CA02M164CAB30LOCCAIXAGYICABLZLUDCA1V5QDNCAC3X7ZFCAK8VFG4CADZTAYGCAK2E62BCA0KATZ2CA6COYCUCA5N6ZEQCAQB0C44.jpg"/>
          <p:cNvPicPr/>
          <p:nvPr/>
        </p:nvPicPr>
        <p:blipFill>
          <a:blip r:embed="rId1"/>
          <a:stretch/>
        </p:blipFill>
        <p:spPr>
          <a:xfrm>
            <a:off x="2214720" y="714240"/>
            <a:ext cx="50004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из вас всегда готов жизнь прожить без докторов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971640" y="1557360"/>
            <a:ext cx="76327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не хочет быть здоровым, бодрым стройным и весёлым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620280"/>
            <a:ext cx="82440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то из вас не ходит хмурый, любит спорт и физкультуру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1116000" y="3068640"/>
            <a:ext cx="698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549360"/>
            <a:ext cx="824400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из вас не ходит хмурый, любит спорт и физкультуру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1763640" y="126432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мороза не боится, на коньках летит, как птица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6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Ну а кто начнет обед жвачкой с парою конфет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042920" y="973080"/>
            <a:ext cx="720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же любит помидоры, фрукты, овощи, лимоны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Comic Sans MS"/>
              </a:rPr>
              <a:t>В гости к леснику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" name="Picture 10" descr="C:\Users\Орищенко ЕИ\Pictures\DSCF1267.jpg"/>
          <p:cNvPicPr/>
          <p:nvPr/>
        </p:nvPicPr>
        <p:blipFill>
          <a:blip r:embed="rId1"/>
          <a:stretch/>
        </p:blipFill>
        <p:spPr>
          <a:xfrm>
            <a:off x="1692360" y="2457360"/>
            <a:ext cx="57592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003640" y="5734080"/>
            <a:ext cx="338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191280" y="5950080"/>
            <a:ext cx="2952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5435640" y="5373720"/>
            <a:ext cx="26654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971640" y="1196640"/>
            <a:ext cx="720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поел и чистит зубки регулярно дважды в сутки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"/>
          <p:cNvSpPr/>
          <p:nvPr/>
        </p:nvSpPr>
        <p:spPr>
          <a:xfrm>
            <a:off x="5003640" y="5445000"/>
            <a:ext cx="316872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4360" y="12272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из вас, из малышей, ходит грязный до ушей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Oval 5"/>
          <p:cNvSpPr/>
          <p:nvPr/>
        </p:nvSpPr>
        <p:spPr>
          <a:xfrm>
            <a:off x="5076720" y="5805360"/>
            <a:ext cx="359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116000" y="83340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согласно распорядку выполняет физзарядку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3"/>
          <p:cNvSpPr/>
          <p:nvPr/>
        </p:nvSpPr>
        <p:spPr>
          <a:xfrm>
            <a:off x="5003640" y="5661000"/>
            <a:ext cx="288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11280" y="138276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, хочу у вас узнать, любит петь и отдыхать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66"/>
                </a:solidFill>
                <a:latin typeface="Comic Sans MS"/>
              </a:rPr>
              <a:t>Молодцы!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точни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http://images.yandex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http://viki.rdf.ru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http://fotki.yandex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http://plant.geoman.ru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http://forest.geoman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Закрой глаза и прислушайся к окружающим тебя звука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4" descr="природа"/>
          <p:cNvPicPr/>
          <p:nvPr/>
        </p:nvPicPr>
        <p:blipFill>
          <a:blip r:embed="rId1"/>
          <a:stretch/>
        </p:blipFill>
        <p:spPr>
          <a:xfrm>
            <a:off x="971640" y="2421000"/>
            <a:ext cx="72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БЕ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6" descr="C:\Users\Орищенко ЕИ\Pictures\0006-005-Belka.jpg"/>
          <p:cNvPicPr/>
          <p:nvPr/>
        </p:nvPicPr>
        <p:blipFill>
          <a:blip r:embed="rId1"/>
          <a:stretch/>
        </p:blipFill>
        <p:spPr>
          <a:xfrm>
            <a:off x="1714680" y="1844640"/>
            <a:ext cx="5715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ЗАЙ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8" descr="C:\Users\Орищенко ЕИ\Pictures\0003-002-Zajats.jpg"/>
          <p:cNvPicPr/>
          <p:nvPr/>
        </p:nvPicPr>
        <p:blipFill>
          <a:blip r:embed="rId1"/>
          <a:stretch/>
        </p:blipFill>
        <p:spPr>
          <a:xfrm>
            <a:off x="1116000" y="1844640"/>
            <a:ext cx="7128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305920" cy="60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</a:t>
            </a: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регите нос от ушибов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ковыряйте в носу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суйте в нос посторонние       предметы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Закаляйтесь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Берегите органы от простуды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курите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УЛИТ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6" descr="C:\Users\Орищенко ЕИ\Pictures\ulitka06.jpg"/>
          <p:cNvPicPr/>
          <p:nvPr/>
        </p:nvPicPr>
        <p:blipFill>
          <a:blip r:embed="rId1"/>
          <a:stretch/>
        </p:blipFill>
        <p:spPr>
          <a:xfrm>
            <a:off x="1979640" y="2286000"/>
            <a:ext cx="48960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Verdana"/>
              </a:rPr>
              <a:t>Вредно или полезно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итать лежа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мотреть на яркий свет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мотреть близко телевизор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ерегать глаз от ударов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мывать по утрам глаза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реть глаза грязными руками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итать при хорошем освещении.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468360" y="381240"/>
            <a:ext cx="813600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9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Умываться по утра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Смотреть телевизор не более 1-1,5 часов вдень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Сидеть не ближе 3 м от телевизор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читать леж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читать в транспорте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Оберегать глаза от попаданий в них инородных предметов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При чтении и письме свет должен освещать страницу слев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Расстояние от глаз до текста рекомендуется 30-35 с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Употреблять в пищу достаточное). количество растительных продуктов (морковь, лук, петрушку, помидоры, сладкий красный перец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10.</a:t>
            </a: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DejaVu Sans"/>
              </a:rPr>
              <a:t>Делать гимнастику для глаз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4:42:35Z</dcterms:created>
  <dc:creator>***$USER$***</dc:creator>
  <dc:description/>
  <dc:language>en-US</dc:language>
  <cp:lastModifiedBy>Орищенко ЕИ</cp:lastModifiedBy>
  <dcterms:modified xsi:type="dcterms:W3CDTF">2014-01-24T08:13:48Z</dcterms:modified>
  <cp:revision>41</cp:revision>
  <dc:subject/>
  <dc:title>В гости к Смешарикам</dc:title>
</cp:coreProperties>
</file>