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250-7591-4341-83A6-7B3EDA94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5A8-88DE-4BA6-98DE-1C09E84B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38E-7AD5-4D4C-A6F3-280C19BE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8F1-F3FD-4E42-BACC-92223C1B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D4C0-6F81-4EA9-A8D0-06CBF743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53E-2BBD-4423-81BC-3F37062F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6F9-3EC7-4747-9D50-8D0D238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DC0-853E-4C14-9B09-61F42096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F139-F681-4DE2-9CC4-5D08EE4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D7E-B50D-41A8-8592-BBC58D0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C7B-6011-4F37-B19E-83184A5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123-D72C-4B19-B451-BF9A2F8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6241-A482-40BF-87FC-3D55822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6A04-2DDB-4467-B4BA-89D83EB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3BBB-C5EB-41A1-86DD-A7A97B4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9D6-E4A6-4576-9E7F-861FFF8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2F2-907C-42E9-9B2D-B6FB103A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541D-A364-40C7-B794-0955CE4E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D5E8-121D-41A7-8541-797B531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22E9-9B64-4AA7-8FF3-8A9E92D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AA83-0314-400E-BB35-83DDE80E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DD48-A7EA-4598-A36B-52E6B30B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E90-EAC5-48D6-87CB-2B23EAA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8DF3-D9FB-45E1-AA08-686C02CC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A3C7-51AD-4D63-A20E-632040E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0A8B-4EC1-4C7A-9BE3-CB5B990A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EDEA-3C04-499C-AA56-9724F75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BAE7-B888-499A-8DCF-04CAA43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D638-E235-42BB-9657-7E227975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2BF2-F137-46E6-8A0C-A6B6A37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CF25-73BC-4956-9F7A-2D19EB4F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7BAD-2305-457F-AAEB-C457153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9F4E-DF65-4074-8440-898C162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9CD-92F9-4861-874F-27E8E45F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833B-A70B-4BE2-82FB-6421689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362E-D602-4CEB-B61F-4B5F2A8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7932-E76B-4ADA-9C84-D4D8F33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0F44-F0AF-44CB-B831-3998112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4C3B-7206-4DE3-A68F-67331CF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3662-01F6-41C1-A89E-33DE60E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FBE1-1233-4FCC-83BD-1E5B3BAF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CA45-52AA-4C76-9F23-3B814B7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5457-46EA-4A72-B5FD-570AD3E0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4888-A05F-4D26-A1DC-39BC6424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45F-FAE7-4D63-97DD-FCC0494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47A7-9858-44D9-A57F-9F81556B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BB43-C453-4883-8ECD-77E8A8D6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BCE4-99CF-4943-A3DF-0A653A0E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0D6F-1E78-4515-AC66-C5A39E8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0284-B667-4305-A539-40B24A7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A375-F55B-4CF0-BF25-8BADECBC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75564-18D8-457D-99DB-E8C38ADC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0EBD-C0FC-4865-A239-B45E80F2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04EA-E7F7-4259-B00A-7210A0E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04619-C61E-428F-BDA7-DA71E0DF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0F6-E70E-4304-9257-64FCF29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CE4F-E3A1-475C-98F3-2FDCC671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1E13-D763-4C24-B4C5-62078D15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BE11-0B2B-464D-9543-D31C650B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F4F72-6934-48FB-8302-D8F9C24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3613-CB6A-4693-8D95-82DEB0B5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4DF3-30B1-4DA6-BAE8-095C3E4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FB72-7AC6-4E54-A792-BA1E0CF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FFAB-CF37-47D0-A0C5-0EEA0F9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8678-3E60-440A-B1A4-5815CBA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D3FA-FA48-4B9D-BE7D-C93457E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914-614D-4A41-9CE8-B9FA05C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DCB4D-4CE7-460F-88DF-1A228AE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BA9E-C749-4C81-B765-4EAC8AB9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8879-29E3-44A8-81CD-6B4B45FB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3CEE2-05AA-4D85-A325-76B048C6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9C2B8-F086-4261-AD96-E0A7DE6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7CD53-37FC-4433-B77B-3DC8DE1D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E21436-B325-4DD6-9D9C-7B209F1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D44DAB-34E6-414E-A07E-E184D5EC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645BE-7EE8-4FFA-8022-67D3854D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0F580-5FEA-43DE-9E22-17A53C89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EB4-F447-4EC8-9C53-970E236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88B0C4-3371-4962-AB96-F7F358A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04300-9B1B-40F7-90DE-1971C37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7046CB-4F5A-49A0-AF7A-BB2CE568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78226-9715-486E-B7BC-22305D49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E19767-E067-4566-BA3A-66C8D2B8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FCA-2C90-4CB5-9423-C00C44D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636-E76F-46F6-8493-BD9F5D1E20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4AEB-5BEA-4726-B984-C42A0D1F27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E7F8-B868-49AB-A9BE-8C1F43A625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528-DD7F-4D38-9A65-1728B72EFD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235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239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240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241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242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8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25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8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28F-B374-4E2D-84F7-1D7150F4D6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3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9276-D679-462E-AD3E-583E62BDF6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d4d4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424B-A3C5-4FEF-BDCF-C6C8875459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38.xml"/><Relationship Id="rId13" Type="http://schemas.openxmlformats.org/officeDocument/2006/relationships/slide" Target="slide39.xml"/><Relationship Id="rId14" Type="http://schemas.openxmlformats.org/officeDocument/2006/relationships/slide" Target="slide40.xml"/><Relationship Id="rId15" Type="http://schemas.openxmlformats.org/officeDocument/2006/relationships/slide" Target="slide41.xml"/><Relationship Id="rId16" Type="http://schemas.openxmlformats.org/officeDocument/2006/relationships/slide" Target="slide42.xml"/><Relationship Id="rId17" Type="http://schemas.openxmlformats.org/officeDocument/2006/relationships/slide" Target="slide43.xml"/><Relationship Id="rId18" Type="http://schemas.openxmlformats.org/officeDocument/2006/relationships/slide" Target="slide44.xml"/><Relationship Id="rId19" Type="http://schemas.openxmlformats.org/officeDocument/2006/relationships/slide" Target="slide45.xml"/><Relationship Id="rId20" Type="http://schemas.openxmlformats.org/officeDocument/2006/relationships/slide" Target="slide46.xml"/><Relationship Id="rId21" Type="http://schemas.openxmlformats.org/officeDocument/2006/relationships/slide" Target="slide47.xml"/><Relationship Id="rId22" Type="http://schemas.openxmlformats.org/officeDocument/2006/relationships/slide" Target="slide48.xml"/><Relationship Id="rId23" Type="http://schemas.openxmlformats.org/officeDocument/2006/relationships/slide" Target="slide49.xml"/><Relationship Id="rId24" Type="http://schemas.openxmlformats.org/officeDocument/2006/relationships/slide" Target="slide50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00120" y="1856880"/>
            <a:ext cx="7088400" cy="2592360"/>
          </a:xfrm>
          <a:prstGeom prst="rect">
            <a:avLst/>
          </a:prstGeom>
          <a:solidFill>
            <a:srgbClr val="9a3130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гра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785880" y="1792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овсем наоборот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лощаем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857160" y="1498680"/>
            <a:ext cx="757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яем вновь и вновь: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лород разносит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857160" y="115668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 мы дышим легкими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й немножко тож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теплорегулятор..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чем здесь речь? О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1"/>
          <p:cNvSpPr/>
          <p:nvPr/>
        </p:nvSpPr>
        <p:spPr>
          <a:xfrm>
            <a:off x="857160" y="178596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попадает в рот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отка, дальше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857160" y="18640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п, микробы! Хода нет!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ен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857160" y="179964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 и нам ребят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 i расставить точки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истеме выделения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ейший орган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857160" y="1875600"/>
            <a:ext cx="7572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н опор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го страшнее н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в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астиках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стреча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857160" y="1857240"/>
            <a:ext cx="7500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твердая походк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 тетради пишешь четко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кто нам так помог?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бот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2</a:t>
            </a:r>
            <a:br>
              <a:rPr sz="6600"/>
            </a:br>
            <a:br>
              <a:rPr sz="6600"/>
            </a:br>
            <a:r>
              <a:rPr b="1" lang="ru-RU" sz="5400" spc="-1" strike="noStrike">
                <a:solidFill>
                  <a:srgbClr val="00b0f0"/>
                </a:solidFill>
                <a:latin typeface="Tahoma"/>
              </a:rPr>
              <a:t>«Четвертый лишний»</a:t>
            </a:r>
            <a:br>
              <a:rPr sz="6600"/>
            </a:br>
            <a:endParaRPr b="1" lang="en-US" sz="5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14240" y="71424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ь заданий заключается в том, что среди четырех слов или словосочетаний «спрятано» одно лишнее по смыслу. Нужно его найти и объяснить, почему оно лишнее. Из первых букв «лишних» слов складывается новое, которое тоже нужно объясн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71400" y="2928960"/>
            <a:ext cx="6715080" cy="12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rmAutofit fontScale="48000"/>
          </a:bodyPr>
          <a:p>
            <a:pPr marL="292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Times New Roman"/>
              </a:rPr>
              <a:t>Организм челове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WordArt 4"/>
          <p:cNvSpPr txBox="1"/>
          <p:nvPr/>
        </p:nvSpPr>
        <p:spPr>
          <a:xfrm>
            <a:off x="2124000" y="2060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428616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, что мы знаем, – ограниченно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что не знаем, – бесконе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у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142920" y="857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перечнополос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ад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рд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КАНИ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928960" y="2000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рящ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и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с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5643720" y="3357720"/>
            <a:ext cx="321444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ей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928960" y="471492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олок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стил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857240" y="6215040"/>
            <a:ext cx="127656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142920" y="8571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пидерм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истемы органов»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000160" y="1071720"/>
            <a:ext cx="200052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ест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857760" y="1285920"/>
            <a:ext cx="22860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дпоче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00840" y="15717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льве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785880" y="3357720"/>
            <a:ext cx="27144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ищ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очевой пуз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елу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286080" y="400068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Ух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ритр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омб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143680" y="4572000"/>
            <a:ext cx="257148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ин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м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 3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РЕБУС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1" descr="ребусы по биологии"/>
          <p:cNvPicPr/>
          <p:nvPr/>
        </p:nvPicPr>
        <p:blipFill>
          <a:blip r:embed="rId1"/>
          <a:stretch/>
        </p:blipFill>
        <p:spPr>
          <a:xfrm>
            <a:off x="571680" y="92880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ОТВЕТ: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ОРГАНИЗМ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Конкурс № 4</a:t>
            </a:r>
            <a:br>
              <a:rPr sz="6000"/>
            </a:br>
            <a:r>
              <a:rPr b="1" lang="ru-RU" sz="6000" spc="-1" strike="noStrike">
                <a:solidFill>
                  <a:srgbClr val="00b0f0"/>
                </a:solidFill>
                <a:latin typeface="Arial Black"/>
              </a:rPr>
              <a:t>«Один за всех – все за одного»</a:t>
            </a:r>
            <a:br>
              <a:rPr sz="32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3 балла;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Сини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2 балла;</a:t>
            </a: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Arial Black"/>
              </a:rPr>
              <a:t>Зеле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1 балл.</a:t>
            </a:r>
            <a:endParaRPr b="1" lang="en-US" sz="36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2" name="AutoShape 90">
            <a:hlinkClick r:id="rId25" action="ppaction://hlinksldjump"/>
          </p:cNvPr>
          <p:cNvSpPr/>
          <p:nvPr/>
        </p:nvSpPr>
        <p:spPr>
          <a:xfrm>
            <a:off x="3708360" y="2781360"/>
            <a:ext cx="1727280" cy="12952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4" name="AutoShape 40"/>
          <p:cNvSpPr/>
          <p:nvPr/>
        </p:nvSpPr>
        <p:spPr>
          <a:xfrm>
            <a:off x="2714760" y="2428920"/>
            <a:ext cx="3929040" cy="3016080"/>
          </a:xfrm>
          <a:prstGeom prst="cloudCallout">
            <a:avLst>
              <a:gd name="adj1" fmla="val -75763"/>
              <a:gd name="adj2" fmla="val -89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 этой жидкости в организме примерно 5 л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3">
            <a:hlinkClick r:id="rId1" action="ppaction://hlinksldjump"/>
          </p:cNvPr>
          <p:cNvSpPr/>
          <p:nvPr/>
        </p:nvSpPr>
        <p:spPr>
          <a:xfrm>
            <a:off x="2195640" y="5286240"/>
            <a:ext cx="1162080" cy="25527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2552760"/>
              <a:gd name="textAreaBottom" fmla="*/ 2477520 h 2552760"/>
            </a:gdLst>
            <a:ahLst/>
            <a:rect l="textAreaLeft" t="textAreaTop" r="textAreaRight" b="textAreaBottom"/>
            <a:pathLst>
              <a:path w="21600" h="47441">
                <a:moveTo>
                  <a:pt x="0" y="0"/>
                </a:moveTo>
                <a:lnTo>
                  <a:pt x="21600" y="0"/>
                </a:lnTo>
                <a:lnTo>
                  <a:pt x="21600" y="47441"/>
                </a:lnTo>
                <a:lnTo>
                  <a:pt x="0" y="47441"/>
                </a:lnTo>
                <a:close/>
              </a:path>
              <a:path fill="lightenLess" w="21600" h="47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41">
                <a:moveTo>
                  <a:pt x="21600" y="0"/>
                </a:moveTo>
                <a:lnTo>
                  <a:pt x="21600" y="47441"/>
                </a:lnTo>
                <a:lnTo>
                  <a:pt x="20200" y="46041"/>
                </a:lnTo>
                <a:lnTo>
                  <a:pt x="20200" y="1400"/>
                </a:lnTo>
                <a:close/>
              </a:path>
              <a:path fill="darkenLess" w="21600" h="47441">
                <a:moveTo>
                  <a:pt x="21600" y="47441"/>
                </a:moveTo>
                <a:lnTo>
                  <a:pt x="0" y="47441"/>
                </a:lnTo>
                <a:lnTo>
                  <a:pt x="1400" y="46041"/>
                </a:lnTo>
                <a:lnTo>
                  <a:pt x="20200" y="46041"/>
                </a:lnTo>
                <a:close/>
              </a:path>
              <a:path fill="lighten" w="21600" h="47441">
                <a:moveTo>
                  <a:pt x="0" y="47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1">
            <a:hlinkClick r:id="rId2" action="ppaction://hlinksldjump"/>
          </p:cNvPr>
          <p:cNvSpPr/>
          <p:nvPr/>
        </p:nvSpPr>
        <p:spPr>
          <a:xfrm>
            <a:off x="214200" y="214200"/>
            <a:ext cx="8715600" cy="6643800"/>
          </a:xfrm>
          <a:custGeom>
            <a:avLst/>
            <a:gdLst>
              <a:gd name="textAreaLeft" fmla="*/ 430560 w 8715600"/>
              <a:gd name="textAreaRight" fmla="*/ 8285040 w 87156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335" h="21600">
                <a:moveTo>
                  <a:pt x="0" y="0"/>
                </a:moveTo>
                <a:lnTo>
                  <a:pt x="28335" y="0"/>
                </a:lnTo>
                <a:lnTo>
                  <a:pt x="28335" y="21600"/>
                </a:lnTo>
                <a:lnTo>
                  <a:pt x="0" y="21600"/>
                </a:lnTo>
                <a:close/>
              </a:path>
              <a:path fill="lightenLess" w="28335" h="21600">
                <a:moveTo>
                  <a:pt x="0" y="0"/>
                </a:moveTo>
                <a:lnTo>
                  <a:pt x="28335" y="0"/>
                </a:lnTo>
                <a:lnTo>
                  <a:pt x="26935" y="1400"/>
                </a:lnTo>
                <a:lnTo>
                  <a:pt x="1400" y="1400"/>
                </a:lnTo>
                <a:close/>
              </a:path>
              <a:path fill="darken" w="28335" h="21600">
                <a:moveTo>
                  <a:pt x="28335" y="0"/>
                </a:moveTo>
                <a:lnTo>
                  <a:pt x="28335" y="21600"/>
                </a:lnTo>
                <a:lnTo>
                  <a:pt x="26935" y="20200"/>
                </a:lnTo>
                <a:lnTo>
                  <a:pt x="26935" y="1400"/>
                </a:lnTo>
                <a:close/>
              </a:path>
              <a:path fill="darkenLess" w="28335" h="21600">
                <a:moveTo>
                  <a:pt x="2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5" y="20200"/>
                </a:lnTo>
                <a:close/>
              </a:path>
              <a:path fill="lighten" w="2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8" name="AutoShape 40"/>
          <p:cNvSpPr/>
          <p:nvPr/>
        </p:nvSpPr>
        <p:spPr>
          <a:xfrm>
            <a:off x="3348000" y="2565360"/>
            <a:ext cx="4438800" cy="3363840"/>
          </a:xfrm>
          <a:prstGeom prst="cloudCallout">
            <a:avLst>
              <a:gd name="adj1" fmla="val -48064"/>
              <a:gd name="adj2" fmla="val -88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жесуточно в организме взрослого человека образуется около 20 литров этой жидк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86880" cy="6643800"/>
          </a:xfrm>
          <a:custGeom>
            <a:avLst/>
            <a:gdLst>
              <a:gd name="textAreaLeft" fmla="*/ 430560 w 8786880"/>
              <a:gd name="textAreaRight" fmla="*/ 8356320 w 878688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567" h="21600">
                <a:moveTo>
                  <a:pt x="0" y="0"/>
                </a:moveTo>
                <a:lnTo>
                  <a:pt x="28567" y="0"/>
                </a:lnTo>
                <a:lnTo>
                  <a:pt x="28567" y="21600"/>
                </a:lnTo>
                <a:lnTo>
                  <a:pt x="0" y="21600"/>
                </a:lnTo>
                <a:close/>
              </a:path>
              <a:path fill="lightenLess" w="28567" h="21600">
                <a:moveTo>
                  <a:pt x="0" y="0"/>
                </a:moveTo>
                <a:lnTo>
                  <a:pt x="28567" y="0"/>
                </a:lnTo>
                <a:lnTo>
                  <a:pt x="27167" y="1400"/>
                </a:lnTo>
                <a:lnTo>
                  <a:pt x="1400" y="1400"/>
                </a:lnTo>
                <a:close/>
              </a:path>
              <a:path fill="darken" w="28567" h="21600">
                <a:moveTo>
                  <a:pt x="28567" y="0"/>
                </a:moveTo>
                <a:lnTo>
                  <a:pt x="28567" y="21600"/>
                </a:lnTo>
                <a:lnTo>
                  <a:pt x="27167" y="20200"/>
                </a:lnTo>
                <a:lnTo>
                  <a:pt x="27167" y="1400"/>
                </a:lnTo>
                <a:close/>
              </a:path>
              <a:path fill="darkenLess" w="28567" h="21600">
                <a:moveTo>
                  <a:pt x="28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7" y="20200"/>
                </a:lnTo>
                <a:close/>
              </a:path>
              <a:path fill="lighten" w="28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1" name="AutoShape 40"/>
          <p:cNvSpPr/>
          <p:nvPr/>
        </p:nvSpPr>
        <p:spPr>
          <a:xfrm>
            <a:off x="3286080" y="2714760"/>
            <a:ext cx="4786200" cy="3786120"/>
          </a:xfrm>
          <a:prstGeom prst="cloudCallout">
            <a:avLst>
              <a:gd name="adj1" fmla="val -36143"/>
              <a:gd name="adj2" fmla="val -8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, дающий кровь для переливания или ткани и органы для пересадки другому л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1">
            <a:hlinkClick r:id="rId1" action="ppaction://hlinksldjump"/>
          </p:cNvPr>
          <p:cNvSpPr/>
          <p:nvPr/>
        </p:nvSpPr>
        <p:spPr>
          <a:xfrm>
            <a:off x="0" y="214200"/>
            <a:ext cx="8929800" cy="6643800"/>
          </a:xfrm>
          <a:custGeom>
            <a:avLst/>
            <a:gdLst>
              <a:gd name="textAreaLeft" fmla="*/ 430560 w 8929800"/>
              <a:gd name="textAreaRight" fmla="*/ 8499240 w 89298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9032" h="21600">
                <a:moveTo>
                  <a:pt x="0" y="0"/>
                </a:moveTo>
                <a:lnTo>
                  <a:pt x="29032" y="0"/>
                </a:lnTo>
                <a:lnTo>
                  <a:pt x="29032" y="21600"/>
                </a:lnTo>
                <a:lnTo>
                  <a:pt x="0" y="21600"/>
                </a:lnTo>
                <a:close/>
              </a:path>
              <a:path fill="lightenLess" w="29032" h="21600">
                <a:moveTo>
                  <a:pt x="0" y="0"/>
                </a:moveTo>
                <a:lnTo>
                  <a:pt x="29032" y="0"/>
                </a:lnTo>
                <a:lnTo>
                  <a:pt x="27632" y="1400"/>
                </a:lnTo>
                <a:lnTo>
                  <a:pt x="1400" y="1400"/>
                </a:lnTo>
                <a:close/>
              </a:path>
              <a:path fill="darken" w="29032" h="21600">
                <a:moveTo>
                  <a:pt x="29032" y="0"/>
                </a:moveTo>
                <a:lnTo>
                  <a:pt x="29032" y="21600"/>
                </a:lnTo>
                <a:lnTo>
                  <a:pt x="27632" y="20200"/>
                </a:lnTo>
                <a:lnTo>
                  <a:pt x="27632" y="1400"/>
                </a:lnTo>
                <a:close/>
              </a:path>
              <a:path fill="darkenLess" w="29032" h="21600">
                <a:moveTo>
                  <a:pt x="29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2" y="20200"/>
                </a:lnTo>
                <a:close/>
              </a:path>
              <a:path fill="lighten" w="29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1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ЗАГАДКИ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4" name="AutoShape 40"/>
          <p:cNvSpPr/>
          <p:nvPr/>
        </p:nvSpPr>
        <p:spPr>
          <a:xfrm>
            <a:off x="2786040" y="2643120"/>
            <a:ext cx="5072040" cy="4071960"/>
          </a:xfrm>
          <a:prstGeom prst="cloudCallout">
            <a:avLst>
              <a:gd name="adj1" fmla="val 7541"/>
              <a:gd name="adj2" fmla="val -83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организм сыворотки заражённых животных или переболевше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250920" y="189000"/>
          <a:ext cx="8534160" cy="645624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7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56055"/>
              <a:gd name="adj2" fmla="val -118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уды, по которым кровь движется от серд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1">
            <a:hlinkClick r:id="rId1" action="ppaction://hlinksldjump"/>
          </p:cNvPr>
          <p:cNvSpPr/>
          <p:nvPr/>
        </p:nvSpPr>
        <p:spPr>
          <a:xfrm rot="21478800">
            <a:off x="401760" y="64800"/>
            <a:ext cx="8340480" cy="6727680"/>
          </a:xfrm>
          <a:custGeom>
            <a:avLst/>
            <a:gdLst>
              <a:gd name="textAreaLeft" fmla="*/ 435960 w 8340480"/>
              <a:gd name="textAreaRight" fmla="*/ 7904520 w 8340480"/>
              <a:gd name="textAreaTop" fmla="*/ 435960 h 6727680"/>
              <a:gd name="textAreaBottom" fmla="*/ 6291720 h 6727680"/>
            </a:gdLst>
            <a:ahLst/>
            <a:rect l="textAreaLeft" t="textAreaTop" r="textAreaRight" b="textAreaBottom"/>
            <a:pathLst>
              <a:path w="26778" h="21600">
                <a:moveTo>
                  <a:pt x="0" y="0"/>
                </a:moveTo>
                <a:lnTo>
                  <a:pt x="26778" y="0"/>
                </a:lnTo>
                <a:lnTo>
                  <a:pt x="26778" y="21600"/>
                </a:lnTo>
                <a:lnTo>
                  <a:pt x="0" y="21600"/>
                </a:lnTo>
                <a:close/>
              </a:path>
              <a:path fill="lightenLess" w="26778" h="21600">
                <a:moveTo>
                  <a:pt x="0" y="0"/>
                </a:moveTo>
                <a:lnTo>
                  <a:pt x="26778" y="0"/>
                </a:lnTo>
                <a:lnTo>
                  <a:pt x="25378" y="1400"/>
                </a:lnTo>
                <a:lnTo>
                  <a:pt x="1400" y="1400"/>
                </a:lnTo>
                <a:close/>
              </a:path>
              <a:path fill="darken" w="26778" h="21600">
                <a:moveTo>
                  <a:pt x="26778" y="0"/>
                </a:moveTo>
                <a:lnTo>
                  <a:pt x="26778" y="21600"/>
                </a:lnTo>
                <a:lnTo>
                  <a:pt x="25378" y="20200"/>
                </a:lnTo>
                <a:lnTo>
                  <a:pt x="25378" y="1400"/>
                </a:lnTo>
                <a:close/>
              </a:path>
              <a:path fill="darkenLess" w="26778" h="21600">
                <a:moveTo>
                  <a:pt x="267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78" y="20200"/>
                </a:lnTo>
                <a:close/>
              </a:path>
              <a:path fill="lighten" w="267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0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-93981"/>
              <a:gd name="adj2" fmla="val -78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ь, богатая углекислым г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1">
            <a:hlinkClick r:id="rId1" action="ppaction://hlinksldjump"/>
          </p:cNvPr>
          <p:cNvSpPr/>
          <p:nvPr/>
        </p:nvSpPr>
        <p:spPr>
          <a:xfrm>
            <a:off x="4140360" y="4149720"/>
            <a:ext cx="2160360" cy="332892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3328920"/>
              <a:gd name="textAreaBottom" fmla="*/ 3188880 h 3328920"/>
            </a:gdLst>
            <a:ahLst/>
            <a:rect l="textAreaLeft" t="textAreaTop" r="textAreaRight" b="textAreaBottom"/>
            <a:pathLst>
              <a:path w="21600" h="33282">
                <a:moveTo>
                  <a:pt x="0" y="0"/>
                </a:moveTo>
                <a:lnTo>
                  <a:pt x="21600" y="0"/>
                </a:lnTo>
                <a:lnTo>
                  <a:pt x="21600" y="33282"/>
                </a:lnTo>
                <a:lnTo>
                  <a:pt x="0" y="33282"/>
                </a:lnTo>
                <a:close/>
              </a:path>
              <a:path fill="lightenLess" w="21600" h="332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82">
                <a:moveTo>
                  <a:pt x="21600" y="0"/>
                </a:moveTo>
                <a:lnTo>
                  <a:pt x="21600" y="33282"/>
                </a:lnTo>
                <a:lnTo>
                  <a:pt x="20200" y="31882"/>
                </a:lnTo>
                <a:lnTo>
                  <a:pt x="20200" y="1400"/>
                </a:lnTo>
                <a:close/>
              </a:path>
              <a:path fill="darkenLess" w="21600" h="33282">
                <a:moveTo>
                  <a:pt x="21600" y="33282"/>
                </a:moveTo>
                <a:lnTo>
                  <a:pt x="0" y="33282"/>
                </a:lnTo>
                <a:lnTo>
                  <a:pt x="1400" y="31882"/>
                </a:lnTo>
                <a:lnTo>
                  <a:pt x="20200" y="31882"/>
                </a:lnTo>
                <a:close/>
              </a:path>
              <a:path fill="lighten" w="21600" h="33282">
                <a:moveTo>
                  <a:pt x="0" y="332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5"/>
          <p:cNvSpPr/>
          <p:nvPr/>
        </p:nvSpPr>
        <p:spPr>
          <a:xfrm flipV="1">
            <a:off x="3924360" y="17269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1">
            <a:hlinkClick r:id="rId2" action="ppaction://hlinksldjump"/>
          </p:cNvPr>
          <p:cNvSpPr/>
          <p:nvPr/>
        </p:nvSpPr>
        <p:spPr>
          <a:xfrm>
            <a:off x="214200" y="285840"/>
            <a:ext cx="8786880" cy="6357960"/>
          </a:xfrm>
          <a:custGeom>
            <a:avLst/>
            <a:gdLst>
              <a:gd name="textAreaLeft" fmla="*/ 411840 w 8786880"/>
              <a:gd name="textAreaRight" fmla="*/ 8375040 w 8786880"/>
              <a:gd name="textAreaTop" fmla="*/ 411840 h 6357960"/>
              <a:gd name="textAreaBottom" fmla="*/ 5946120 h 6357960"/>
            </a:gdLst>
            <a:ahLst/>
            <a:rect l="textAreaLeft" t="textAreaTop" r="textAreaRight" b="textAreaBottom"/>
            <a:pathLst>
              <a:path w="29851" h="21600">
                <a:moveTo>
                  <a:pt x="0" y="0"/>
                </a:moveTo>
                <a:lnTo>
                  <a:pt x="29851" y="0"/>
                </a:lnTo>
                <a:lnTo>
                  <a:pt x="29851" y="21600"/>
                </a:lnTo>
                <a:lnTo>
                  <a:pt x="0" y="21600"/>
                </a:lnTo>
                <a:close/>
              </a:path>
              <a:path fill="lightenLess" w="29851" h="21600">
                <a:moveTo>
                  <a:pt x="0" y="0"/>
                </a:moveTo>
                <a:lnTo>
                  <a:pt x="29851" y="0"/>
                </a:lnTo>
                <a:lnTo>
                  <a:pt x="28451" y="1400"/>
                </a:lnTo>
                <a:lnTo>
                  <a:pt x="1400" y="1400"/>
                </a:lnTo>
                <a:close/>
              </a:path>
              <a:path fill="darken" w="29851" h="21600">
                <a:moveTo>
                  <a:pt x="29851" y="0"/>
                </a:moveTo>
                <a:lnTo>
                  <a:pt x="29851" y="21600"/>
                </a:lnTo>
                <a:lnTo>
                  <a:pt x="28451" y="20200"/>
                </a:lnTo>
                <a:lnTo>
                  <a:pt x="28451" y="1400"/>
                </a:lnTo>
                <a:close/>
              </a:path>
              <a:path fill="darkenLess" w="29851" h="21600">
                <a:moveTo>
                  <a:pt x="29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1" y="20200"/>
                </a:lnTo>
                <a:close/>
              </a:path>
              <a:path fill="lighten" w="29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24000" y="189000"/>
          <a:ext cx="8640720" cy="65246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5480"/>
                <a:gridCol w="1729080"/>
                <a:gridCol w="1728720"/>
              </a:tblGrid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3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5" name="AutoShape 40"/>
          <p:cNvSpPr/>
          <p:nvPr/>
        </p:nvSpPr>
        <p:spPr>
          <a:xfrm>
            <a:off x="4643280" y="3429000"/>
            <a:ext cx="4248360" cy="2736720"/>
          </a:xfrm>
          <a:prstGeom prst="cloudCallout">
            <a:avLst>
              <a:gd name="adj1" fmla="val -76333"/>
              <a:gd name="adj2" fmla="val -8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ь крови от левого желудочка до правого предсер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1">
            <a:hlinkClick r:id="rId1" action="ppaction://hlinksldjump"/>
          </p:cNvPr>
          <p:cNvSpPr/>
          <p:nvPr/>
        </p:nvSpPr>
        <p:spPr>
          <a:xfrm>
            <a:off x="285840" y="214200"/>
            <a:ext cx="8715240" cy="8777520"/>
          </a:xfrm>
          <a:custGeom>
            <a:avLst/>
            <a:gdLst>
              <a:gd name="textAreaLeft" fmla="*/ 564840 w 8715240"/>
              <a:gd name="textAreaRight" fmla="*/ 8150400 w 8715240"/>
              <a:gd name="textAreaTop" fmla="*/ 564840 h 8777520"/>
              <a:gd name="textAreaBottom" fmla="*/ 8212680 h 8777520"/>
            </a:gdLst>
            <a:ahLst/>
            <a:rect l="textAreaLeft" t="textAreaTop" r="textAreaRight" b="textAreaBottom"/>
            <a:pathLst>
              <a:path w="21600" h="21754">
                <a:moveTo>
                  <a:pt x="0" y="0"/>
                </a:moveTo>
                <a:lnTo>
                  <a:pt x="21600" y="0"/>
                </a:lnTo>
                <a:lnTo>
                  <a:pt x="21600" y="21754"/>
                </a:lnTo>
                <a:lnTo>
                  <a:pt x="0" y="21754"/>
                </a:lnTo>
                <a:close/>
              </a:path>
              <a:path fill="lightenLess" w="21600" h="21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4">
                <a:moveTo>
                  <a:pt x="21600" y="0"/>
                </a:moveTo>
                <a:lnTo>
                  <a:pt x="21600" y="21754"/>
                </a:lnTo>
                <a:lnTo>
                  <a:pt x="20200" y="20354"/>
                </a:lnTo>
                <a:lnTo>
                  <a:pt x="20200" y="1400"/>
                </a:lnTo>
                <a:close/>
              </a:path>
              <a:path fill="darkenLess" w="21600" h="21754">
                <a:moveTo>
                  <a:pt x="21600" y="21754"/>
                </a:moveTo>
                <a:lnTo>
                  <a:pt x="0" y="21754"/>
                </a:lnTo>
                <a:lnTo>
                  <a:pt x="1400" y="20354"/>
                </a:lnTo>
                <a:lnTo>
                  <a:pt x="20200" y="20354"/>
                </a:lnTo>
                <a:close/>
              </a:path>
              <a:path fill="lighten" w="21600" h="21754">
                <a:moveTo>
                  <a:pt x="0" y="21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8" name="AutoShape 40"/>
          <p:cNvSpPr/>
          <p:nvPr/>
        </p:nvSpPr>
        <p:spPr>
          <a:xfrm>
            <a:off x="500040" y="2714760"/>
            <a:ext cx="4248000" cy="3786120"/>
          </a:xfrm>
          <a:prstGeom prst="cloudCallout">
            <a:avLst>
              <a:gd name="adj1" fmla="val 61763"/>
              <a:gd name="adj2" fmla="val -5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заболевание, возникающее при продолжительной нехватке витамина в п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1">
            <a:hlinkClick r:id="rId1" action="ppaction://hlinksldjump"/>
          </p:cNvPr>
          <p:cNvSpPr/>
          <p:nvPr/>
        </p:nvSpPr>
        <p:spPr>
          <a:xfrm>
            <a:off x="214200" y="142920"/>
            <a:ext cx="8786880" cy="6500880"/>
          </a:xfrm>
          <a:custGeom>
            <a:avLst/>
            <a:gdLst>
              <a:gd name="textAreaLeft" fmla="*/ 421200 w 8786880"/>
              <a:gd name="textAreaRight" fmla="*/ 8365680 w 8786880"/>
              <a:gd name="textAreaTop" fmla="*/ 421200 h 6500880"/>
              <a:gd name="textAreaBottom" fmla="*/ 6079680 h 6500880"/>
            </a:gdLst>
            <a:ahLst/>
            <a:rect l="textAreaLeft" t="textAreaTop" r="textAreaRight" b="textAreaBottom"/>
            <a:pathLst>
              <a:path w="29195" h="21600">
                <a:moveTo>
                  <a:pt x="0" y="0"/>
                </a:moveTo>
                <a:lnTo>
                  <a:pt x="29195" y="0"/>
                </a:lnTo>
                <a:lnTo>
                  <a:pt x="29195" y="21600"/>
                </a:lnTo>
                <a:lnTo>
                  <a:pt x="0" y="21600"/>
                </a:lnTo>
                <a:close/>
              </a:path>
              <a:path fill="lightenLess" w="29195" h="21600">
                <a:moveTo>
                  <a:pt x="0" y="0"/>
                </a:moveTo>
                <a:lnTo>
                  <a:pt x="29195" y="0"/>
                </a:lnTo>
                <a:lnTo>
                  <a:pt x="27795" y="1400"/>
                </a:lnTo>
                <a:lnTo>
                  <a:pt x="1400" y="1400"/>
                </a:lnTo>
                <a:close/>
              </a:path>
              <a:path fill="darken" w="29195" h="21600">
                <a:moveTo>
                  <a:pt x="29195" y="0"/>
                </a:moveTo>
                <a:lnTo>
                  <a:pt x="29195" y="21600"/>
                </a:lnTo>
                <a:lnTo>
                  <a:pt x="27795" y="20200"/>
                </a:lnTo>
                <a:lnTo>
                  <a:pt x="27795" y="1400"/>
                </a:lnTo>
                <a:close/>
              </a:path>
              <a:path fill="darkenLess" w="29195" h="21600">
                <a:moveTo>
                  <a:pt x="29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5" y="20200"/>
                </a:lnTo>
                <a:close/>
              </a:path>
              <a:path fill="lighten" w="29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1" name="AutoShape 40"/>
          <p:cNvSpPr/>
          <p:nvPr/>
        </p:nvSpPr>
        <p:spPr>
          <a:xfrm>
            <a:off x="214200" y="3500280"/>
            <a:ext cx="4714920" cy="3214800"/>
          </a:xfrm>
          <a:prstGeom prst="cloudCallout">
            <a:avLst>
              <a:gd name="adj1" fmla="val 66087"/>
              <a:gd name="adj2" fmla="val -78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итамин вырабатывается в организме человека под воздействием солнечных лу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4" name="AutoShape 40"/>
          <p:cNvSpPr/>
          <p:nvPr/>
        </p:nvSpPr>
        <p:spPr>
          <a:xfrm>
            <a:off x="285840" y="3071880"/>
            <a:ext cx="6357960" cy="3451320"/>
          </a:xfrm>
          <a:prstGeom prst="cloudCallout">
            <a:avLst>
              <a:gd name="adj1" fmla="val 62569"/>
              <a:gd name="adj2" fmla="val -6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ревних восточных сказках заболевших принцесс часто рекомендовали лечить сырой печенью животных, а какой в этом смыс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1"/>
          <p:cNvSpPr/>
          <p:nvPr/>
        </p:nvSpPr>
        <p:spPr>
          <a:xfrm>
            <a:off x="285840" y="214200"/>
            <a:ext cx="8858160" cy="6467760"/>
          </a:xfrm>
          <a:custGeom>
            <a:avLst/>
            <a:gdLst>
              <a:gd name="textAreaLeft" fmla="*/ 419040 w 8858160"/>
              <a:gd name="textAreaRight" fmla="*/ 8439120 w 8858160"/>
              <a:gd name="textAreaTop" fmla="*/ 419040 h 6467760"/>
              <a:gd name="textAreaBottom" fmla="*/ 6048720 h 6467760"/>
            </a:gdLst>
            <a:ahLst/>
            <a:rect l="textAreaLeft" t="textAreaTop" r="textAreaRight" b="textAreaBottom"/>
            <a:pathLst>
              <a:path w="29583" h="21600">
                <a:moveTo>
                  <a:pt x="0" y="0"/>
                </a:moveTo>
                <a:lnTo>
                  <a:pt x="29583" y="0"/>
                </a:lnTo>
                <a:lnTo>
                  <a:pt x="29583" y="21600"/>
                </a:lnTo>
                <a:lnTo>
                  <a:pt x="0" y="21600"/>
                </a:lnTo>
                <a:close/>
              </a:path>
              <a:path fill="lightenLess" w="29583" h="21600">
                <a:moveTo>
                  <a:pt x="0" y="0"/>
                </a:moveTo>
                <a:lnTo>
                  <a:pt x="29583" y="0"/>
                </a:lnTo>
                <a:lnTo>
                  <a:pt x="28183" y="1400"/>
                </a:lnTo>
                <a:lnTo>
                  <a:pt x="1400" y="1400"/>
                </a:lnTo>
                <a:close/>
              </a:path>
              <a:path fill="darken" w="29583" h="21600">
                <a:moveTo>
                  <a:pt x="29583" y="0"/>
                </a:moveTo>
                <a:lnTo>
                  <a:pt x="29583" y="21600"/>
                </a:lnTo>
                <a:lnTo>
                  <a:pt x="28183" y="20200"/>
                </a:lnTo>
                <a:lnTo>
                  <a:pt x="28183" y="1400"/>
                </a:lnTo>
                <a:close/>
              </a:path>
              <a:path fill="darkenLess" w="29583" h="21600">
                <a:moveTo>
                  <a:pt x="29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83" y="20200"/>
                </a:lnTo>
                <a:close/>
              </a:path>
              <a:path fill="lighten" w="29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7" name="AutoShape 40"/>
          <p:cNvSpPr/>
          <p:nvPr/>
        </p:nvSpPr>
        <p:spPr>
          <a:xfrm>
            <a:off x="4572000" y="3933720"/>
            <a:ext cx="4000680" cy="2281320"/>
          </a:xfrm>
          <a:prstGeom prst="cloudCallout">
            <a:avLst>
              <a:gd name="adj1" fmla="val -119583"/>
              <a:gd name="adj2" fmla="val -51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единица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1"/>
          <p:cNvSpPr/>
          <p:nvPr/>
        </p:nvSpPr>
        <p:spPr>
          <a:xfrm>
            <a:off x="214200" y="214200"/>
            <a:ext cx="8786880" cy="6256440"/>
          </a:xfrm>
          <a:custGeom>
            <a:avLst/>
            <a:gdLst>
              <a:gd name="textAreaLeft" fmla="*/ 405360 w 8786880"/>
              <a:gd name="textAreaRight" fmla="*/ 8381520 w 8786880"/>
              <a:gd name="textAreaTop" fmla="*/ 405360 h 6256440"/>
              <a:gd name="textAreaBottom" fmla="*/ 5851080 h 6256440"/>
            </a:gdLst>
            <a:ahLst/>
            <a:rect l="textAreaLeft" t="textAreaTop" r="textAreaRight" b="textAreaBottom"/>
            <a:pathLst>
              <a:path w="30336" h="21600">
                <a:moveTo>
                  <a:pt x="0" y="0"/>
                </a:moveTo>
                <a:lnTo>
                  <a:pt x="30336" y="0"/>
                </a:lnTo>
                <a:lnTo>
                  <a:pt x="30336" y="21600"/>
                </a:lnTo>
                <a:lnTo>
                  <a:pt x="0" y="21600"/>
                </a:lnTo>
                <a:close/>
              </a:path>
              <a:path fill="lightenLess" w="30336" h="21600">
                <a:moveTo>
                  <a:pt x="0" y="0"/>
                </a:moveTo>
                <a:lnTo>
                  <a:pt x="30336" y="0"/>
                </a:lnTo>
                <a:lnTo>
                  <a:pt x="28936" y="1400"/>
                </a:lnTo>
                <a:lnTo>
                  <a:pt x="1400" y="1400"/>
                </a:lnTo>
                <a:close/>
              </a:path>
              <a:path fill="darken" w="30336" h="21600">
                <a:moveTo>
                  <a:pt x="30336" y="0"/>
                </a:moveTo>
                <a:lnTo>
                  <a:pt x="30336" y="21600"/>
                </a:lnTo>
                <a:lnTo>
                  <a:pt x="28936" y="20200"/>
                </a:lnTo>
                <a:lnTo>
                  <a:pt x="28936" y="1400"/>
                </a:lnTo>
                <a:close/>
              </a:path>
              <a:path fill="darkenLess" w="30336" h="21600">
                <a:moveTo>
                  <a:pt x="30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6" y="20200"/>
                </a:lnTo>
                <a:close/>
              </a:path>
              <a:path fill="lighten" w="30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0" name="AutoShape 40"/>
          <p:cNvSpPr/>
          <p:nvPr/>
        </p:nvSpPr>
        <p:spPr>
          <a:xfrm>
            <a:off x="4643280" y="3933720"/>
            <a:ext cx="4248360" cy="2737080"/>
          </a:xfrm>
          <a:prstGeom prst="cloudCallout">
            <a:avLst>
              <a:gd name="adj1" fmla="val -76231"/>
              <a:gd name="adj2" fmla="val -60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ся роговые образования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1"/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79280" y="378000"/>
          <a:ext cx="8785440" cy="6219720"/>
        </p:xfrm>
        <a:graphic>
          <a:graphicData uri="http://schemas.openxmlformats.org/drawingml/2006/table">
            <a:tbl>
              <a:tblPr/>
              <a:tblGrid>
                <a:gridCol w="1793880"/>
                <a:gridCol w="1793880"/>
                <a:gridCol w="1792440"/>
                <a:gridCol w="1793880"/>
                <a:gridCol w="1611360"/>
              </a:tblGrid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3" name="AutoShape 40"/>
          <p:cNvSpPr/>
          <p:nvPr/>
        </p:nvSpPr>
        <p:spPr>
          <a:xfrm>
            <a:off x="179280" y="3789360"/>
            <a:ext cx="4248360" cy="1800360"/>
          </a:xfrm>
          <a:prstGeom prst="cloudCallout">
            <a:avLst>
              <a:gd name="adj1" fmla="val 82810"/>
              <a:gd name="adj2" fmla="val -55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амер в сердце у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1928880" y="526320"/>
            <a:ext cx="492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лагаю вам, ребятки, интересные загадки.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ответ к загадке знает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о руку подним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с анатомией знаком, тому загадки нипочем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загадку отгадает, сразу баллы получ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се баллы соберешь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из с собою забер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6" name="AutoShape 40"/>
          <p:cNvSpPr/>
          <p:nvPr/>
        </p:nvSpPr>
        <p:spPr>
          <a:xfrm>
            <a:off x="1428840" y="2357280"/>
            <a:ext cx="4248000" cy="2643480"/>
          </a:xfrm>
          <a:prstGeom prst="cloudCallout">
            <a:avLst>
              <a:gd name="adj1" fmla="val 90685"/>
              <a:gd name="adj2" fmla="val 7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еспечивается связь мышц и скел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1"/>
          <p:cNvSpPr/>
          <p:nvPr/>
        </p:nvSpPr>
        <p:spPr>
          <a:xfrm>
            <a:off x="6877080" y="31417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1"/>
          <p:cNvSpPr/>
          <p:nvPr/>
        </p:nvSpPr>
        <p:spPr>
          <a:xfrm>
            <a:off x="214200" y="214200"/>
            <a:ext cx="8786880" cy="6404040"/>
          </a:xfrm>
          <a:custGeom>
            <a:avLst/>
            <a:gdLst>
              <a:gd name="textAreaLeft" fmla="*/ 415080 w 8786880"/>
              <a:gd name="textAreaRight" fmla="*/ 8371800 w 8786880"/>
              <a:gd name="textAreaTop" fmla="*/ 415080 h 6404040"/>
              <a:gd name="textAreaBottom" fmla="*/ 5988960 h 6404040"/>
            </a:gdLst>
            <a:ahLst/>
            <a:rect l="textAreaLeft" t="textAreaTop" r="textAreaRight" b="textAreaBottom"/>
            <a:pathLst>
              <a:path w="29637" h="21600">
                <a:moveTo>
                  <a:pt x="0" y="0"/>
                </a:moveTo>
                <a:lnTo>
                  <a:pt x="29637" y="0"/>
                </a:lnTo>
                <a:lnTo>
                  <a:pt x="29637" y="21600"/>
                </a:lnTo>
                <a:lnTo>
                  <a:pt x="0" y="21600"/>
                </a:lnTo>
                <a:close/>
              </a:path>
              <a:path fill="lightenLess" w="29637" h="21600">
                <a:moveTo>
                  <a:pt x="0" y="0"/>
                </a:moveTo>
                <a:lnTo>
                  <a:pt x="29637" y="0"/>
                </a:lnTo>
                <a:lnTo>
                  <a:pt x="28237" y="1400"/>
                </a:lnTo>
                <a:lnTo>
                  <a:pt x="1400" y="1400"/>
                </a:lnTo>
                <a:close/>
              </a:path>
              <a:path fill="darken" w="29637" h="21600">
                <a:moveTo>
                  <a:pt x="29637" y="0"/>
                </a:moveTo>
                <a:lnTo>
                  <a:pt x="29637" y="21600"/>
                </a:lnTo>
                <a:lnTo>
                  <a:pt x="28237" y="20200"/>
                </a:lnTo>
                <a:lnTo>
                  <a:pt x="28237" y="1400"/>
                </a:lnTo>
                <a:close/>
              </a:path>
              <a:path fill="darkenLess" w="29637" h="21600">
                <a:moveTo>
                  <a:pt x="29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7" y="20200"/>
                </a:lnTo>
                <a:close/>
              </a:path>
              <a:path fill="lighten" w="29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0" name="AutoShape 40"/>
          <p:cNvSpPr/>
          <p:nvPr/>
        </p:nvSpPr>
        <p:spPr>
          <a:xfrm>
            <a:off x="1979640" y="333360"/>
            <a:ext cx="4248000" cy="2738520"/>
          </a:xfrm>
          <a:prstGeom prst="cloudCallout">
            <a:avLst>
              <a:gd name="adj1" fmla="val -54097"/>
              <a:gd name="adj2" fmla="val 9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, определяющий вкусовые качества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1"/>
          <p:cNvSpPr/>
          <p:nvPr/>
        </p:nvSpPr>
        <p:spPr>
          <a:xfrm>
            <a:off x="900000" y="42210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4" name="AutoShape 40"/>
          <p:cNvSpPr/>
          <p:nvPr/>
        </p:nvSpPr>
        <p:spPr>
          <a:xfrm>
            <a:off x="3929040" y="714240"/>
            <a:ext cx="4248000" cy="2928960"/>
          </a:xfrm>
          <a:prstGeom prst="cloudCallout">
            <a:avLst>
              <a:gd name="adj1" fmla="val -60796"/>
              <a:gd name="adj2" fmla="val 7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в котором пища начинает перевар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1"/>
          <p:cNvSpPr/>
          <p:nvPr/>
        </p:nvSpPr>
        <p:spPr>
          <a:xfrm>
            <a:off x="214200" y="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7" name="AutoShape 40"/>
          <p:cNvSpPr/>
          <p:nvPr/>
        </p:nvSpPr>
        <p:spPr>
          <a:xfrm>
            <a:off x="468360" y="714240"/>
            <a:ext cx="3460680" cy="2427480"/>
          </a:xfrm>
          <a:prstGeom prst="cloudCallout">
            <a:avLst>
              <a:gd name="adj1" fmla="val 51699"/>
              <a:gd name="adj2" fmla="val 98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акому царству живой природы относ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0" name="AutoShape 40"/>
          <p:cNvSpPr/>
          <p:nvPr/>
        </p:nvSpPr>
        <p:spPr>
          <a:xfrm>
            <a:off x="395280" y="333360"/>
            <a:ext cx="4248000" cy="3095640"/>
          </a:xfrm>
          <a:prstGeom prst="cloudCallout">
            <a:avLst>
              <a:gd name="adj1" fmla="val 75615"/>
              <a:gd name="adj2" fmla="val 81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три самые маленькие косточки наше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1"/>
          <p:cNvSpPr/>
          <p:nvPr/>
        </p:nvSpPr>
        <p:spPr>
          <a:xfrm>
            <a:off x="142920" y="285840"/>
            <a:ext cx="9144000" cy="6429240"/>
          </a:xfrm>
          <a:custGeom>
            <a:avLst/>
            <a:gdLst>
              <a:gd name="textAreaLeft" fmla="*/ 416520 w 9144000"/>
              <a:gd name="textAreaRight" fmla="*/ 8727480 w 9144000"/>
              <a:gd name="textAreaTop" fmla="*/ 416520 h 6429240"/>
              <a:gd name="textAreaBottom" fmla="*/ 6012720 h 6429240"/>
            </a:gdLst>
            <a:ahLst/>
            <a:rect l="textAreaLeft" t="textAreaTop" r="textAreaRight" b="textAreaBottom"/>
            <a:pathLst>
              <a:path w="30720" h="21600">
                <a:moveTo>
                  <a:pt x="0" y="0"/>
                </a:moveTo>
                <a:lnTo>
                  <a:pt x="30720" y="0"/>
                </a:lnTo>
                <a:lnTo>
                  <a:pt x="30720" y="21600"/>
                </a:lnTo>
                <a:lnTo>
                  <a:pt x="0" y="21600"/>
                </a:lnTo>
                <a:close/>
              </a:path>
              <a:path fill="lightenLess" w="30720" h="21600">
                <a:moveTo>
                  <a:pt x="0" y="0"/>
                </a:moveTo>
                <a:lnTo>
                  <a:pt x="30720" y="0"/>
                </a:lnTo>
                <a:lnTo>
                  <a:pt x="29320" y="1400"/>
                </a:lnTo>
                <a:lnTo>
                  <a:pt x="1400" y="1400"/>
                </a:lnTo>
                <a:close/>
              </a:path>
              <a:path fill="darken" w="30720" h="21600">
                <a:moveTo>
                  <a:pt x="30720" y="0"/>
                </a:moveTo>
                <a:lnTo>
                  <a:pt x="30720" y="21600"/>
                </a:lnTo>
                <a:lnTo>
                  <a:pt x="29320" y="20200"/>
                </a:lnTo>
                <a:lnTo>
                  <a:pt x="29320" y="1400"/>
                </a:lnTo>
                <a:close/>
              </a:path>
              <a:path fill="darkenLess" w="30720" h="21600">
                <a:moveTo>
                  <a:pt x="30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0" y="20200"/>
                </a:lnTo>
                <a:close/>
              </a:path>
              <a:path fill="lighten" w="30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40"/>
          <p:cNvSpPr/>
          <p:nvPr/>
        </p:nvSpPr>
        <p:spPr>
          <a:xfrm>
            <a:off x="0" y="404640"/>
            <a:ext cx="4248000" cy="2667240"/>
          </a:xfrm>
          <a:prstGeom prst="cloudCallout">
            <a:avLst>
              <a:gd name="adj1" fmla="val 126574"/>
              <a:gd name="adj2" fmla="val 99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свет воспринимают рецепторы глаза – палочки и колб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4140360" y="38606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7" name="AutoShape 40"/>
          <p:cNvSpPr/>
          <p:nvPr/>
        </p:nvSpPr>
        <p:spPr>
          <a:xfrm>
            <a:off x="2916360" y="476280"/>
            <a:ext cx="4248000" cy="2305080"/>
          </a:xfrm>
          <a:prstGeom prst="cloudCallout">
            <a:avLst>
              <a:gd name="adj1" fmla="val -77254"/>
              <a:gd name="adj2" fmla="val 17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относится к центральной нервной систем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1"/>
          <p:cNvSpPr/>
          <p:nvPr/>
        </p:nvSpPr>
        <p:spPr>
          <a:xfrm>
            <a:off x="142920" y="214200"/>
            <a:ext cx="8858160" cy="6858000"/>
          </a:xfrm>
          <a:custGeom>
            <a:avLst/>
            <a:gdLst>
              <a:gd name="textAreaLeft" fmla="*/ 444240 w 8858160"/>
              <a:gd name="textAreaRight" fmla="*/ 8413920 w 885816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899" h="21600">
                <a:moveTo>
                  <a:pt x="0" y="0"/>
                </a:moveTo>
                <a:lnTo>
                  <a:pt x="27899" y="0"/>
                </a:lnTo>
                <a:lnTo>
                  <a:pt x="27899" y="21600"/>
                </a:lnTo>
                <a:lnTo>
                  <a:pt x="0" y="21600"/>
                </a:lnTo>
                <a:close/>
              </a:path>
              <a:path fill="lightenLess" w="27899" h="21600">
                <a:moveTo>
                  <a:pt x="0" y="0"/>
                </a:moveTo>
                <a:lnTo>
                  <a:pt x="27899" y="0"/>
                </a:lnTo>
                <a:lnTo>
                  <a:pt x="26499" y="1400"/>
                </a:lnTo>
                <a:lnTo>
                  <a:pt x="1400" y="1400"/>
                </a:lnTo>
                <a:close/>
              </a:path>
              <a:path fill="darken" w="27899" h="21600">
                <a:moveTo>
                  <a:pt x="27899" y="0"/>
                </a:moveTo>
                <a:lnTo>
                  <a:pt x="27899" y="21600"/>
                </a:lnTo>
                <a:lnTo>
                  <a:pt x="26499" y="20200"/>
                </a:lnTo>
                <a:lnTo>
                  <a:pt x="26499" y="1400"/>
                </a:lnTo>
                <a:close/>
              </a:path>
              <a:path fill="darkenLess" w="27899" h="21600">
                <a:moveTo>
                  <a:pt x="27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9" y="20200"/>
                </a:lnTo>
                <a:close/>
              </a:path>
              <a:path fill="lighten" w="27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021040"/>
                <a:gridCol w="149220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0" name="AutoShape 40"/>
          <p:cNvSpPr/>
          <p:nvPr/>
        </p:nvSpPr>
        <p:spPr>
          <a:xfrm>
            <a:off x="2340000" y="500040"/>
            <a:ext cx="4803840" cy="2214720"/>
          </a:xfrm>
          <a:prstGeom prst="cloudCallout">
            <a:avLst>
              <a:gd name="adj1" fmla="val -26675"/>
              <a:gd name="adj2" fmla="val 1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носится к периферической нерв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3" name="AutoShape 40"/>
          <p:cNvSpPr/>
          <p:nvPr/>
        </p:nvSpPr>
        <p:spPr>
          <a:xfrm>
            <a:off x="2987640" y="549360"/>
            <a:ext cx="4248360" cy="1511280"/>
          </a:xfrm>
          <a:prstGeom prst="cloudCallout">
            <a:avLst>
              <a:gd name="adj1" fmla="val -7995"/>
              <a:gd name="adj2" fmla="val 28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орган равновес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1"/>
          <p:cNvSpPr/>
          <p:nvPr/>
        </p:nvSpPr>
        <p:spPr>
          <a:xfrm>
            <a:off x="214200" y="2858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6" name="AutoShape 40"/>
          <p:cNvSpPr/>
          <p:nvPr/>
        </p:nvSpPr>
        <p:spPr>
          <a:xfrm>
            <a:off x="2916360" y="404640"/>
            <a:ext cx="5111640" cy="2737080"/>
          </a:xfrm>
          <a:prstGeom prst="cloudCallout">
            <a:avLst>
              <a:gd name="adj1" fmla="val 29805"/>
              <a:gd name="adj2" fmla="val 142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самую подвижную кость лицевого отдела скелета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28800" y="40680"/>
            <a:ext cx="750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иг связаться с кислородом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т только он один.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ет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эритроцитах,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зовут?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9" name="AutoShape 40"/>
          <p:cNvSpPr/>
          <p:nvPr/>
        </p:nvSpPr>
        <p:spPr>
          <a:xfrm>
            <a:off x="2916360" y="476280"/>
            <a:ext cx="4248000" cy="2881440"/>
          </a:xfrm>
          <a:prstGeom prst="cloudCallout">
            <a:avLst>
              <a:gd name="adj1" fmla="val 54069"/>
              <a:gd name="adj2" fmla="val 128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клетка, являющаяся единицей строения нервной тка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1"/>
          <p:cNvSpPr/>
          <p:nvPr/>
        </p:nvSpPr>
        <p:spPr>
          <a:xfrm>
            <a:off x="142920" y="-142920"/>
            <a:ext cx="8786880" cy="6858000"/>
          </a:xfrm>
          <a:custGeom>
            <a:avLst/>
            <a:gdLst>
              <a:gd name="textAreaLeft" fmla="*/ 444240 w 8786880"/>
              <a:gd name="textAreaRight" fmla="*/ 8342640 w 87868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675" h="21600">
                <a:moveTo>
                  <a:pt x="0" y="0"/>
                </a:moveTo>
                <a:lnTo>
                  <a:pt x="27675" y="0"/>
                </a:lnTo>
                <a:lnTo>
                  <a:pt x="27675" y="21600"/>
                </a:lnTo>
                <a:lnTo>
                  <a:pt x="0" y="21600"/>
                </a:lnTo>
                <a:close/>
              </a:path>
              <a:path fill="lightenLess" w="27675" h="21600">
                <a:moveTo>
                  <a:pt x="0" y="0"/>
                </a:moveTo>
                <a:lnTo>
                  <a:pt x="27675" y="0"/>
                </a:lnTo>
                <a:lnTo>
                  <a:pt x="26275" y="1400"/>
                </a:lnTo>
                <a:lnTo>
                  <a:pt x="1400" y="1400"/>
                </a:lnTo>
                <a:close/>
              </a:path>
              <a:path fill="darken" w="27675" h="21600">
                <a:moveTo>
                  <a:pt x="27675" y="0"/>
                </a:moveTo>
                <a:lnTo>
                  <a:pt x="27675" y="21600"/>
                </a:lnTo>
                <a:lnTo>
                  <a:pt x="26275" y="20200"/>
                </a:lnTo>
                <a:lnTo>
                  <a:pt x="26275" y="1400"/>
                </a:lnTo>
                <a:close/>
              </a:path>
              <a:path fill="darkenLess" w="27675" h="21600">
                <a:moveTo>
                  <a:pt x="27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75" y="20200"/>
                </a:lnTo>
                <a:close/>
              </a:path>
              <a:path fill="lighten" w="27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«Учитесь, читайте, размышляйте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и извлекайте из всего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самое полезное»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.И. Пирог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53" name="Picture 4" descr="j0301252"/>
          <p:cNvPicPr/>
          <p:nvPr/>
        </p:nvPicPr>
        <p:blipFill>
          <a:blip r:embed="rId1"/>
          <a:stretch/>
        </p:blipFill>
        <p:spPr>
          <a:xfrm>
            <a:off x="324000" y="278136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59612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асибо за игру!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857160" y="227880"/>
            <a:ext cx="7500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т орган кровь толк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главный, каждый зн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внутри есть клапан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ерц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 орган? Это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857160" y="158184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вкусной пище он привык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вкуса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ш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857160" y="45396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в организме расщепля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щества простые превращается;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и происходит усвоени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ому вин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785880" y="179856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о из легких удаляем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ыхаем каждый раз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он не нужен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4:54Z</dcterms:created>
  <dc:creator>Юрий Ширяев</dc:creator>
  <dc:description/>
  <dc:language>en-US</dc:language>
  <cp:lastModifiedBy>Ёля</cp:lastModifiedBy>
  <dcterms:modified xsi:type="dcterms:W3CDTF">2014-05-04T14:47:31Z</dcterms:modified>
  <cp:revision>89</cp:revision>
  <dc:subject/>
  <dc:title>Слайд 1</dc:title>
</cp:coreProperties>
</file>