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C31A-6DC3-4A09-80B0-6E0CAF0532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11E0-78DD-47C5-B2BE-AF6E1B2B65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кажите, что вы видите на картинке. Что можно узнать? (Сколько всего зайчиков) Как это узнать? (запись в тетрадь выражения 4+2=6) Чтение записи с названием терми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E5C3-9B1F-4528-9A6B-DF1FCA7904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те, что случилось. Что теперь можно узнать? (Сколько зайчиков осталось?) Как это можно записать? (в тетрадь 6-4=2) Как называли число 6? Число 4? Число 2? Как можно прочитать запись? (из суммы 6 вычесть слагаемое 4 получится слагаемое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A1B7-7D63-43CA-B05A-7DFEA1530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вернутся серые зайчики. Посмотрите, что теперь произойдёт(ушли белые зайчики) Что можно спросить? Как это записать. Далее как в предыдущем рассуждени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E7E3-FB1B-4642-8417-85174E2F2B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ие: чтение выражений, используя математические терм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3F3F-50CD-40D7-A9B1-34BF43140C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ите вывод. Далее – закрепление по заданиям учебника или на усмотрение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BD57-4AB2-4091-968E-3B7DDE77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E28-265C-481A-9755-8774290B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50533-3E30-489E-A43E-039023B3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3BEC6-CD89-44EE-A2EB-E4E6432D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97B66-E9D8-4949-85AA-E825AF14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708A4-4393-4463-BFE7-1918EBCB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25270-F131-477B-848B-B61CDE9B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9E0A9-32CF-4694-8236-BAE887F4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40380-EA57-4ADD-9234-F02F03AE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E5C94-5ABD-4531-9863-3671B494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3E379-1E2C-44B9-8B46-E9173FF9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5BD1-BFE0-4112-A986-952451FE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2093-5159-49CD-8DE4-75DC4C86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1009-D02B-454E-A563-95332E58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8D78-5A6A-47AC-95BE-AAF7E3E9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C6E3-94E9-4918-8DDB-F0D5AE67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240B-FE3E-4F9B-B050-E53F44D7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6EB7-51C2-44C6-8B08-E1CD22DB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52F5-B752-41F3-A04C-A5C37A61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10F1-1C76-4C31-80BC-C66AAA84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E804-F70D-4C4A-92CD-969DA75F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005B-57B4-4A72-87D3-ED4633F1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70E2-723B-438D-89C6-07B4E233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2528-AC4A-4FB0-9D80-87B51BA0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C4C2-65C7-48F9-8584-8561DA70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5ECB-2B89-4462-B994-82CD3308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FB742-C2B7-4327-AF32-4E0D3973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DB438-B429-4E27-B54A-03A062A4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036D8-C0F0-4A69-86F4-2C82F705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8AF0F-6D3C-44E7-95EC-2F37F264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1BFFF-D476-4CA4-B3C9-CC15FCBF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578-D133-4BCC-8DA5-7D238560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962B1-D252-4344-8205-034F78BF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B4094-A830-48B4-880D-F8B5863D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55A30-678F-427E-84B5-529121B1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2126E-FC1A-4401-A57C-1C96B461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3A8C9-0FC6-4DBC-962E-5745D8A9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4833C-2EC5-45ED-A5F7-092FAFF2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F45C1-A2F9-40CE-9224-2E15A71E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CF449-8AD8-420D-8FF8-F6C4E08A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E913B-2FE1-4582-9A91-B58A2E51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D1116-E9D2-40CA-B605-895D9A41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DF7-48DD-41FA-AFA7-E3656A66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65E5E-4013-4508-957B-733A042D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F5043-B846-4D67-A2DD-6BB79D2C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CE6CA-C1EB-4A17-ADAF-1FE5D29E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363AA-BEF4-4AD3-9A89-35F55DBB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3F1E8-B502-4783-B9DC-A13BBC5A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1C0D4-AA87-4135-BC03-0EFE161D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B016A-E8CB-4781-88EA-1B38EBE2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20D17-38C0-4480-A800-6AFB6DD2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27A6E-5DC3-4B3E-B8E3-8D0E2F66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33735-8BE8-4900-B21A-E472254D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C7A3-A607-493B-A828-C68A58B8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DFBBB-CC8F-47F2-86C8-A5EDDA68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1CD99-CB4B-4F24-829B-6FAF2D60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DF482-6A87-4A3D-8BAC-7209E18D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34A3F-B078-4BB0-BAE0-FEB68310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87473-239F-4E22-989B-7124CC40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81536-E5A5-487A-86AC-7DA4EBF0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A699A-5DFE-48C8-846F-E518EC22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025BE-3AB4-44EE-A88D-ED085739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CC2A2-011F-4F6C-ABC3-6816E19D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0E882-3C6E-425B-913A-8CAB53AD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1A10-C331-4BB5-9132-F07F86A5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1A13E-F2BE-4C96-BBBF-6D1BEE7E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D6EBF-377C-4B81-B95F-8C20D43D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E45C5-2FAC-4646-9E9D-CC6A1654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943A8-A09E-4BC6-8D6D-72FFC591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59E46-000A-4133-B7D8-5CBBB3EE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D3CA5-7D8A-4C1E-8317-FACCFAAB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763B0-0D6E-46BC-88A3-ACF78C5E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BB636-EDDF-4471-A2A9-686ECF58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DAE5E-E416-4F83-A1D0-67FD9DDE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E67D4-7239-4056-A28F-0F1F54C7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4A6-59C2-4EAA-B34C-F4F327A0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D6CF7-B46C-4DB3-9E13-D05A5FE0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63D52-4E63-4569-9BA0-01C94A68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9CAAD-4E71-4B6F-B6D3-3632C756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D27E1-564C-4AD2-ADD8-5DB43962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E716B-AE77-4A33-8A96-96C9B073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280DB-465E-483E-BCAE-CC106FBE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0C2FC-F8FA-46CB-AF1C-92A97354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5F7FC-52F4-4FD0-85C5-6C248001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D6C9C-E541-44E1-AC22-F702F407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D4825-0679-4CA8-876A-52AB99AC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6948-75B1-4AE5-A912-20598536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68533-F783-40DC-BADC-AC1E4B14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3AFAE-FA2A-451B-894B-684713FA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0BA60-96FD-4A78-8613-D16246DF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85740-CD91-4E5E-A264-A34E4437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3D927-65A4-4798-B6DA-E9CB02C0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CC42C-6C2E-4571-9FB3-669D0DC3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833D3-0B47-4AD7-A030-61F2359A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D3940-6B63-486D-A08F-F88EE754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68863-6D26-47C5-81E7-133976F8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E6007-842F-471B-8D78-010C9D33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0BF-E51B-487E-A994-9A421E38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7718E-56E8-465F-8F09-97730AD4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0303C-8D40-4F19-84A2-A77DCD36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28232-CB50-46EC-8744-06564A3E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C0BC2-FD0D-4B4C-B5AA-8DBBF0FA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7B5B4-F0F4-4281-AD15-4193C25A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37936-698A-4AEA-963D-012EF027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84E2C-3F6D-43AC-84D2-BFE3B2C6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25FF4-79C6-4172-BA58-5020EDE3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A0009-7FFB-47BC-B011-9389F62F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FFE54-4C43-4522-9BA7-9BA6B1E8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8769-B844-42B8-A2DA-93B4DF65C14F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2F2B-6A5F-410B-9064-8239C2BA1164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EE31-7229-484D-8E5C-27EDF5022B31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962E-0EA8-4271-AC18-83D54DA917F5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EB95-3C51-45AC-9F76-49ABBE9BBFB7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CBB8-A8DF-4981-A26F-69613B935F4F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D957-1DFF-40FA-A666-E7374CAF8F7E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D3AD-0E5F-4BA6-B4C3-A343CC9F5D2C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FFDE-E855-4994-BBA6-6D93C9D5C9DA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«Связь между суммой и слагаемыми».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Урок математики в 1 классе .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Программа « Школа России»    по ФГОС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Подготовила : Костина Светлана Викторовна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учитель начальных классов.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1"/>
          <p:cNvSpPr/>
          <p:nvPr/>
        </p:nvSpPr>
        <p:spPr>
          <a:xfrm>
            <a:off x="1002600" y="685800"/>
            <a:ext cx="821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родолжить столби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2"/>
          <p:cNvSpPr/>
          <p:nvPr/>
        </p:nvSpPr>
        <p:spPr>
          <a:xfrm>
            <a:off x="928440" y="2057400"/>
            <a:ext cx="276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7+3=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3"/>
          <p:cNvSpPr/>
          <p:nvPr/>
        </p:nvSpPr>
        <p:spPr>
          <a:xfrm>
            <a:off x="4952880" y="2133720"/>
            <a:ext cx="305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5+2=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4"/>
          <p:cNvSpPr/>
          <p:nvPr/>
        </p:nvSpPr>
        <p:spPr>
          <a:xfrm>
            <a:off x="1371600" y="2514600"/>
            <a:ext cx="138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5"/>
          <p:cNvSpPr/>
          <p:nvPr/>
        </p:nvSpPr>
        <p:spPr>
          <a:xfrm>
            <a:off x="1371600" y="31240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6"/>
          <p:cNvSpPr/>
          <p:nvPr/>
        </p:nvSpPr>
        <p:spPr>
          <a:xfrm>
            <a:off x="5334120" y="2514600"/>
            <a:ext cx="138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7"/>
          <p:cNvSpPr/>
          <p:nvPr/>
        </p:nvSpPr>
        <p:spPr>
          <a:xfrm>
            <a:off x="5334120" y="3124080"/>
            <a:ext cx="153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1"/>
          <p:cNvSpPr/>
          <p:nvPr/>
        </p:nvSpPr>
        <p:spPr>
          <a:xfrm>
            <a:off x="852120" y="1066680"/>
            <a:ext cx="276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7+3=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"/>
          <p:cNvSpPr/>
          <p:nvPr/>
        </p:nvSpPr>
        <p:spPr>
          <a:xfrm>
            <a:off x="838080" y="2514600"/>
            <a:ext cx="275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0-7=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3"/>
          <p:cNvSpPr/>
          <p:nvPr/>
        </p:nvSpPr>
        <p:spPr>
          <a:xfrm>
            <a:off x="838080" y="3886200"/>
            <a:ext cx="283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0-3=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4"/>
          <p:cNvSpPr/>
          <p:nvPr/>
        </p:nvSpPr>
        <p:spPr>
          <a:xfrm>
            <a:off x="5257800" y="2590920"/>
            <a:ext cx="224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7-5=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6"/>
          <p:cNvSpPr/>
          <p:nvPr/>
        </p:nvSpPr>
        <p:spPr>
          <a:xfrm>
            <a:off x="5181480" y="1066680"/>
            <a:ext cx="259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5+2=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7"/>
          <p:cNvSpPr/>
          <p:nvPr/>
        </p:nvSpPr>
        <p:spPr>
          <a:xfrm>
            <a:off x="5181480" y="3886200"/>
            <a:ext cx="232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7-2=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Box 1"/>
          <p:cNvSpPr/>
          <p:nvPr/>
        </p:nvSpPr>
        <p:spPr>
          <a:xfrm>
            <a:off x="1725120" y="144792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"/>
          <p:cNvSpPr/>
          <p:nvPr/>
        </p:nvSpPr>
        <p:spPr>
          <a:xfrm>
            <a:off x="1800000" y="2895480"/>
            <a:ext cx="137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3"/>
          <p:cNvSpPr/>
          <p:nvPr/>
        </p:nvSpPr>
        <p:spPr>
          <a:xfrm>
            <a:off x="1523880" y="4267080"/>
            <a:ext cx="197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5029200" y="14479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5029200" y="2819520"/>
            <a:ext cx="196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6"/>
          <p:cNvSpPr/>
          <p:nvPr/>
        </p:nvSpPr>
        <p:spPr>
          <a:xfrm>
            <a:off x="4952880" y="4267080"/>
            <a:ext cx="237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1"/>
          <p:cNvSpPr/>
          <p:nvPr/>
        </p:nvSpPr>
        <p:spPr>
          <a:xfrm>
            <a:off x="1066680" y="1066680"/>
            <a:ext cx="332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8+2=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"/>
          <p:cNvSpPr/>
          <p:nvPr/>
        </p:nvSpPr>
        <p:spPr>
          <a:xfrm>
            <a:off x="1219320" y="2590920"/>
            <a:ext cx="290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6+2=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1295280" y="4114800"/>
            <a:ext cx="290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5+4=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5105520" y="106668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9-4=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5"/>
          <p:cNvSpPr/>
          <p:nvPr/>
        </p:nvSpPr>
        <p:spPr>
          <a:xfrm>
            <a:off x="5257800" y="2590920"/>
            <a:ext cx="217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8-2=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"/>
          <p:cNvSpPr/>
          <p:nvPr/>
        </p:nvSpPr>
        <p:spPr>
          <a:xfrm>
            <a:off x="5105520" y="4191120"/>
            <a:ext cx="283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0-2=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Прямоугольник 2" descr=""/>
          <p:cNvPicPr/>
          <p:nvPr/>
        </p:nvPicPr>
        <p:blipFill>
          <a:blip r:embed="rId1"/>
          <a:stretch/>
        </p:blipFill>
        <p:spPr>
          <a:xfrm>
            <a:off x="628560" y="1316160"/>
            <a:ext cx="772956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9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10"/>
          <p:cNvGrpSpPr/>
          <p:nvPr/>
        </p:nvGrpSpPr>
        <p:grpSpPr>
          <a:xfrm>
            <a:off x="228600" y="304920"/>
            <a:ext cx="2209680" cy="2590560"/>
            <a:chOff x="228600" y="304920"/>
            <a:chExt cx="2209680" cy="2590560"/>
          </a:xfrm>
        </p:grpSpPr>
        <p:sp>
          <p:nvSpPr>
            <p:cNvPr id="421" name="Oval 9"/>
            <p:cNvSpPr/>
            <p:nvPr/>
          </p:nvSpPr>
          <p:spPr>
            <a:xfrm rot="1914600">
              <a:off x="370080" y="1537560"/>
              <a:ext cx="496080" cy="62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7"/>
            <p:cNvSpPr/>
            <p:nvPr/>
          </p:nvSpPr>
          <p:spPr>
            <a:xfrm>
              <a:off x="1370160" y="147780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8"/>
            <p:cNvSpPr/>
            <p:nvPr/>
          </p:nvSpPr>
          <p:spPr>
            <a:xfrm>
              <a:off x="1469160" y="451440"/>
              <a:ext cx="446400" cy="53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4" name="Picture 6" descr="Thumper-1-lg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209680" cy="25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Group 11"/>
          <p:cNvGrpSpPr/>
          <p:nvPr/>
        </p:nvGrpSpPr>
        <p:grpSpPr>
          <a:xfrm>
            <a:off x="2286000" y="228600"/>
            <a:ext cx="2209680" cy="2590920"/>
            <a:chOff x="2286000" y="228600"/>
            <a:chExt cx="2209680" cy="2590920"/>
          </a:xfrm>
        </p:grpSpPr>
        <p:sp>
          <p:nvSpPr>
            <p:cNvPr id="426" name="Oval 12"/>
            <p:cNvSpPr/>
            <p:nvPr/>
          </p:nvSpPr>
          <p:spPr>
            <a:xfrm rot="1914600">
              <a:off x="2427120" y="1461600"/>
              <a:ext cx="496080" cy="62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"/>
            <p:cNvSpPr/>
            <p:nvPr/>
          </p:nvSpPr>
          <p:spPr>
            <a:xfrm>
              <a:off x="3427560" y="140148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4"/>
            <p:cNvSpPr/>
            <p:nvPr/>
          </p:nvSpPr>
          <p:spPr>
            <a:xfrm>
              <a:off x="3526560" y="375120"/>
              <a:ext cx="446400" cy="53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15" descr="Thumper-1-lg"/>
            <p:cNvPicPr/>
            <p:nvPr/>
          </p:nvPicPr>
          <p:blipFill>
            <a:blip r:embed="rId2"/>
            <a:stretch/>
          </p:blipFill>
          <p:spPr>
            <a:xfrm>
              <a:off x="2286000" y="228600"/>
              <a:ext cx="2209680" cy="259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Group 16"/>
          <p:cNvGrpSpPr/>
          <p:nvPr/>
        </p:nvGrpSpPr>
        <p:grpSpPr>
          <a:xfrm>
            <a:off x="4495680" y="304920"/>
            <a:ext cx="2210040" cy="2590560"/>
            <a:chOff x="4495680" y="304920"/>
            <a:chExt cx="2210040" cy="2590560"/>
          </a:xfrm>
        </p:grpSpPr>
        <p:sp>
          <p:nvSpPr>
            <p:cNvPr id="431" name="Oval 17"/>
            <p:cNvSpPr/>
            <p:nvPr/>
          </p:nvSpPr>
          <p:spPr>
            <a:xfrm rot="1914600">
              <a:off x="4637160" y="1537920"/>
              <a:ext cx="496440" cy="62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8"/>
            <p:cNvSpPr/>
            <p:nvPr/>
          </p:nvSpPr>
          <p:spPr>
            <a:xfrm>
              <a:off x="5637240" y="147780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9"/>
            <p:cNvSpPr/>
            <p:nvPr/>
          </p:nvSpPr>
          <p:spPr>
            <a:xfrm>
              <a:off x="5736600" y="451440"/>
              <a:ext cx="446760" cy="53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20" descr="Thumper-1-lg"/>
            <p:cNvPicPr/>
            <p:nvPr/>
          </p:nvPicPr>
          <p:blipFill>
            <a:blip r:embed="rId3"/>
            <a:stretch/>
          </p:blipFill>
          <p:spPr>
            <a:xfrm>
              <a:off x="4495680" y="304920"/>
              <a:ext cx="2210040" cy="25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Group 21"/>
          <p:cNvGrpSpPr/>
          <p:nvPr/>
        </p:nvGrpSpPr>
        <p:grpSpPr>
          <a:xfrm>
            <a:off x="6705720" y="304920"/>
            <a:ext cx="2209680" cy="2590560"/>
            <a:chOff x="6705720" y="304920"/>
            <a:chExt cx="2209680" cy="2590560"/>
          </a:xfrm>
        </p:grpSpPr>
        <p:sp>
          <p:nvSpPr>
            <p:cNvPr id="436" name="Oval 22"/>
            <p:cNvSpPr/>
            <p:nvPr/>
          </p:nvSpPr>
          <p:spPr>
            <a:xfrm rot="1914600">
              <a:off x="6847200" y="1537560"/>
              <a:ext cx="496080" cy="62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3"/>
            <p:cNvSpPr/>
            <p:nvPr/>
          </p:nvSpPr>
          <p:spPr>
            <a:xfrm>
              <a:off x="7847280" y="147780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4"/>
            <p:cNvSpPr/>
            <p:nvPr/>
          </p:nvSpPr>
          <p:spPr>
            <a:xfrm>
              <a:off x="7946280" y="451440"/>
              <a:ext cx="446400" cy="53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9" name="Picture 25" descr="Thumper-1-lg"/>
            <p:cNvPicPr/>
            <p:nvPr/>
          </p:nvPicPr>
          <p:blipFill>
            <a:blip r:embed="rId4"/>
            <a:stretch/>
          </p:blipFill>
          <p:spPr>
            <a:xfrm>
              <a:off x="6705720" y="304920"/>
              <a:ext cx="2209680" cy="259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0" name="Picture 26" descr="зайчик 1"/>
          <p:cNvPicPr/>
          <p:nvPr/>
        </p:nvPicPr>
        <p:blipFill>
          <a:blip r:embed="rId5">
            <a:grayscl/>
            <a:lum bright="30000"/>
          </a:blip>
          <a:stretch/>
        </p:blipFill>
        <p:spPr>
          <a:xfrm>
            <a:off x="2209680" y="3276720"/>
            <a:ext cx="1844640" cy="28940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7" descr="зайчик 1"/>
          <p:cNvPicPr/>
          <p:nvPr/>
        </p:nvPicPr>
        <p:blipFill>
          <a:blip r:embed="rId6">
            <a:grayscl/>
            <a:lum bright="30000"/>
          </a:blip>
          <a:stretch/>
        </p:blipFill>
        <p:spPr>
          <a:xfrm>
            <a:off x="4495680" y="3200400"/>
            <a:ext cx="18446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9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5"/>
          <p:cNvGrpSpPr/>
          <p:nvPr/>
        </p:nvGrpSpPr>
        <p:grpSpPr>
          <a:xfrm>
            <a:off x="228600" y="228600"/>
            <a:ext cx="8686800" cy="2666880"/>
            <a:chOff x="228600" y="228600"/>
            <a:chExt cx="8686800" cy="2666880"/>
          </a:xfrm>
        </p:grpSpPr>
        <p:grpSp>
          <p:nvGrpSpPr>
            <p:cNvPr id="443" name="Group 2"/>
            <p:cNvGrpSpPr/>
            <p:nvPr/>
          </p:nvGrpSpPr>
          <p:grpSpPr>
            <a:xfrm>
              <a:off x="228600" y="304920"/>
              <a:ext cx="2209680" cy="2590560"/>
              <a:chOff x="228600" y="304920"/>
              <a:chExt cx="2209680" cy="2590560"/>
            </a:xfrm>
          </p:grpSpPr>
          <p:sp>
            <p:nvSpPr>
              <p:cNvPr id="444" name="Oval 3"/>
              <p:cNvSpPr/>
              <p:nvPr/>
            </p:nvSpPr>
            <p:spPr>
              <a:xfrm rot="1914600">
                <a:off x="370080" y="1537560"/>
                <a:ext cx="496080" cy="620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Oval 4"/>
              <p:cNvSpPr/>
              <p:nvPr/>
            </p:nvSpPr>
            <p:spPr>
              <a:xfrm>
                <a:off x="1370160" y="1477800"/>
                <a:ext cx="545760" cy="58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5"/>
              <p:cNvSpPr/>
              <p:nvPr/>
            </p:nvSpPr>
            <p:spPr>
              <a:xfrm>
                <a:off x="1469160" y="451440"/>
                <a:ext cx="446400" cy="537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7" name="Picture 6" descr="Thumper-1-lg"/>
              <p:cNvPicPr/>
              <p:nvPr/>
            </p:nvPicPr>
            <p:blipFill>
              <a:blip r:embed="rId1"/>
              <a:stretch/>
            </p:blipFill>
            <p:spPr>
              <a:xfrm>
                <a:off x="228600" y="304920"/>
                <a:ext cx="2209680" cy="2590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8" name="Group 7"/>
            <p:cNvGrpSpPr/>
            <p:nvPr/>
          </p:nvGrpSpPr>
          <p:grpSpPr>
            <a:xfrm>
              <a:off x="2286000" y="228600"/>
              <a:ext cx="2209680" cy="2590920"/>
              <a:chOff x="2286000" y="228600"/>
              <a:chExt cx="2209680" cy="2590920"/>
            </a:xfrm>
          </p:grpSpPr>
          <p:sp>
            <p:nvSpPr>
              <p:cNvPr id="449" name="Oval 8"/>
              <p:cNvSpPr/>
              <p:nvPr/>
            </p:nvSpPr>
            <p:spPr>
              <a:xfrm rot="1914600">
                <a:off x="2427120" y="1461600"/>
                <a:ext cx="496080" cy="621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9"/>
              <p:cNvSpPr/>
              <p:nvPr/>
            </p:nvSpPr>
            <p:spPr>
              <a:xfrm>
                <a:off x="3427560" y="1401480"/>
                <a:ext cx="545760" cy="58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10"/>
              <p:cNvSpPr/>
              <p:nvPr/>
            </p:nvSpPr>
            <p:spPr>
              <a:xfrm>
                <a:off x="3526560" y="375120"/>
                <a:ext cx="446400" cy="537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2" name="Picture 11" descr="Thumper-1-lg"/>
              <p:cNvPicPr/>
              <p:nvPr/>
            </p:nvPicPr>
            <p:blipFill>
              <a:blip r:embed="rId2"/>
              <a:stretch/>
            </p:blipFill>
            <p:spPr>
              <a:xfrm>
                <a:off x="2286000" y="228600"/>
                <a:ext cx="2209680" cy="2590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3" name="Group 12"/>
            <p:cNvGrpSpPr/>
            <p:nvPr/>
          </p:nvGrpSpPr>
          <p:grpSpPr>
            <a:xfrm>
              <a:off x="4495680" y="304920"/>
              <a:ext cx="2210040" cy="2590560"/>
              <a:chOff x="4495680" y="304920"/>
              <a:chExt cx="2210040" cy="2590560"/>
            </a:xfrm>
          </p:grpSpPr>
          <p:sp>
            <p:nvSpPr>
              <p:cNvPr id="454" name="Oval 13"/>
              <p:cNvSpPr/>
              <p:nvPr/>
            </p:nvSpPr>
            <p:spPr>
              <a:xfrm rot="1914600">
                <a:off x="4637160" y="1537920"/>
                <a:ext cx="496440" cy="620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14"/>
              <p:cNvSpPr/>
              <p:nvPr/>
            </p:nvSpPr>
            <p:spPr>
              <a:xfrm>
                <a:off x="5637240" y="1477800"/>
                <a:ext cx="545760" cy="58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15"/>
              <p:cNvSpPr/>
              <p:nvPr/>
            </p:nvSpPr>
            <p:spPr>
              <a:xfrm>
                <a:off x="5736600" y="451440"/>
                <a:ext cx="446760" cy="537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7" name="Picture 16" descr="Thumper-1-lg"/>
              <p:cNvPicPr/>
              <p:nvPr/>
            </p:nvPicPr>
            <p:blipFill>
              <a:blip r:embed="rId3"/>
              <a:stretch/>
            </p:blipFill>
            <p:spPr>
              <a:xfrm>
                <a:off x="4495680" y="304920"/>
                <a:ext cx="2210040" cy="2590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8" name="Group 17"/>
            <p:cNvGrpSpPr/>
            <p:nvPr/>
          </p:nvGrpSpPr>
          <p:grpSpPr>
            <a:xfrm>
              <a:off x="6705720" y="304920"/>
              <a:ext cx="2209680" cy="2590560"/>
              <a:chOff x="6705720" y="304920"/>
              <a:chExt cx="2209680" cy="2590560"/>
            </a:xfrm>
          </p:grpSpPr>
          <p:sp>
            <p:nvSpPr>
              <p:cNvPr id="459" name="Oval 18"/>
              <p:cNvSpPr/>
              <p:nvPr/>
            </p:nvSpPr>
            <p:spPr>
              <a:xfrm rot="1914600">
                <a:off x="6847200" y="1537560"/>
                <a:ext cx="496080" cy="620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19"/>
              <p:cNvSpPr/>
              <p:nvPr/>
            </p:nvSpPr>
            <p:spPr>
              <a:xfrm>
                <a:off x="7847280" y="1477800"/>
                <a:ext cx="545760" cy="58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20"/>
              <p:cNvSpPr/>
              <p:nvPr/>
            </p:nvSpPr>
            <p:spPr>
              <a:xfrm>
                <a:off x="7946280" y="451440"/>
                <a:ext cx="446400" cy="537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2" name="Picture 21" descr="Thumper-1-lg"/>
              <p:cNvPicPr/>
              <p:nvPr/>
            </p:nvPicPr>
            <p:blipFill>
              <a:blip r:embed="rId4"/>
              <a:stretch/>
            </p:blipFill>
            <p:spPr>
              <a:xfrm>
                <a:off x="6705720" y="304920"/>
                <a:ext cx="2209680" cy="2590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63" name="Picture 26" descr="зайчик 1"/>
          <p:cNvPicPr/>
          <p:nvPr/>
        </p:nvPicPr>
        <p:blipFill>
          <a:blip r:embed="rId5">
            <a:grayscl/>
            <a:lum bright="30000"/>
          </a:blip>
          <a:stretch/>
        </p:blipFill>
        <p:spPr>
          <a:xfrm>
            <a:off x="2209680" y="3276720"/>
            <a:ext cx="1844640" cy="28940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7" descr="зайчик 1"/>
          <p:cNvPicPr/>
          <p:nvPr/>
        </p:nvPicPr>
        <p:blipFill>
          <a:blip r:embed="rId6">
            <a:grayscl/>
            <a:lum bright="30000"/>
          </a:blip>
          <a:stretch/>
        </p:blipFill>
        <p:spPr>
          <a:xfrm>
            <a:off x="4495680" y="3200400"/>
            <a:ext cx="18446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9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228600" y="304920"/>
            <a:ext cx="2209680" cy="2590560"/>
            <a:chOff x="228600" y="304920"/>
            <a:chExt cx="2209680" cy="2590560"/>
          </a:xfrm>
        </p:grpSpPr>
        <p:sp>
          <p:nvSpPr>
            <p:cNvPr id="466" name="Oval 3"/>
            <p:cNvSpPr/>
            <p:nvPr/>
          </p:nvSpPr>
          <p:spPr>
            <a:xfrm rot="1914600">
              <a:off x="370080" y="1537560"/>
              <a:ext cx="496080" cy="62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4"/>
            <p:cNvSpPr/>
            <p:nvPr/>
          </p:nvSpPr>
          <p:spPr>
            <a:xfrm>
              <a:off x="1370160" y="147780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5"/>
            <p:cNvSpPr/>
            <p:nvPr/>
          </p:nvSpPr>
          <p:spPr>
            <a:xfrm>
              <a:off x="1469160" y="451440"/>
              <a:ext cx="446400" cy="53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9" name="Picture 6" descr="Thumper-1-lg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209680" cy="25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Group 7"/>
          <p:cNvGrpSpPr/>
          <p:nvPr/>
        </p:nvGrpSpPr>
        <p:grpSpPr>
          <a:xfrm>
            <a:off x="2286000" y="228600"/>
            <a:ext cx="2209680" cy="2590920"/>
            <a:chOff x="2286000" y="228600"/>
            <a:chExt cx="2209680" cy="2590920"/>
          </a:xfrm>
        </p:grpSpPr>
        <p:sp>
          <p:nvSpPr>
            <p:cNvPr id="471" name="Oval 8"/>
            <p:cNvSpPr/>
            <p:nvPr/>
          </p:nvSpPr>
          <p:spPr>
            <a:xfrm rot="1914600">
              <a:off x="2427120" y="1461600"/>
              <a:ext cx="496080" cy="62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9"/>
            <p:cNvSpPr/>
            <p:nvPr/>
          </p:nvSpPr>
          <p:spPr>
            <a:xfrm>
              <a:off x="3427560" y="140148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0"/>
            <p:cNvSpPr/>
            <p:nvPr/>
          </p:nvSpPr>
          <p:spPr>
            <a:xfrm>
              <a:off x="3526560" y="375120"/>
              <a:ext cx="446400" cy="53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4" name="Picture 11" descr="Thumper-1-lg"/>
            <p:cNvPicPr/>
            <p:nvPr/>
          </p:nvPicPr>
          <p:blipFill>
            <a:blip r:embed="rId2"/>
            <a:stretch/>
          </p:blipFill>
          <p:spPr>
            <a:xfrm>
              <a:off x="2286000" y="228600"/>
              <a:ext cx="2209680" cy="259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5" name="Group 12"/>
          <p:cNvGrpSpPr/>
          <p:nvPr/>
        </p:nvGrpSpPr>
        <p:grpSpPr>
          <a:xfrm>
            <a:off x="4495680" y="304920"/>
            <a:ext cx="2210040" cy="2590560"/>
            <a:chOff x="4495680" y="304920"/>
            <a:chExt cx="2210040" cy="2590560"/>
          </a:xfrm>
        </p:grpSpPr>
        <p:sp>
          <p:nvSpPr>
            <p:cNvPr id="476" name="Oval 13"/>
            <p:cNvSpPr/>
            <p:nvPr/>
          </p:nvSpPr>
          <p:spPr>
            <a:xfrm rot="1914600">
              <a:off x="4637160" y="1537920"/>
              <a:ext cx="496440" cy="62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4"/>
            <p:cNvSpPr/>
            <p:nvPr/>
          </p:nvSpPr>
          <p:spPr>
            <a:xfrm>
              <a:off x="5637240" y="147780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5"/>
            <p:cNvSpPr/>
            <p:nvPr/>
          </p:nvSpPr>
          <p:spPr>
            <a:xfrm>
              <a:off x="5736600" y="451440"/>
              <a:ext cx="446760" cy="53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16" descr="Thumper-1-lg"/>
            <p:cNvPicPr/>
            <p:nvPr/>
          </p:nvPicPr>
          <p:blipFill>
            <a:blip r:embed="rId3"/>
            <a:stretch/>
          </p:blipFill>
          <p:spPr>
            <a:xfrm>
              <a:off x="4495680" y="304920"/>
              <a:ext cx="2210040" cy="25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0" name="Group 17"/>
          <p:cNvGrpSpPr/>
          <p:nvPr/>
        </p:nvGrpSpPr>
        <p:grpSpPr>
          <a:xfrm>
            <a:off x="6705720" y="304920"/>
            <a:ext cx="2209680" cy="2590560"/>
            <a:chOff x="6705720" y="304920"/>
            <a:chExt cx="2209680" cy="2590560"/>
          </a:xfrm>
        </p:grpSpPr>
        <p:sp>
          <p:nvSpPr>
            <p:cNvPr id="481" name="Oval 18"/>
            <p:cNvSpPr/>
            <p:nvPr/>
          </p:nvSpPr>
          <p:spPr>
            <a:xfrm rot="1914600">
              <a:off x="6847200" y="1537560"/>
              <a:ext cx="496080" cy="62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9"/>
            <p:cNvSpPr/>
            <p:nvPr/>
          </p:nvSpPr>
          <p:spPr>
            <a:xfrm>
              <a:off x="7847280" y="147780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20"/>
            <p:cNvSpPr/>
            <p:nvPr/>
          </p:nvSpPr>
          <p:spPr>
            <a:xfrm>
              <a:off x="7946280" y="451440"/>
              <a:ext cx="446400" cy="53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4" name="Picture 21" descr="Thumper-1-lg"/>
            <p:cNvPicPr/>
            <p:nvPr/>
          </p:nvPicPr>
          <p:blipFill>
            <a:blip r:embed="rId4"/>
            <a:stretch/>
          </p:blipFill>
          <p:spPr>
            <a:xfrm>
              <a:off x="6705720" y="304920"/>
              <a:ext cx="2209680" cy="25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5" name="Group 24"/>
          <p:cNvGrpSpPr/>
          <p:nvPr/>
        </p:nvGrpSpPr>
        <p:grpSpPr>
          <a:xfrm>
            <a:off x="2209680" y="3200400"/>
            <a:ext cx="4130640" cy="2970360"/>
            <a:chOff x="2209680" y="3200400"/>
            <a:chExt cx="4130640" cy="2970360"/>
          </a:xfrm>
        </p:grpSpPr>
        <p:pic>
          <p:nvPicPr>
            <p:cNvPr id="486" name="Picture 22" descr="зайчик 1"/>
            <p:cNvPicPr/>
            <p:nvPr/>
          </p:nvPicPr>
          <p:blipFill>
            <a:blip r:embed="rId5">
              <a:grayscl/>
              <a:lum bright="30000"/>
            </a:blip>
            <a:stretch/>
          </p:blipFill>
          <p:spPr>
            <a:xfrm>
              <a:off x="2209680" y="3276720"/>
              <a:ext cx="1844640" cy="28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23" descr="зайчик 1"/>
            <p:cNvPicPr/>
            <p:nvPr/>
          </p:nvPicPr>
          <p:blipFill>
            <a:blip r:embed="rId6">
              <a:grayscl/>
              <a:lum bright="30000"/>
            </a:blip>
            <a:stretch/>
          </p:blipFill>
          <p:spPr>
            <a:xfrm>
              <a:off x="4495680" y="3200400"/>
              <a:ext cx="1844640" cy="289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4" descr="шк_доска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WordArt 5"/>
          <p:cNvSpPr txBox="1"/>
          <p:nvPr/>
        </p:nvSpPr>
        <p:spPr>
          <a:xfrm>
            <a:off x="1981080" y="838080"/>
            <a:ext cx="59436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 + 2 =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 - 4 =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 - 2 =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2" descr="шк_доска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491" name="WordArt 4"/>
          <p:cNvSpPr txBox="1"/>
          <p:nvPr/>
        </p:nvSpPr>
        <p:spPr>
          <a:xfrm>
            <a:off x="1371600" y="533520"/>
            <a:ext cx="60958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сли  из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че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учит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2" name="WordArt 5"/>
          <p:cNvSpPr txBox="1"/>
          <p:nvPr/>
        </p:nvSpPr>
        <p:spPr>
          <a:xfrm>
            <a:off x="1676520" y="3352680"/>
            <a:ext cx="5715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4b9e8"/>
                </a:solidFill>
                <a:latin typeface="Arial"/>
              </a:rPr>
              <a:t>одно  слагаемо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4b9e8"/>
              </a:solidFill>
              <a:latin typeface="Arial"/>
              <a:ea typeface="Arial"/>
            </a:endParaRPr>
          </a:p>
        </p:txBody>
      </p:sp>
      <p:sp>
        <p:nvSpPr>
          <p:cNvPr id="493" name="WordArt 6"/>
          <p:cNvSpPr txBox="1"/>
          <p:nvPr/>
        </p:nvSpPr>
        <p:spPr>
          <a:xfrm>
            <a:off x="2819520" y="1600200"/>
            <a:ext cx="3200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4b9e8"/>
                </a:solidFill>
                <a:latin typeface="Arial"/>
              </a:rPr>
              <a:t>сум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4b9e8"/>
              </a:solidFill>
              <a:latin typeface="Arial"/>
              <a:ea typeface="Arial"/>
            </a:endParaRPr>
          </a:p>
        </p:txBody>
      </p:sp>
      <p:sp>
        <p:nvSpPr>
          <p:cNvPr id="494" name="WordArt 7"/>
          <p:cNvSpPr txBox="1"/>
          <p:nvPr/>
        </p:nvSpPr>
        <p:spPr>
          <a:xfrm>
            <a:off x="1371600" y="5181480"/>
            <a:ext cx="6400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4b9e8"/>
                </a:solidFill>
                <a:latin typeface="Arial"/>
              </a:rPr>
              <a:t>другое  слагаемо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4b9e8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4:53:29Z</dcterms:created>
  <dc:creator>user</dc:creator>
  <dc:description/>
  <dc:language>en-US</dc:language>
  <cp:lastModifiedBy>Ёля</cp:lastModifiedBy>
  <dcterms:modified xsi:type="dcterms:W3CDTF">2014-05-17T14:34:18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