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ECA6-4D93-41E0-B56A-172066BF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45BF-262C-456D-99CC-EC40DE3D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7B75-2134-4084-AF53-FB6F4973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0BB2-6BA8-481C-9F30-938B89F6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A6A4-DBD8-4A91-AC10-C4E81061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2172-D8E5-45DB-BD56-27B6EBAF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0BE4-6649-43BB-AFF6-384546FD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07DD-87AF-4C33-A434-972CB9F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E2F9-8B19-417E-AD63-F27D0311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0D64-8AF1-45AA-A195-CE7F9D6D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0D3C-3482-49FE-BAAA-94A9CB6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995A-8005-4C5D-9519-41425FDF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2A75-2AE8-4915-AFFF-A35E0541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1C43-EA24-4030-99B8-F38F4AB1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1CA1-3CA2-441A-BAC4-6306BF6D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38EB-880D-4ABB-A0C4-BAEAEA38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D8DB-8F41-4A51-8509-A76A19CC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5F20-0BE9-4A97-956B-25FD96DF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4A17-03A0-4861-A26E-79126F18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20C2-1F1E-49F7-A388-8B12ED4D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F29D-D245-4E96-A43A-B4176773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A22B-B6AF-4371-BEBC-E38D2F5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C255-7D88-4D07-A019-9C8F0D8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48FD-01D2-4E00-BACD-C10D7840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3E1B-F1B5-4F4A-A067-2711F2817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BAFA-63D3-452B-96AF-9E37AB191C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55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16.xml"/><Relationship Id="rId15" Type="http://schemas.openxmlformats.org/officeDocument/2006/relationships/slide" Target="slide57.xm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1"/>
          <p:cNvSpPr txBox="1"/>
          <p:nvPr/>
        </p:nvSpPr>
        <p:spPr>
          <a:xfrm>
            <a:off x="990720" y="685800"/>
            <a:ext cx="7467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Odessa LET"/>
              </a:rPr>
              <a:t>В потоке Истории 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Odessa LET"/>
              <a:ea typeface="Odessa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Odessa LET"/>
              </a:rPr>
              <a:t>Тарих толқынында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Odessa LET"/>
              <a:ea typeface="Odessa LET"/>
            </a:endParaRPr>
          </a:p>
        </p:txBody>
      </p:sp>
      <p:pic>
        <p:nvPicPr>
          <p:cNvPr id="101" name="Picture 22" descr="MPj04236940000[1]"/>
          <p:cNvPicPr/>
          <p:nvPr/>
        </p:nvPicPr>
        <p:blipFill>
          <a:blip r:embed="rId1"/>
          <a:stretch/>
        </p:blipFill>
        <p:spPr>
          <a:xfrm>
            <a:off x="4495680" y="3048120"/>
            <a:ext cx="4429080" cy="3581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печать-круглая.png"/>
          <p:cNvPicPr/>
          <p:nvPr/>
        </p:nvPicPr>
        <p:blipFill>
          <a:blip r:embed="rId2"/>
          <a:stretch/>
        </p:blipFill>
        <p:spPr>
          <a:xfrm>
            <a:off x="304920" y="464832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азАКСР/КазАССР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1920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848720" y="556272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8198" y="10800"/>
                </a:moveTo>
                <a:lnTo>
                  <a:pt x="18703" y="3794"/>
                </a:lnTo>
                <a:lnTo>
                  <a:pt x="18703" y="17806"/>
                </a:lnTo>
                <a:close/>
              </a:path>
              <a:path fill="darken" w="23394" h="21600">
                <a:moveTo>
                  <a:pt x="4690" y="3794"/>
                </a:moveTo>
                <a:lnTo>
                  <a:pt x="6353" y="3794"/>
                </a:lnTo>
                <a:lnTo>
                  <a:pt x="6353" y="17806"/>
                </a:lnTo>
                <a:lnTo>
                  <a:pt x="46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Екінші д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ние жүзілік соғыс қай жылы басталды?/В каком году началась Вторая Мировая война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39 ж/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924680" y="55627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10546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8701" y="3794"/>
                </a:lnTo>
                <a:lnTo>
                  <a:pt x="8701" y="17806"/>
                </a:lnTo>
                <a:lnTo>
                  <a:pt x="70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Екінші д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ние ж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зілік соғыста қатысқан мемлеккеттер саны./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Сколько государств принимало участие во Второй Мировой войне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1 мемлекет/государ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772400" y="55627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«Ленинградтық өренім атты» өленді 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кім жазды?/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ому принадлежит стихотворение «Ленинградцы, дети мои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амбыл(у) Жабаев(у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924680" y="56386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9458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  <a:path fill="darken" w="25914" h="21600">
                <a:moveTo>
                  <a:pt x="5950" y="3794"/>
                </a:moveTo>
                <a:lnTo>
                  <a:pt x="7613" y="3794"/>
                </a:lnTo>
                <a:lnTo>
                  <a:pt x="7613" y="17806"/>
                </a:lnTo>
                <a:lnTo>
                  <a:pt x="595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Қай жыл 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Қазақстан тәуелсіз мемлекет болды?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/К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огда Казакстан приобрел независимость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91ж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543800" y="55627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Тарихтың атасы кім?/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то является праотцом истории?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род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7848720" y="54100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10534" y="10800"/>
                </a:moveTo>
                <a:lnTo>
                  <a:pt x="21039" y="3794"/>
                </a:lnTo>
                <a:lnTo>
                  <a:pt x="21039" y="17806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8689" y="3794"/>
                </a:lnTo>
                <a:lnTo>
                  <a:pt x="8689" y="17806"/>
                </a:lnTo>
                <a:lnTo>
                  <a:pt x="70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Қазақстан Республикасы алғашқы президетнті. /Первый президент Республики Казахс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620120" y="55627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12" h="21600">
                <a:moveTo>
                  <a:pt x="12207" y="10800"/>
                </a:moveTo>
                <a:lnTo>
                  <a:pt x="22713" y="3794"/>
                </a:lnTo>
                <a:lnTo>
                  <a:pt x="22713" y="17806"/>
                </a:lnTo>
                <a:close/>
              </a:path>
              <a:path fill="darken" w="31412" h="21600">
                <a:moveTo>
                  <a:pt x="8700" y="3794"/>
                </a:moveTo>
                <a:lnTo>
                  <a:pt x="10362" y="3794"/>
                </a:lnTo>
                <a:lnTo>
                  <a:pt x="10362" y="17806"/>
                </a:lnTo>
                <a:lnTo>
                  <a:pt x="870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762120" y="33908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Ә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арба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Үнділердін сыйнатын құдайы/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г- которому покланялись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индусы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рах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7924680" y="58672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11620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9775" y="3794"/>
                </a:lnTo>
                <a:lnTo>
                  <a:pt x="9775" y="17806"/>
                </a:lnTo>
                <a:lnTo>
                  <a:pt x="811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6" descr="5"/>
          <p:cNvPicPr/>
          <p:nvPr/>
        </p:nvPicPr>
        <p:blipFill>
          <a:blip r:embed="rId1"/>
          <a:stretch/>
        </p:blipFill>
        <p:spPr>
          <a:xfrm>
            <a:off x="3809880" y="1295280"/>
            <a:ext cx="3764160" cy="510084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ұл суреттегі ғимараттын атауы.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бъект указанный на рисун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дж-Мах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467480" y="5867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3777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11932" y="3794"/>
                </a:lnTo>
                <a:lnTo>
                  <a:pt x="11932" y="17806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Рисунок 5" descr="C:\Documents and Settings\Администратор\Мои документы\Мавзолей Тадж-Махал.jpg"/>
          <p:cNvPicPr/>
          <p:nvPr/>
        </p:nvPicPr>
        <p:blipFill>
          <a:blip r:embed="rId1"/>
          <a:stretch/>
        </p:blipFill>
        <p:spPr>
          <a:xfrm>
            <a:off x="3124080" y="2286000"/>
            <a:ext cx="5639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үрік қағанатынын алғашқы қағаны./Кто являлся основателем Тюркского каганат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умын каг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8487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8600" y="1905120"/>
          <a:ext cx="8609040" cy="3076560"/>
        </p:xfrm>
        <a:graphic>
          <a:graphicData uri="http://schemas.openxmlformats.org/drawingml/2006/table">
            <a:tbl>
              <a:tblPr/>
              <a:tblGrid>
                <a:gridCol w="2286000"/>
                <a:gridCol w="1219320"/>
                <a:gridCol w="1218960"/>
                <a:gridCol w="1233720"/>
                <a:gridCol w="1325520"/>
                <a:gridCol w="1325520"/>
              </a:tblGrid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р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уып -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гадай-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Қазақстанда түсірімен алғашқы дыбыс филмі./Как назывался первый звуковой фильм снятый в Казахста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мангель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7467480" y="548640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11229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9384" y="3794"/>
                </a:lnTo>
                <a:lnTo>
                  <a:pt x="9384" y="17806"/>
                </a:lnTo>
                <a:lnTo>
                  <a:pt x="772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Қазақ хандығын құрған хандар./Оснаватели Казахского ханства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Жаныбек, Ке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77240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 </a:t>
            </a:r>
            <a:br>
              <a:rPr sz="4000"/>
            </a:b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Қазақ хандығының құрылған уақыты./ Время образования Казахского ханства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465-1466 ж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7848720" y="571500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10534" y="10800"/>
                </a:moveTo>
                <a:lnTo>
                  <a:pt x="21039" y="3794"/>
                </a:lnTo>
                <a:lnTo>
                  <a:pt x="21039" y="17806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8689" y="3794"/>
                </a:lnTo>
                <a:lnTo>
                  <a:pt x="8689" y="17806"/>
                </a:lnTo>
                <a:lnTo>
                  <a:pt x="70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за 7 класс</a:t>
            </a:r>
            <a:br>
              <a:rPr sz="44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Жет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і жарғы” заңы қай хан түсінда пайда болды/ Кто автор свода законов “Жеты жарғы”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Тәу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7924680" y="57913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10546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8701" y="3794"/>
                </a:lnTo>
                <a:lnTo>
                  <a:pt x="8701" y="17806"/>
                </a:lnTo>
                <a:lnTo>
                  <a:pt x="70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 за 7 класс</a:t>
            </a:r>
            <a:br>
              <a:rPr sz="4000"/>
            </a:b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Әбылқайыр ханын түсіндағы астанасы болған қала?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следняя столица ханства Абулхаир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ығна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772400" y="58672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4497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12652" y="3794"/>
                </a:lnTo>
                <a:lnTo>
                  <a:pt x="12652" y="17806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992ж. 2 наурызда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 Қазақстан қай үйымнын мүшесі болды?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азахстан 2 марта 1992 года стал равноправным членом: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ҰҰ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7772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11622" y="10800"/>
                </a:moveTo>
                <a:lnTo>
                  <a:pt x="22128" y="3794"/>
                </a:lnTo>
                <a:lnTo>
                  <a:pt x="22128" y="17806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9777" y="3794"/>
                </a:lnTo>
                <a:lnTo>
                  <a:pt x="9777" y="17806"/>
                </a:lnTo>
                <a:lnTo>
                  <a:pt x="811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үрік кезендегі ханын атауы/  Какой титул носил правитель Тюркского каганата?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Каг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696080" y="57150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0250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8405" y="3794"/>
                </a:lnTo>
                <a:lnTo>
                  <a:pt x="8405" y="17806"/>
                </a:lnTo>
                <a:lnTo>
                  <a:pt x="674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Монғолдарға қарсы 6 ай бойы қарсыласқан қала./Город в Южном Казахстане, который оказывал сопротивление монголам в течении 6 месяцев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ыр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772400" y="56386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рта Азия жазба деректерінде ойраттарды қалай атады?/Ойратов в среднеазиатских источниках называли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о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ңғарлар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унгара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7772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11622" y="10800"/>
                </a:moveTo>
                <a:lnTo>
                  <a:pt x="22128" y="3794"/>
                </a:lnTo>
                <a:lnTo>
                  <a:pt x="22128" y="17806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9777" y="3794"/>
                </a:lnTo>
                <a:lnTo>
                  <a:pt x="9777" y="17806"/>
                </a:lnTo>
                <a:lnTo>
                  <a:pt x="811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Абылай ханын бийлік еткен уақыт/Время правления Абылай хан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71-1781 ж.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1447920"/>
          <a:ext cx="8686800" cy="4106880"/>
        </p:xfrm>
        <a:graphic>
          <a:graphicData uri="http://schemas.openxmlformats.org/drawingml/2006/table">
            <a:tbl>
              <a:tblPr/>
              <a:tblGrid>
                <a:gridCol w="3403440"/>
                <a:gridCol w="1073160"/>
                <a:gridCol w="1403640"/>
                <a:gridCol w="1403280"/>
                <a:gridCol w="1403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6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7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8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тобиография президента Р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ерный 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қаласының негізі қаланған жыл?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 каком году был основан город Верный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854 ж.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772400" y="5638680"/>
            <a:ext cx="1066680" cy="838440"/>
          </a:xfrm>
          <a:custGeom>
            <a:avLst/>
            <a:gdLst>
              <a:gd name="textAreaLeft" fmla="*/ 54360 w 1066680"/>
              <a:gd name="textAreaRight" fmla="*/ 1012320 w 10666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7477" h="21600">
                <a:moveTo>
                  <a:pt x="0" y="0"/>
                </a:moveTo>
                <a:lnTo>
                  <a:pt x="27477" y="0"/>
                </a:lnTo>
                <a:lnTo>
                  <a:pt x="27477" y="21600"/>
                </a:lnTo>
                <a:lnTo>
                  <a:pt x="0" y="21600"/>
                </a:lnTo>
                <a:close/>
              </a:path>
              <a:path fill="lightenLess" w="27477" h="21600">
                <a:moveTo>
                  <a:pt x="0" y="0"/>
                </a:moveTo>
                <a:lnTo>
                  <a:pt x="27477" y="0"/>
                </a:lnTo>
                <a:lnTo>
                  <a:pt x="26077" y="1400"/>
                </a:lnTo>
                <a:lnTo>
                  <a:pt x="1400" y="1400"/>
                </a:lnTo>
                <a:close/>
              </a:path>
              <a:path fill="darken" w="27477" h="21600">
                <a:moveTo>
                  <a:pt x="27477" y="0"/>
                </a:moveTo>
                <a:lnTo>
                  <a:pt x="27477" y="21600"/>
                </a:lnTo>
                <a:lnTo>
                  <a:pt x="26077" y="20200"/>
                </a:lnTo>
                <a:lnTo>
                  <a:pt x="26077" y="1400"/>
                </a:lnTo>
                <a:close/>
              </a:path>
              <a:path fill="darkenLess" w="27477" h="21600">
                <a:moveTo>
                  <a:pt x="27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7" y="20200"/>
                </a:lnTo>
                <a:close/>
              </a:path>
              <a:path fill="lighten" w="27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7" h="21600">
                <a:moveTo>
                  <a:pt x="10240" y="10800"/>
                </a:moveTo>
                <a:lnTo>
                  <a:pt x="20745" y="3794"/>
                </a:lnTo>
                <a:lnTo>
                  <a:pt x="20745" y="17806"/>
                </a:lnTo>
                <a:close/>
              </a:path>
              <a:path fill="darken" w="27477" h="21600">
                <a:moveTo>
                  <a:pt x="6732" y="3794"/>
                </a:moveTo>
                <a:lnTo>
                  <a:pt x="8395" y="3794"/>
                </a:lnTo>
                <a:lnTo>
                  <a:pt x="8395" y="17806"/>
                </a:lnTo>
                <a:lnTo>
                  <a:pt x="67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Неолит дәүрінін қамтаған уақыты?/Хронологические рамки неолита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.з.д 5-3 тысяч лет до н.э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69608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12205" y="10800"/>
                </a:moveTo>
                <a:lnTo>
                  <a:pt x="22711" y="3794"/>
                </a:lnTo>
                <a:lnTo>
                  <a:pt x="22711" y="17806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10360" y="3794"/>
                </a:lnTo>
                <a:lnTo>
                  <a:pt x="10360" y="17806"/>
                </a:lnTo>
                <a:lnTo>
                  <a:pt x="86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Қола дәүрінін қамтаған уақыты?/Временные рамки периода бронзы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-1 тыс. до н.э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7772400" y="56386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8202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6357" y="3794"/>
                </a:lnTo>
                <a:lnTo>
                  <a:pt x="6357" y="17806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Герадоттан киінгі, Отрар қаласында туған екінші тарих атасы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торой учитель после Герадота, родился Отра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у Насыр Аль-Фараб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76960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4497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12652" y="3794"/>
                </a:lnTo>
                <a:lnTo>
                  <a:pt x="12652" y="17806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8" descr="F:\история1.jpg"/>
          <p:cNvPicPr/>
          <p:nvPr/>
        </p:nvPicPr>
        <p:blipFill>
          <a:blip r:embed="rId1"/>
          <a:stretch/>
        </p:blipFill>
        <p:spPr>
          <a:xfrm>
            <a:off x="5638680" y="2743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Ресей мемелекетіне қазақ жерін қосқан хан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н, предпринявший первые шаги, присоединению к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ылқайыр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7620120" y="5867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99" h="21600">
                <a:moveTo>
                  <a:pt x="12201" y="10800"/>
                </a:moveTo>
                <a:lnTo>
                  <a:pt x="22706" y="3794"/>
                </a:lnTo>
                <a:lnTo>
                  <a:pt x="22706" y="17806"/>
                </a:lnTo>
                <a:close/>
              </a:path>
              <a:path fill="darken" w="31399" h="21600">
                <a:moveTo>
                  <a:pt x="8693" y="3794"/>
                </a:moveTo>
                <a:lnTo>
                  <a:pt x="10355" y="3794"/>
                </a:lnTo>
                <a:lnTo>
                  <a:pt x="10355" y="17806"/>
                </a:lnTo>
                <a:lnTo>
                  <a:pt x="86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Рисунок 6" descr="F:\история2.jpg"/>
          <p:cNvPicPr/>
          <p:nvPr/>
        </p:nvPicPr>
        <p:blipFill>
          <a:blip r:embed="rId1"/>
          <a:stretch/>
        </p:blipFill>
        <p:spPr>
          <a:xfrm>
            <a:off x="3733920" y="3200400"/>
            <a:ext cx="30477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Әмір Темірдін бүйрығымен салыңған кесене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приказу Тимура в его честь был построен мавзо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хмед Ясса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848720" y="57913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Рисунок 6" descr="F:\алия.jpg"/>
          <p:cNvPicPr/>
          <p:nvPr/>
        </p:nvPicPr>
        <p:blipFill>
          <a:blip r:embed="rId1"/>
          <a:stretch/>
        </p:blipFill>
        <p:spPr>
          <a:xfrm>
            <a:off x="4495680" y="2971800"/>
            <a:ext cx="3124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5 жасынан бастап ойраттарға қарсы болған, Сабалақ есіммен жүрген қазақ ха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ще при жизни был причислен к святым, с 15 летнего возраста участвовал в сражениях с ойрат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ылай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7543800" y="58672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3183" y="10800"/>
                </a:moveTo>
                <a:lnTo>
                  <a:pt x="23689" y="3794"/>
                </a:lnTo>
                <a:lnTo>
                  <a:pt x="23689" y="17806"/>
                </a:lnTo>
                <a:close/>
              </a:path>
              <a:path fill="darken" w="33364" h="21600">
                <a:moveTo>
                  <a:pt x="9676" y="3794"/>
                </a:moveTo>
                <a:lnTo>
                  <a:pt x="11338" y="3794"/>
                </a:lnTo>
                <a:lnTo>
                  <a:pt x="11338" y="17806"/>
                </a:lnTo>
                <a:lnTo>
                  <a:pt x="967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Рисунок 5" descr="F:\история3.jpg"/>
          <p:cNvPicPr/>
          <p:nvPr/>
        </p:nvPicPr>
        <p:blipFill>
          <a:blip r:embed="rId1"/>
          <a:stretch/>
        </p:blipFill>
        <p:spPr>
          <a:xfrm>
            <a:off x="3733920" y="3733920"/>
            <a:ext cx="2590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</a:t>
            </a:r>
            <a:r>
              <a:rPr b="1" lang="kk-KZ" sz="4400" spc="-1" strike="noStrike">
                <a:solidFill>
                  <a:srgbClr val="e5e5ff"/>
                </a:solidFill>
                <a:latin typeface="Garamond"/>
              </a:rPr>
              <a:t>үние жүзі тарихы/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ң алғашқы адамдардың іздері табылған аймақ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первые останки древних людей обнаружены 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зии и Афри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7238880" y="548640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3600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  <a:path fill="darken" w="34198" h="21600">
                <a:moveTo>
                  <a:pt x="10092" y="3794"/>
                </a:moveTo>
                <a:lnTo>
                  <a:pt x="11755" y="3794"/>
                </a:lnTo>
                <a:lnTo>
                  <a:pt x="11755" y="17806"/>
                </a:lnTo>
                <a:lnTo>
                  <a:pt x="100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вилондағы ең атақты патш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ым знаменитым царем Вавилонии был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ммурап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315200" y="54864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3943" y="10800"/>
                </a:moveTo>
                <a:lnTo>
                  <a:pt x="24448" y="3794"/>
                </a:lnTo>
                <a:lnTo>
                  <a:pt x="24448" y="17806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12098" y="3794"/>
                </a:lnTo>
                <a:lnTo>
                  <a:pt x="12098" y="17806"/>
                </a:lnTo>
                <a:lnTo>
                  <a:pt x="104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Ежелгі Қытай мемлекетті әлем өркениетіндегі жасаған нәрсесі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/Вклад древнего Китая в мировую цивилизацию проявился в изобрет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ас и бумаг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7543800" y="5562720"/>
            <a:ext cx="1371600" cy="99036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9912" h="21600">
                <a:moveTo>
                  <a:pt x="0" y="0"/>
                </a:moveTo>
                <a:lnTo>
                  <a:pt x="29912" y="0"/>
                </a:lnTo>
                <a:lnTo>
                  <a:pt x="29912" y="21600"/>
                </a:lnTo>
                <a:lnTo>
                  <a:pt x="0" y="21600"/>
                </a:lnTo>
                <a:close/>
              </a:path>
              <a:path fill="lightenLess" w="29912" h="21600">
                <a:moveTo>
                  <a:pt x="0" y="0"/>
                </a:moveTo>
                <a:lnTo>
                  <a:pt x="29912" y="0"/>
                </a:lnTo>
                <a:lnTo>
                  <a:pt x="28512" y="1400"/>
                </a:lnTo>
                <a:lnTo>
                  <a:pt x="1400" y="1400"/>
                </a:lnTo>
                <a:close/>
              </a:path>
              <a:path fill="darken" w="29912" h="21600">
                <a:moveTo>
                  <a:pt x="29912" y="0"/>
                </a:moveTo>
                <a:lnTo>
                  <a:pt x="29912" y="21600"/>
                </a:lnTo>
                <a:lnTo>
                  <a:pt x="28512" y="20200"/>
                </a:lnTo>
                <a:lnTo>
                  <a:pt x="28512" y="1400"/>
                </a:lnTo>
                <a:close/>
              </a:path>
              <a:path fill="darkenLess" w="29912" h="21600">
                <a:moveTo>
                  <a:pt x="29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2" y="20200"/>
                </a:lnTo>
                <a:close/>
              </a:path>
              <a:path fill="lighten" w="29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12" h="21600">
                <a:moveTo>
                  <a:pt x="11457" y="10800"/>
                </a:moveTo>
                <a:lnTo>
                  <a:pt x="21962" y="3794"/>
                </a:lnTo>
                <a:lnTo>
                  <a:pt x="21962" y="17806"/>
                </a:lnTo>
                <a:close/>
              </a:path>
              <a:path fill="darken" w="29912" h="21600">
                <a:moveTo>
                  <a:pt x="7949" y="3794"/>
                </a:moveTo>
                <a:lnTo>
                  <a:pt x="9612" y="3794"/>
                </a:lnTo>
                <a:lnTo>
                  <a:pt x="9612" y="17806"/>
                </a:lnTo>
                <a:lnTo>
                  <a:pt x="794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1219320"/>
          <a:ext cx="7950240" cy="5202000"/>
        </p:xfrm>
        <a:graphic>
          <a:graphicData uri="http://schemas.openxmlformats.org/drawingml/2006/table">
            <a:tbl>
              <a:tblPr/>
              <a:tblGrid>
                <a:gridCol w="2895480"/>
                <a:gridCol w="1263600"/>
                <a:gridCol w="1263600"/>
                <a:gridCol w="1263600"/>
                <a:gridCol w="12639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Қазақстан тарихы/История Казахста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үние жүзі тарихы/ Всемирная Ист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в лиц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ронолог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3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АҚШ алғашқы президентті/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вый президент СШ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ордж Вашингт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7238880" y="556272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3600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  <a:path fill="darken" w="34198" h="21600">
                <a:moveTo>
                  <a:pt x="10092" y="3794"/>
                </a:moveTo>
                <a:lnTo>
                  <a:pt x="11755" y="3794"/>
                </a:lnTo>
                <a:lnTo>
                  <a:pt x="11755" y="17806"/>
                </a:lnTo>
                <a:lnTo>
                  <a:pt x="100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Қудай ретінде табыңған қазақтардын тәңір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захи верили в очистительную сил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/Ог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7315200" y="51814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3943" y="10800"/>
                </a:moveTo>
                <a:lnTo>
                  <a:pt x="24448" y="3794"/>
                </a:lnTo>
                <a:lnTo>
                  <a:pt x="24448" y="17806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12098" y="3794"/>
                </a:lnTo>
                <a:lnTo>
                  <a:pt x="12098" y="17806"/>
                </a:lnTo>
                <a:lnTo>
                  <a:pt x="104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Қалайы мен мыстың қосындыс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бавляя к медной руде олово, люди научились производи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Қола/Брон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5438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12205" y="10800"/>
                </a:moveTo>
                <a:lnTo>
                  <a:pt x="22711" y="3794"/>
                </a:lnTo>
                <a:lnTo>
                  <a:pt x="22711" y="17806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10360" y="3794"/>
                </a:lnTo>
                <a:lnTo>
                  <a:pt x="10360" y="17806"/>
                </a:lnTo>
                <a:lnTo>
                  <a:pt x="86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Томирис қай елдін патшасы/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омирис являлась цариц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қ/Са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7620120" y="54864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9788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  <a:path fill="darken" w="26574" h="21600">
                <a:moveTo>
                  <a:pt x="6281" y="3794"/>
                </a:moveTo>
                <a:lnTo>
                  <a:pt x="7943" y="3794"/>
                </a:lnTo>
                <a:lnTo>
                  <a:pt x="7943" y="17806"/>
                </a:lnTo>
                <a:lnTo>
                  <a:pt x="628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     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Қола дәурінде өмір сүрген алғашқы тайпалық одақ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емена эпохи бронзы на территории Казахстана ученые называ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дроновтар/Андроновц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7391520" y="556272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11798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9953" y="3794"/>
                </a:lnTo>
                <a:lnTo>
                  <a:pt x="9953" y="17806"/>
                </a:lnTo>
                <a:lnTo>
                  <a:pt x="82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Түрік мемлекеттендігі қыпшақ тілінде жазылған сөздік/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оварем кыпчакского языка, предназначенным для европейцев, являлс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Кодекс куманикус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754380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9797" y="10800"/>
                </a:moveTo>
                <a:lnTo>
                  <a:pt x="20302" y="3794"/>
                </a:lnTo>
                <a:lnTo>
                  <a:pt x="20302" y="17806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7952" y="3794"/>
                </a:lnTo>
                <a:lnTo>
                  <a:pt x="7952" y="17806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Начало освоения целинных и залежных зем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954г. февра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7467480" y="54864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0000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8155" y="3794"/>
                </a:lnTo>
                <a:lnTo>
                  <a:pt x="8155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837-1847 ж.Көтерлісті басқарған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ководитель восстания 1837-1847гг. в Казахст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несары Касыму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620120" y="5410080"/>
            <a:ext cx="1143000" cy="106704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3137" h="21600">
                <a:moveTo>
                  <a:pt x="0" y="0"/>
                </a:moveTo>
                <a:lnTo>
                  <a:pt x="23137" y="0"/>
                </a:lnTo>
                <a:lnTo>
                  <a:pt x="23137" y="21600"/>
                </a:lnTo>
                <a:lnTo>
                  <a:pt x="0" y="21600"/>
                </a:lnTo>
                <a:close/>
              </a:path>
              <a:path fill="lightenLess" w="23137" h="21600">
                <a:moveTo>
                  <a:pt x="0" y="0"/>
                </a:moveTo>
                <a:lnTo>
                  <a:pt x="23137" y="0"/>
                </a:lnTo>
                <a:lnTo>
                  <a:pt x="21737" y="1400"/>
                </a:lnTo>
                <a:lnTo>
                  <a:pt x="1400" y="1400"/>
                </a:lnTo>
                <a:close/>
              </a:path>
              <a:path fill="darken" w="23137" h="21600">
                <a:moveTo>
                  <a:pt x="23137" y="0"/>
                </a:moveTo>
                <a:lnTo>
                  <a:pt x="23137" y="21600"/>
                </a:lnTo>
                <a:lnTo>
                  <a:pt x="21737" y="20200"/>
                </a:lnTo>
                <a:lnTo>
                  <a:pt x="21737" y="1400"/>
                </a:lnTo>
                <a:close/>
              </a:path>
              <a:path fill="darkenLess" w="23137" h="21600">
                <a:moveTo>
                  <a:pt x="23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7" y="20200"/>
                </a:lnTo>
                <a:close/>
              </a:path>
              <a:path fill="lighten" w="23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7" h="21600">
                <a:moveTo>
                  <a:pt x="8070" y="10800"/>
                </a:moveTo>
                <a:lnTo>
                  <a:pt x="18575" y="3794"/>
                </a:lnTo>
                <a:lnTo>
                  <a:pt x="18575" y="17806"/>
                </a:lnTo>
                <a:close/>
              </a:path>
              <a:path fill="darken" w="23137" h="21600">
                <a:moveTo>
                  <a:pt x="4562" y="3794"/>
                </a:moveTo>
                <a:lnTo>
                  <a:pt x="6224" y="3794"/>
                </a:lnTo>
                <a:lnTo>
                  <a:pt x="6224" y="17806"/>
                </a:lnTo>
                <a:lnTo>
                  <a:pt x="456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өкей және Мәулен поэмасының авто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есть «Бокей и Маулян» напис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.И. Да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7467480" y="5410080"/>
            <a:ext cx="1371600" cy="106704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7763" h="21600">
                <a:moveTo>
                  <a:pt x="0" y="0"/>
                </a:moveTo>
                <a:lnTo>
                  <a:pt x="27763" y="0"/>
                </a:lnTo>
                <a:lnTo>
                  <a:pt x="27763" y="21600"/>
                </a:lnTo>
                <a:lnTo>
                  <a:pt x="0" y="21600"/>
                </a:lnTo>
                <a:close/>
              </a:path>
              <a:path fill="lightenLess" w="27763" h="21600">
                <a:moveTo>
                  <a:pt x="0" y="0"/>
                </a:moveTo>
                <a:lnTo>
                  <a:pt x="27763" y="0"/>
                </a:lnTo>
                <a:lnTo>
                  <a:pt x="26363" y="1400"/>
                </a:lnTo>
                <a:lnTo>
                  <a:pt x="1400" y="1400"/>
                </a:lnTo>
                <a:close/>
              </a:path>
              <a:path fill="darken" w="27763" h="21600">
                <a:moveTo>
                  <a:pt x="27763" y="0"/>
                </a:moveTo>
                <a:lnTo>
                  <a:pt x="27763" y="21600"/>
                </a:lnTo>
                <a:lnTo>
                  <a:pt x="26363" y="20200"/>
                </a:lnTo>
                <a:lnTo>
                  <a:pt x="26363" y="1400"/>
                </a:lnTo>
                <a:close/>
              </a:path>
              <a:path fill="darkenLess" w="27763" h="21600">
                <a:moveTo>
                  <a:pt x="27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3" y="20200"/>
                </a:lnTo>
                <a:close/>
              </a:path>
              <a:path fill="lighten" w="27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3" h="21600">
                <a:moveTo>
                  <a:pt x="10383" y="10800"/>
                </a:moveTo>
                <a:lnTo>
                  <a:pt x="20888" y="3794"/>
                </a:lnTo>
                <a:lnTo>
                  <a:pt x="20888" y="17806"/>
                </a:lnTo>
                <a:close/>
              </a:path>
              <a:path fill="darken" w="27763" h="21600">
                <a:moveTo>
                  <a:pt x="6875" y="3794"/>
                </a:moveTo>
                <a:lnTo>
                  <a:pt x="8537" y="3794"/>
                </a:lnTo>
                <a:lnTo>
                  <a:pt x="8537" y="17806"/>
                </a:lnTo>
                <a:lnTo>
                  <a:pt x="687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Қазақ мемлекетіндегі "Ақтабан шұбырынды уақ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ды «Великого бедствия» в Казахст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23-1727г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73915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9615" y="10800"/>
                </a:moveTo>
                <a:lnTo>
                  <a:pt x="20120" y="3794"/>
                </a:lnTo>
                <a:lnTo>
                  <a:pt x="20120" y="17806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7770" y="3794"/>
                </a:lnTo>
                <a:lnTo>
                  <a:pt x="7770" y="17806"/>
                </a:lnTo>
                <a:lnTo>
                  <a:pt x="6107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4 раунд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Н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Ответить на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наибольшее количество  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вопросов за 1 минуту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.А. Назарбаев начал свою трудовую деятельность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.Темиртау 1960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7696080" y="563868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0000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8155" y="3794"/>
                </a:lnTo>
                <a:lnTo>
                  <a:pt x="8155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Н.Ә.Назарбаевтың  туған жы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ата рождения Н.А.Назарба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6 шілде 1940ж./6 июля 1940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7620120" y="52578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Н.Ә.Назарбаев мемлекет бийлегіне қай жылы келд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каком году Н.А. Назарбаев стал Председателем Совета Министров Казахской ССР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984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7620120" y="54100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8" h="21600">
                <a:moveTo>
                  <a:pt x="10620" y="10800"/>
                </a:moveTo>
                <a:lnTo>
                  <a:pt x="21125" y="3794"/>
                </a:lnTo>
                <a:lnTo>
                  <a:pt x="21125" y="17806"/>
                </a:lnTo>
                <a:close/>
              </a:path>
              <a:path fill="darken" w="28238" h="21600">
                <a:moveTo>
                  <a:pt x="7112" y="3794"/>
                </a:moveTo>
                <a:lnTo>
                  <a:pt x="8775" y="3794"/>
                </a:lnTo>
                <a:lnTo>
                  <a:pt x="8775" y="17806"/>
                </a:lnTo>
                <a:lnTo>
                  <a:pt x="711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1989 жылы мамыр айында Н.Ә.Назарбаев кім болып сайлан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мае 1989г. Н.А.Назарбаев был избр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рвым секретарем ЦК Компартии Казахст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7467480" y="556272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1802" y="10800"/>
                </a:moveTo>
                <a:lnTo>
                  <a:pt x="22308" y="3794"/>
                </a:lnTo>
                <a:lnTo>
                  <a:pt x="22308" y="17806"/>
                </a:lnTo>
                <a:close/>
              </a:path>
              <a:path fill="darken" w="30602" h="21600">
                <a:moveTo>
                  <a:pt x="8295" y="3794"/>
                </a:moveTo>
                <a:lnTo>
                  <a:pt x="9957" y="3794"/>
                </a:lnTo>
                <a:lnTo>
                  <a:pt x="9957" y="17806"/>
                </a:lnTo>
                <a:lnTo>
                  <a:pt x="82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оңғар хандығынын құрылған уақ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унгарское ханство образовалось в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635 го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7467480" y="56386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11452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9606" y="3794"/>
                </a:lnTo>
                <a:lnTo>
                  <a:pt x="9606" y="17806"/>
                </a:lnTo>
                <a:lnTo>
                  <a:pt x="794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Үнділердін сыйнатын құдайы/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г- которому покланялись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индусы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рах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8077320" y="5715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Picture 6" descr="5"/>
          <p:cNvPicPr/>
          <p:nvPr/>
        </p:nvPicPr>
        <p:blipFill>
          <a:blip r:embed="rId1"/>
          <a:stretch/>
        </p:blipFill>
        <p:spPr>
          <a:xfrm>
            <a:off x="4191120" y="1371600"/>
            <a:ext cx="3763800" cy="510048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773-1775 жылы ұлт азаттық көтерлістін басшы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73-1775гг.-это годы крестьянского восстания под руководством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мельян Пугач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7620120" y="55627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3" h="21600">
                <a:moveTo>
                  <a:pt x="8842" y="10800"/>
                </a:moveTo>
                <a:lnTo>
                  <a:pt x="19348" y="3794"/>
                </a:lnTo>
                <a:lnTo>
                  <a:pt x="19348" y="17806"/>
                </a:lnTo>
                <a:close/>
              </a:path>
              <a:path fill="darken" w="24683" h="21600">
                <a:moveTo>
                  <a:pt x="5335" y="3794"/>
                </a:moveTo>
                <a:lnTo>
                  <a:pt x="6997" y="3794"/>
                </a:lnTo>
                <a:lnTo>
                  <a:pt x="6997" y="17806"/>
                </a:lnTo>
                <a:lnTo>
                  <a:pt x="53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ұл суреттегі ғимараттын атауы.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бъект указанный на рисун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дж-Мах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73915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4853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13008" y="3794"/>
                </a:lnTo>
                <a:lnTo>
                  <a:pt x="13008" y="17806"/>
                </a:lnTo>
                <a:lnTo>
                  <a:pt x="1134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Рисунок 5" descr="C:\Documents and Settings\Администратор\Мои документы\Мавзолей Тадж-Махал.jpg"/>
          <p:cNvPicPr/>
          <p:nvPr/>
        </p:nvPicPr>
        <p:blipFill>
          <a:blip r:embed="rId1"/>
          <a:stretch/>
        </p:blipFill>
        <p:spPr>
          <a:xfrm>
            <a:off x="3124080" y="2286000"/>
            <a:ext cx="5639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ылы қандай жиналыста президенттын басқару уақытты ұзартыл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м были продлены полномочия президента РК в 1995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лықаралық/Общенародным референдум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7543800" y="563868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11798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9953" y="3794"/>
                </a:lnTo>
                <a:lnTo>
                  <a:pt x="9953" y="17806"/>
                </a:lnTo>
                <a:lnTo>
                  <a:pt x="82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kk-KZ" sz="4400" spc="-1" strike="noStrike">
                <a:solidFill>
                  <a:srgbClr val="e5e5ff"/>
                </a:solidFill>
                <a:latin typeface="Garamond"/>
              </a:rPr>
              <a:t>Қазақстан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тарихы/История Казахстана 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Верный бекнісі қазақтың қай қаласында салынды/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854г. Отряд Перемышельского заложил фундамент укрепления-Верное, на месте казахского посел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ма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620120" y="55627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9793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  <a:path fill="darken" w="26584" h="21600">
                <a:moveTo>
                  <a:pt x="6286" y="3794"/>
                </a:moveTo>
                <a:lnTo>
                  <a:pt x="7948" y="3794"/>
                </a:lnTo>
                <a:lnTo>
                  <a:pt x="7948" y="17806"/>
                </a:lnTo>
                <a:lnTo>
                  <a:pt x="628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ШБ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Ұ/ШОС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2001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772400" y="54864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8129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6284" y="3794"/>
                </a:lnTo>
                <a:lnTo>
                  <a:pt x="6284" y="17806"/>
                </a:lnTo>
                <a:lnTo>
                  <a:pt x="462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гадки на логи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но длиннее всего на свете - и короче. Быстрее всего - и медленнее. Самое дробное - и самое неразрывное. Его меньше всего ценят, но больше всего сожалеют о его отсутствии. Без него ничего не может быть сделано. Когда его мало, оно пожирает всех и вся без следа, а когда много - дает возможность вздохнуть спокойно. Что это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нужно делать, когда видишь зеленого человеч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ое слово начинается с трех букв "Г" и заканчивается тремя буквами "Я"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и три телезвезды хорошо известны каждому из нас. Блондина зовут Степан, шатена зовут Филипп. А как зовут лысого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нельзя съесть на завтрак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дит девушка, а вы не можете сесть на ее место, даже если она встанет и уйдет. Где она сиди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вве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ЖЭС/НЭП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1921г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7467480" y="57150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2" h="21600">
                <a:moveTo>
                  <a:pt x="12212" y="10800"/>
                </a:moveTo>
                <a:lnTo>
                  <a:pt x="22717" y="3794"/>
                </a:lnTo>
                <a:lnTo>
                  <a:pt x="22717" y="17806"/>
                </a:lnTo>
                <a:close/>
              </a:path>
              <a:path fill="darken" w="31422" h="21600">
                <a:moveTo>
                  <a:pt x="8704" y="3794"/>
                </a:moveTo>
                <a:lnTo>
                  <a:pt x="10367" y="3794"/>
                </a:lnTo>
                <a:lnTo>
                  <a:pt x="10367" y="17806"/>
                </a:lnTo>
                <a:lnTo>
                  <a:pt x="870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БҰҰ/ООН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1945 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848720" y="56386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ТМД/СН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1941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467480" y="55627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12699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10854" y="3794"/>
                </a:lnTo>
                <a:lnTo>
                  <a:pt x="10854" y="17806"/>
                </a:lnTo>
                <a:lnTo>
                  <a:pt x="91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4-10-19T17:27:18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