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31D-4596-40CC-B3E2-5BA88EAA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094-8558-48BD-BF6E-B67143C7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D66-5210-46C0-A77C-99F735C3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873-37CA-4FE1-8ED5-E1F320FA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A0DE-63D4-407C-9E71-42B0E50C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5E19-B0FB-4AD0-9134-C1050EB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1D12-B945-4C2B-8821-B8CE4425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96BA-6805-438A-91AF-25A4AAAF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00B5-BD7C-424A-A45B-BE0B996C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7E01-CEC9-4FE3-A576-8EF63E0F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5A52-D790-4F73-99DD-D06CA801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9CC-C877-4C3C-8EB6-B25668F2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B8D-F605-4B25-8EBD-EF6EF973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EFC5-2110-42F7-94F5-F5951411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6419-244B-420C-9940-551AECA8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D8F7-0886-461B-B0CF-CA34EE7A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2918-B039-4472-9651-EF660E1F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A60-6864-457A-9E07-F75BFC9E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4C3-9DD8-4C53-93BF-B4CDBD72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31B-8064-4743-B61B-B5D1C6D2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0FB-67DE-4B2E-8A2A-11FA2EFB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179-C6EC-4F81-9225-8E7D704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CBD-AA8D-4ABD-9500-CFED615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BDD-4B44-4032-98AB-2C4C4C5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D65F14-E4AF-4AB8-88C7-9B7BDD29A45A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82EAED-64E6-4484-B71E-718C1876A093}" type="slidenum">
              <a:rPr b="0" lang="ru-RU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9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vremyaitb.ru/d/211874/d/193226606_6.jpg" TargetMode="External"/><Relationship Id="rId3" Type="http://schemas.openxmlformats.org/officeDocument/2006/relationships/hyperlink" Target="http://www.klyaksa.net/htm/pc_and_health/images/worker_place.jpg" TargetMode="External"/><Relationship Id="rId4" Type="http://schemas.openxmlformats.org/officeDocument/2006/relationships/hyperlink" Target="http://www.klyaksa.net/htm/pc_and_health/images/worker_place_displey.jpg" TargetMode="External"/><Relationship Id="rId5" Type="http://schemas.openxmlformats.org/officeDocument/2006/relationships/hyperlink" Target="http://images.myshared.ru/660940/slide_7.jpg" TargetMode="External"/><Relationship Id="rId6" Type="http://schemas.openxmlformats.org/officeDocument/2006/relationships/hyperlink" Target="http://images.myshared.ru/660940/slide_7.jpg" TargetMode="Externa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zrenielib.ru/tw_refs/6/5978/5978_html_m4e0aab22.png" TargetMode="External"/><Relationship Id="rId3" Type="http://schemas.openxmlformats.org/officeDocument/2006/relationships/hyperlink" Target="http://zrenielib.ru/tw_refs/6/5978/5978_html_m4e0aab22.png" TargetMode="External"/><Relationship Id="rId4" Type="http://schemas.openxmlformats.org/officeDocument/2006/relationships/hyperlink" Target="http://zrenielib.ru/tw_refs/6/5978/5978_html_m4e0aab22.png" TargetMode="External"/><Relationship Id="rId5" Type="http://schemas.openxmlformats.org/officeDocument/2006/relationships/hyperlink" Target="http://zrenielib.ru/tw_refs/6/5978/5978_html_m4e0aab22.png" TargetMode="External"/><Relationship Id="rId6" Type="http://schemas.openxmlformats.org/officeDocument/2006/relationships/hyperlink" Target="http://zrenielib.ru/tw_refs/6/5978/5978_html_m4e0aab22.png" TargetMode="External"/><Relationship Id="rId7" Type="http://schemas.openxmlformats.org/officeDocument/2006/relationships/hyperlink" Target="http://www.pressa.tv/uploads/posts/2012-07/1342071185_pomosch.png" TargetMode="External"/><Relationship Id="rId8" Type="http://schemas.openxmlformats.org/officeDocument/2006/relationships/hyperlink" Target="http://photoshopia.su/uploads/posts/2011-09/h6luwij5ig.jpg" TargetMode="External"/><Relationship Id="rId9" Type="http://schemas.openxmlformats.org/officeDocument/2006/relationships/hyperlink" Target="http://elib.org.ua/medecine/special/ihelpers/pdnp-images/big/image009.jpg" TargetMode="External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1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slide" Target="slide10.xml"/><Relationship Id="rId8" Type="http://schemas.openxmlformats.org/officeDocument/2006/relationships/image" Target="../media/image5.jpeg"/><Relationship Id="rId9" Type="http://schemas.openxmlformats.org/officeDocument/2006/relationships/slide" Target="slide6.xml"/><Relationship Id="rId10" Type="http://schemas.openxmlformats.org/officeDocument/2006/relationships/image" Target="../media/image6.jpeg"/><Relationship Id="rId11" Type="http://schemas.openxmlformats.org/officeDocument/2006/relationships/slide" Target="slide9.xml"/><Relationship Id="rId12" Type="http://schemas.openxmlformats.org/officeDocument/2006/relationships/image" Target="../media/image7.jpeg"/><Relationship Id="rId13" Type="http://schemas.openxmlformats.org/officeDocument/2006/relationships/slide" Target="slide10.xml"/><Relationship Id="rId14" Type="http://schemas.openxmlformats.org/officeDocument/2006/relationships/image" Target="../media/image8.jpeg"/><Relationship Id="rId15" Type="http://schemas.openxmlformats.org/officeDocument/2006/relationships/slide" Target="slide12.xml"/><Relationship Id="rId16" Type="http://schemas.openxmlformats.org/officeDocument/2006/relationships/image" Target="../media/image9.jpeg"/><Relationship Id="rId17" Type="http://schemas.openxmlformats.org/officeDocument/2006/relationships/slide" Target="slide14.xml"/><Relationship Id="rId18" Type="http://schemas.openxmlformats.org/officeDocument/2006/relationships/image" Target="../media/image10.jpeg"/><Relationship Id="rId19" Type="http://schemas.openxmlformats.org/officeDocument/2006/relationships/slide" Target="slide8.xml"/><Relationship Id="rId20" Type="http://schemas.openxmlformats.org/officeDocument/2006/relationships/slide" Target="slide7.xml"/><Relationship Id="rId21" Type="http://schemas.openxmlformats.org/officeDocument/2006/relationships/slide" Target="slide9.xml"/><Relationship Id="rId22" Type="http://schemas.openxmlformats.org/officeDocument/2006/relationships/slide" Target="slide3.xml"/><Relationship Id="rId23" Type="http://schemas.openxmlformats.org/officeDocument/2006/relationships/slide" Target="slide3.xml"/><Relationship Id="rId2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"/>
          <p:cNvSpPr/>
          <p:nvPr/>
        </p:nvSpPr>
        <p:spPr>
          <a:xfrm>
            <a:off x="285840" y="285840"/>
            <a:ext cx="8500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Техника безопасности и организация рабочего места в кабинете инфор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unycomp.chat.ru/img/acer_aspire_t310.jpg"/>
          <p:cNvPicPr/>
          <p:nvPr/>
        </p:nvPicPr>
        <p:blipFill>
          <a:blip r:embed="rId1"/>
          <a:stretch/>
        </p:blipFill>
        <p:spPr>
          <a:xfrm>
            <a:off x="5429160" y="3838680"/>
            <a:ext cx="3524040" cy="3018960"/>
          </a:xfrm>
          <a:prstGeom prst="rect">
            <a:avLst/>
          </a:prstGeom>
          <a:ln w="9525">
            <a:noFill/>
          </a:ln>
        </p:spPr>
      </p:pic>
      <p:sp>
        <p:nvSpPr>
          <p:cNvPr id="117" name="TextBox 3"/>
          <p:cNvSpPr/>
          <p:nvPr/>
        </p:nvSpPr>
        <p:spPr>
          <a:xfrm>
            <a:off x="428760" y="3214800"/>
            <a:ext cx="471456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Казахстан, Павлодарская область, г.Экибасту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«КГУ СОШ№9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Суворова К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3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8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3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8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85840" y="4965840"/>
            <a:ext cx="492876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указанию преподава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лючить аппа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357120" y="293040"/>
            <a:ext cx="842940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после окончания работы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3"/>
          <a:stretch/>
        </p:blipFill>
        <p:spPr>
          <a:xfrm>
            <a:off x="857160" y="1963080"/>
            <a:ext cx="2642760" cy="308484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3" descr="Computer Lab"/>
          <p:cNvPicPr/>
          <p:nvPr/>
        </p:nvPicPr>
        <p:blipFill>
          <a:blip r:embed="rId4"/>
          <a:stretch/>
        </p:blipFill>
        <p:spPr>
          <a:xfrm>
            <a:off x="5000760" y="2000160"/>
            <a:ext cx="3870360" cy="2838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5643720" y="4965840"/>
            <a:ext cx="314280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 Навести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 рабочем 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571320" y="290160"/>
            <a:ext cx="792936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Разм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500040" y="1143000"/>
            <a:ext cx="78577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«Кто быстрее ответит на вопрос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числите правила ТБ при работе с вычислительной техн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числите правила поведения в компьютер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кие опасные моменты могут возникнуть в процесс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чему предъявляют требования в правилах «Организация рабочего мес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право 5">
            <a:hlinkClick r:id="rId1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лево 7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642960" y="214200"/>
            <a:ext cx="8214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риёмы оказания первой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285840" y="1386720"/>
            <a:ext cx="8643600" cy="48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Оказание помощи при поражении электрическим током </a:t>
            </a: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тключить ток (выключать тумблер на распределительном щит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свободить пострадавшего от воздействия тока (провода), используя подручные, средства, которые не являются проводниками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Осмотреть пострадавшего и оказать ему помощь в зависимости от тяжести по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Вызвать врача (из школьного медпункта, «скорую помощь» по телефону 103 или из ближайшего лечебного учреждения)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ea typeface="Calibri"/>
                <a:hlinkClick r:id="rId1" action="ppaction://hlinksldjump"/>
              </a:rPr>
              <a:t>Рисунок 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право 6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лево 7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4214880" y="2394000"/>
            <a:ext cx="464328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. Освобождение от 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ического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3"/>
          <p:cNvSpPr/>
          <p:nvPr/>
        </p:nvSpPr>
        <p:spPr>
          <a:xfrm>
            <a:off x="3748680" y="6000840"/>
            <a:ext cx="133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исунок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Первая помощь лицам, пострадавшим от электрического тока I. Общие положения"/>
          <p:cNvPicPr/>
          <p:nvPr/>
        </p:nvPicPr>
        <p:blipFill>
          <a:blip r:embed="rId1"/>
          <a:stretch/>
        </p:blipFill>
        <p:spPr>
          <a:xfrm>
            <a:off x="428760" y="571320"/>
            <a:ext cx="3494880" cy="2571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Освобождение от действия электрического тока"/>
          <p:cNvPicPr/>
          <p:nvPr/>
        </p:nvPicPr>
        <p:blipFill>
          <a:blip r:embed="rId2"/>
          <a:stretch/>
        </p:blipFill>
        <p:spPr>
          <a:xfrm>
            <a:off x="5072040" y="357120"/>
            <a:ext cx="3071520" cy="209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Оказание первой помощи"/>
          <p:cNvPicPr/>
          <p:nvPr/>
        </p:nvPicPr>
        <p:blipFill>
          <a:blip r:embed="rId3"/>
          <a:stretch/>
        </p:blipFill>
        <p:spPr>
          <a:xfrm>
            <a:off x="1071360" y="3286080"/>
            <a:ext cx="2142720" cy="2142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285840" y="5433840"/>
            <a:ext cx="36428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Оказ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кафе &quot; Копипаст.ру"/>
          <p:cNvPicPr/>
          <p:nvPr/>
        </p:nvPicPr>
        <p:blipFill>
          <a:blip r:embed="rId4"/>
          <a:stretch/>
        </p:blipFill>
        <p:spPr>
          <a:xfrm>
            <a:off x="5143680" y="3429000"/>
            <a:ext cx="3085200" cy="2228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5143680" y="5648400"/>
            <a:ext cx="34286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360" indent="-36036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.Вызвать врача и скорую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трелка вправо 10">
            <a:hlinkClick r:id="rId5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трелка влево 11">
            <a:hlinkClick r:id="rId6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7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142920" y="218520"/>
            <a:ext cx="900072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жог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428760" y="5078520"/>
            <a:ext cx="828648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 из школьного медпункта, «скорую помощь» по телефону 103 или из ближайшего лечебного учреждения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5786280" cy="3923640"/>
          </a:xfrm>
          <a:prstGeom prst="rect">
            <a:avLst/>
          </a:prstGeom>
          <a:ln w="9525">
            <a:noFill/>
          </a:ln>
        </p:spPr>
      </p:pic>
      <p:sp>
        <p:nvSpPr>
          <p:cNvPr id="193" name="Стрелка вправо 5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лево 6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571320" y="36432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бмо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428760" y="1756440"/>
            <a:ext cx="828648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ить пострадавшей на ровную поверхность на спину, повернув его голову на 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из школьно медпункта, «скорую помощь» по телефону 103 или из  ближайшего лечебн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6715080" y="3786120"/>
            <a:ext cx="2184840" cy="2517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98" name="Стрелка вправо 5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лево 6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571320" y="36432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Оказание помощи при остановке дых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28760" y="1736640"/>
            <a:ext cx="8286480" cy="343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рить положение языка во рту, если он запал - руками вернуть язык в нормальное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звать врача (из школьного медпункта, «скорую помощь» по телефону 103 или из ближайшего лечебного учреж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лать искусственное дыхание (рот в рот), (рот в нос) до восстановления дыхания или прибытия врачей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Рисунок 4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лево 3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трелка вправо 5">
            <a:hlinkClick r:id="rId4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00040" y="221400"/>
            <a:ext cx="8072280" cy="130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кусственное дыхание «Рот в рот», «Рот в нос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"/>
          <p:cNvSpPr/>
          <p:nvPr/>
        </p:nvSpPr>
        <p:spPr>
          <a:xfrm>
            <a:off x="214200" y="4185360"/>
            <a:ext cx="400032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дыхайте по 10 раз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2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днимите подборо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ержите голову запрокинуто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0234344889"/>
          <p:cNvPicPr/>
          <p:nvPr/>
        </p:nvPicPr>
        <p:blipFill>
          <a:blip r:embed="rId1"/>
          <a:stretch/>
        </p:blipFill>
        <p:spPr>
          <a:xfrm>
            <a:off x="714240" y="1571760"/>
            <a:ext cx="2857320" cy="2633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f_clip_image002"/>
          <p:cNvPicPr/>
          <p:nvPr/>
        </p:nvPicPr>
        <p:blipFill>
          <a:blip r:embed="rId2"/>
          <a:stretch/>
        </p:blipFill>
        <p:spPr>
          <a:xfrm>
            <a:off x="5214960" y="1643040"/>
            <a:ext cx="2877840" cy="2784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4357800" y="4345920"/>
            <a:ext cx="4928760" cy="206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т пострадавшего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тно обхватите губ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с и д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 startAt="3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кройте ему рот для выдо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000000"/>
              </a:buClr>
              <a:buFont typeface="StarSymbol"/>
              <a:buAutoNum type="arabicPeriod" startAt="4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должайте эту процед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3893400" y="6357960"/>
            <a:ext cx="133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исунок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трелка вправо 9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лево 10">
            <a:hlinkClick r:id="rId4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357120" y="219240"/>
            <a:ext cx="8357760" cy="97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право 7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14200" y="928800"/>
            <a:ext cx="5000400" cy="52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ты хороший мальчик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То не суй в розетку пальчик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Проводами не играй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известно есть ли р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Если где- то заискрит, 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Или что-нибудь дымит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ремя попусту не трать -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Нужно взрослого позвать.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едь из искры знаем сами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Возгореться может плам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Бережливым быть умей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И по клавишам не бей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Там учтите этот факт,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Georgia"/>
              </a:rPr>
              <a:t>Электрический контак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643280" y="1000080"/>
            <a:ext cx="4285800" cy="2040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Мышка может другом стать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Коль ее не обижать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Дрессируй ее умело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крути в руках без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Computer Lab"/>
          <p:cNvPicPr/>
          <p:nvPr/>
        </p:nvPicPr>
        <p:blipFill>
          <a:blip r:embed="rId4"/>
          <a:stretch/>
        </p:blipFill>
        <p:spPr>
          <a:xfrm flipH="1">
            <a:off x="4858200" y="3357720"/>
            <a:ext cx="387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право 7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>
            <a:off x="357120" y="500040"/>
            <a:ext cx="46432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вводишь ты "ответ"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а компьютер скажет "нет"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по дисплею не стучи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лучше правила у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Если сбой дает машина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терпение Вам необходимо,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бывает без проблем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Даже с умной ЭВ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Остальное всем известно: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Чтоб не вскакивали с места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кричали, не толкались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За компьютеры не др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куртках шубах и пальто,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не приходит к нам ник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4857840" y="500040"/>
            <a:ext cx="40716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грязной обуви, друзья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В кабинете бы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Разрешать работу строго 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с разрешения педагога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И учтите: Вы в ответе,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за порядок в кабинет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omputer Lab"/>
          <p:cNvPicPr/>
          <p:nvPr/>
        </p:nvPicPr>
        <p:blipFill>
          <a:blip r:embed="rId3"/>
          <a:stretch/>
        </p:blipFill>
        <p:spPr>
          <a:xfrm flipH="1">
            <a:off x="4858200" y="3357720"/>
            <a:ext cx="387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571320" y="500040"/>
            <a:ext cx="1999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85840" y="1297800"/>
            <a:ext cx="8643600" cy="228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Образовательная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знакомить учащихся с правилами поведения в кабинете ВТ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Воспитательная: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оспитывает у учащихся умение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008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8000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развить правильное поведение в кабинете В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357120" y="222120"/>
            <a:ext cx="8357760" cy="1584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пользов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571320" y="1571760"/>
            <a:ext cx="814356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нформатика 7 кл. Атамура 2012 г. (Ермеков Н., Стифутина 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ремя работы на ПК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vremyaitb.ru/d/211874/d/193226606_6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ильная рабочая поза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http://www.klyaksa.net/htm/pc_and_health/images/worker_plac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http://www.klyaksa.net/htm/pc_and_health/images/worker_place_displey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Б после оканчания работы на ПК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/>
              </a:rPr>
              <a:t>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6"/>
              </a:rPr>
              <a:t>http://images.myshared.ru/660940/slide_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право 7">
            <a:hlinkClick r:id="rId7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Стрелка влево 5"/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428760" y="428760"/>
            <a:ext cx="821484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6. Приемы оказания первой медицинской помощ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himik-best.ru/pars_docs/refs/5/4400/4400_html_2f815df5.png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http://forca.ru/images/instrukcii/ot/raznoe/pervaya-pomosch-74.jpg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/>
              </a:rPr>
              <a:t> ,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6"/>
              </a:rPr>
              <a:t>http://zrenielib.ru/tw_refs/6/5978/5978_html_m4e0aab22.png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,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7"/>
              </a:rPr>
              <a:t>http://www.pressa.tv/uploads/posts/2012-7/1342071185_pomosch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7. Скорая помощь и медсестра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8"/>
              </a:rPr>
              <a:t>http://photoshopia.su/uploads/posts/2011-09/h6luwij5ig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8. Искуственное дыхание : </a:t>
            </a: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9"/>
              </a:rPr>
              <a:t>http://elib.org.ua/medecine/special/ihelpers/pdnp-images/big/image00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. Заключение: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school10-rasskazovo.narod.ru/INFO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357120" y="571320"/>
            <a:ext cx="8530920" cy="5714640"/>
          </a:xfrm>
          <a:prstGeom prst="rect">
            <a:avLst/>
          </a:prstGeom>
          <a:ln w="9525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7082640" y="214200"/>
            <a:ext cx="186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ложе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лево 4">
            <a:hlinkClick r:id="rId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42960" y="285840"/>
            <a:ext cx="392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500040" y="1577880"/>
            <a:ext cx="8072280" cy="5083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" action="ppaction://hlinksldjump"/>
              </a:rPr>
              <a:t>Общие требования техник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2" action="ppaction://hlinksldjump"/>
              </a:rPr>
              <a:t>ТБ перед началом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3" action="ppaction://hlinksldjump"/>
              </a:rPr>
              <a:t>ТБ во время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4" action="ppaction://hlinksldjump"/>
              </a:rPr>
              <a:t>ТБ в аварийн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5" action="ppaction://hlinksldjump"/>
              </a:rPr>
              <a:t>ТБ после окончании работы на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6" action="ppaction://hlinksldjump"/>
              </a:rPr>
              <a:t>Приемы оказания перв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7" action="ppaction://hlinksldjump"/>
              </a:rPr>
              <a:t>Оказание помощи при ожо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8" action="ppaction://hlinksldjump"/>
              </a:rPr>
              <a:t>Оказание помощи при обмо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9" action="ppaction://hlinksldjump"/>
              </a:rPr>
              <a:t>Оказание помощи при остановке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0" action="ppaction://hlinksldjump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1" action="ppaction://hlinksldjump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Georgia"/>
              <a:buAutoNum type="arabicPeriod"/>
            </a:pPr>
            <a:r>
              <a:rPr b="0" lang="ru-RU" sz="2400" spc="-1" strike="noStrike" u="sng">
                <a:solidFill>
                  <a:srgbClr val="00aee5"/>
                </a:solidFill>
                <a:uFillTx/>
                <a:latin typeface="Georgia"/>
                <a:hlinkClick r:id="rId12" action="ppaction://hlinksldjump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428760" y="1004760"/>
            <a:ext cx="7929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Правила по технике безопасности можно разделить на следующие пун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285840" y="151200"/>
            <a:ext cx="8572320" cy="6672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Общие требования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трогать провода, вилки, розетки, штекеры, передвигать без разрешения учителя оборуд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входить и выходить из класса без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без разрешения учителя ходить по кл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работать на ПК мокрыми руками и в мокрой одеж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работать на ПК, имеющих нарушение целостности корпуса или пр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ещается класть на стол рядом с ПК портфели, сумки, книги. На столе должны лежать только ручки и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льзя ничего класть на клави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компьютерном классе запрещается бегать, играть, отвлекать товарищей, заниматься посторонней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лево 2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3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57120" y="1488960"/>
            <a:ext cx="8572320" cy="270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выключенном питании осмотреть ПК и убедиться, что нет нарушения изоляции и целостности корпуса ПК и пров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тить внимание, не свешиваются ли провода так, что возможно их задеть во врем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делать отметку в Журнале учета использования рабочего места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см. приложение 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214200" y="361440"/>
            <a:ext cx="86436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перед началом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4">
            <a:hlinkClick r:id="rId2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лево 5">
            <a:hlinkClick r:id="rId3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4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9143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ТБ во время работы на П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85840" y="5072040"/>
            <a:ext cx="1213920" cy="107136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85840" y="364320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85840" y="221472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285840" y="78588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785960" y="785880"/>
            <a:ext cx="12128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286080" y="785880"/>
            <a:ext cx="12128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7429680" y="785880"/>
            <a:ext cx="1213920" cy="115380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072120" y="785880"/>
            <a:ext cx="114264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4643280" y="785880"/>
            <a:ext cx="1213920" cy="1142640"/>
          </a:xfrm>
          <a:prstGeom prst="rect">
            <a:avLst/>
          </a:prstGeom>
          <a:solidFill>
            <a:srgbClr val="ffcccc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17" descr="9">
            <a:hlinkClick r:id="rId1" action="ppaction://hlinksldjump"/>
          </p:cNvPr>
          <p:cNvPicPr/>
          <p:nvPr/>
        </p:nvPicPr>
        <p:blipFill>
          <a:blip r:embed="rId2"/>
          <a:srcRect l="2371" t="0" r="0" b="0"/>
          <a:stretch/>
        </p:blipFill>
        <p:spPr>
          <a:xfrm>
            <a:off x="7572240" y="857160"/>
            <a:ext cx="999720" cy="1018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8760" y="5072040"/>
            <a:ext cx="928440" cy="96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8760" y="3714840"/>
            <a:ext cx="928440" cy="99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8760" y="2286000"/>
            <a:ext cx="999720" cy="1018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28760" y="857160"/>
            <a:ext cx="944640" cy="99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928880" y="857160"/>
            <a:ext cx="910800" cy="928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429000" y="857160"/>
            <a:ext cx="888120" cy="928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714920" y="857160"/>
            <a:ext cx="1001160" cy="99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8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215040" y="857160"/>
            <a:ext cx="928440" cy="988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6"/>
          <p:cNvSpPr/>
          <p:nvPr/>
        </p:nvSpPr>
        <p:spPr>
          <a:xfrm>
            <a:off x="1571760" y="2000160"/>
            <a:ext cx="7429320" cy="4848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ремя работы на ЭВМ необходимо соблюдать оптимальное расстояние глаз от экрана (60-70 см). Допустимое расстояние -50 см. (</a:t>
            </a: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9" action="ppaction://hlinksldjump"/>
              </a:rPr>
              <a:t>рисунок 1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случае возникновения зрительного напряжения или усталости можно, не вставая с места, выполнить несколько упражнений для снятия напряжения или усталости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( </a:t>
            </a:r>
            <a:r>
              <a:rPr b="0" lang="ru-RU" sz="2200" spc="-1" strike="noStrike" u="sng">
                <a:solidFill>
                  <a:srgbClr val="00a3d6"/>
                </a:solidFill>
                <a:uFillTx/>
                <a:latin typeface="Georgia"/>
                <a:hlinkClick r:id="rId20" action="ppaction://hlinksldjump"/>
              </a:rPr>
              <a:t>упражнения для глаз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щиеся должны знать приемы оказания первой медицинской помощи при электротравме, приемы работы с огнетушителем и приемы тушения пожара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28"/>
          <p:cNvSpPr txBox="1"/>
          <p:nvPr/>
        </p:nvSpPr>
        <p:spPr>
          <a:xfrm>
            <a:off x="1400040" y="6046920"/>
            <a:ext cx="502920" cy="6840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1" lang="ru-RU" sz="3600" spc="-1" strike="noStrike">
              <a:ln w="0">
                <a:noFill/>
              </a:ln>
              <a:solidFill>
                <a:srgbClr val="729fcf"/>
              </a:solidFill>
              <a:latin typeface="Arial Black"/>
            </a:endParaRPr>
          </a:p>
        </p:txBody>
      </p:sp>
      <p:sp>
        <p:nvSpPr>
          <p:cNvPr id="151" name="Стрелка вправо 23">
            <a:hlinkClick r:id="rId21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лево 24">
            <a:hlinkClick r:id="rId22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14200" y="1025640"/>
            <a:ext cx="8715240" cy="5832000"/>
          </a:xfrm>
          <a:prstGeom prst="rect">
            <a:avLst/>
          </a:prstGeom>
          <a:solidFill>
            <a:schemeClr val="bg1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3000"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008000"/>
                </a:solidFill>
                <a:latin typeface="Georgia"/>
              </a:rPr>
              <a:t>Упражнения выполняются сидя или стоя, отвернувшись от экрана при ритмичном дыхании, с максимальной амплитудой движения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моргать, на напрягая глазные мышцы, на счет 10-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 поворачивая головы(голова прямо), с закрытыми глазами посмотреть направо на счет 1-4, затем налево на счет 1-4 и прямо на счет 1-6. Поднять глаза вверх на счет 1-4, опустить вниз на счет 1-4 и перевести взгляд прямо на счет 1-6. Повторить 4-5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мотреть на указательный палец, удаленный от глаз на расстояние 25-зо см, на счет 1-4, затем перевести взор вдаль на счет 1-6. Повторить 4-5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Georgia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реднем темпе проделать 3-4 круговых движения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авую сторону, столько же в левую сторону, и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71280" y="290160"/>
            <a:ext cx="907236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Комплекс упражнения для гла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57120" y="290160"/>
            <a:ext cx="84294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Правильная рабочая по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664800" cy="4000320"/>
          </a:xfrm>
          <a:prstGeom prst="rect">
            <a:avLst/>
          </a:prstGeom>
          <a:ln w="9525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929120" y="1000080"/>
            <a:ext cx="3218760" cy="1856880"/>
          </a:xfrm>
          <a:prstGeom prst="rect">
            <a:avLst/>
          </a:prstGeom>
          <a:ln w="9525">
            <a:noFill/>
          </a:ln>
        </p:spPr>
      </p:pic>
      <p:sp>
        <p:nvSpPr>
          <p:cNvPr id="159" name="Прямоугольник 7"/>
          <p:cNvSpPr/>
          <p:nvPr/>
        </p:nvSpPr>
        <p:spPr>
          <a:xfrm>
            <a:off x="3929040" y="2857320"/>
            <a:ext cx="500040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6760" indent="-2667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нитор необходимо установить на такой высоте, чтобы центр экрана был на 15-20 см ниже уровня глаз, угол наклона до 1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кран монитора должен находиться от глаз пользователя на оптимальном расстоянии 60-70 см, но не ближе 50 см с учетом размеров алфавитно-цифровых знаков и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1289520" y="5357880"/>
            <a:ext cx="1719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исунок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0">
            <a:hlinkClick r:id="rId3" action="ppaction://hlinksldjump"/>
          </p:cNvPr>
          <p:cNvSpPr/>
          <p:nvPr/>
        </p:nvSpPr>
        <p:spPr>
          <a:xfrm>
            <a:off x="7572240" y="6286680"/>
            <a:ext cx="1428480" cy="570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cap="all">
                <a:solidFill>
                  <a:srgbClr val="cf5844"/>
                </a:solidFill>
                <a:latin typeface="Georgia"/>
              </a:rPr>
              <a:t>В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11">
            <a:hlinkClick r:id="rId4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5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214200" y="346320"/>
            <a:ext cx="8715240" cy="693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обнаружении дефектов ПК в процессе работы, появлении гари или необычных звуков необходимо немедленно прекратить работу на ПК, выключить аппаратуру и сообщить преподав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необходимости следует оказать помощь в тушении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и необходимости уметь оказать первую доврачебную помощь пострадавшим от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знать, что нельзя тушить пожар в компьютерном классе водой. Можно использовать песок или пенный огнетуш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обходимо знать, что если пострадавший находится под воздействием электротока, то его нельзя трогать голыми руками. Освободить пострадавшего можно, используя материалы, которые не являются проводника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Times New Roman"/>
              </a:rPr>
              <a:t>электрического т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214200" y="218520"/>
            <a:ext cx="8643600" cy="69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  <a:ea typeface="Calibri"/>
              </a:rPr>
              <a:t>ТБ в аварийных случа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лево 4">
            <a:hlinkClick r:id="rId1" action="ppaction://hlinksldjump"/>
          </p:cNvPr>
          <p:cNvSpPr/>
          <p:nvPr/>
        </p:nvSpPr>
        <p:spPr>
          <a:xfrm>
            <a:off x="142920" y="6286680"/>
            <a:ext cx="1428480" cy="570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>
            <a:solidFill>
              <a:srgbClr val="ffffff"/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>
                <a:rot lat="0" lon="0" rev="0"/>
              </a:camera>
              <a:lightRig dir="t" rig="contrasting">
                <a:rot lat="0" lon="0" rev="4500000"/>
              </a:lightRig>
            </a:scene3d>
            <a:sp3d contourW="6350" prstMaterial="metal">
              <a:bevelT prst="relaxedInset" w="127000" h="3175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 cap="all">
                <a:solidFill>
                  <a:schemeClr val="lt1"/>
                </a:solidFill>
                <a:uFillTx/>
                <a:latin typeface="Georgia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933</TotalTime>
  <Application>LibreOffice/7.4.7.2$Linux_X86_64 LibreOffice_project/40$Build-2</Application>
  <AppVersion>15.0000</AppVersion>
  <Words>1132</Words>
  <Paragraphs>1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05T17:15:21Z</dcterms:modified>
  <cp:revision>2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