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0C51-63B2-4B5D-98FA-974B7AED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0786-C0FE-40C7-A7B3-37AB4265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5F27-CDDD-491E-AA89-B9AD003D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BB50-989C-4DD0-B7A5-4D6E6C4E5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E62E-3AB1-4FF7-974D-D879A10B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87AE-F930-4935-9087-AFB4F724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6538-9AD8-4D9A-84B9-DF2893F8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8A93-0F15-4C82-851F-82E23296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6BA4-9770-449E-84EA-5F2A1BA1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D47B-018B-4488-A316-8C19270D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FDF3-DDDA-44E5-B697-29DDF6D3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3D71-A391-425F-8DC1-0B783488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E4E5-AB49-4EFB-9B48-248192B2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C1F9-6E25-4F0B-ABCC-534980ED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426C-298A-4CDF-BAD3-D96335DF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FF17-A875-44C3-99CD-E4354F0A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51CE-406D-409D-863B-FE67B807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4F31-B300-4CF4-9F24-1431276B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758F-3EB9-4042-A62E-F2CBD6D4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6AC4-EFC1-4A39-9483-2642C083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58F4-8592-4536-B71C-E6B45461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825F-B015-4991-AC2A-A55BD8F0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F5E2-9BE5-4454-8DA4-F6E8135C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09BE-059E-4E78-A542-99E70953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40CD-8D30-4C9B-BCCC-EE3A5A56ADD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D5B9-8E05-4017-89F4-C984B749E13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258920" y="0"/>
            <a:ext cx="64198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оверка таблицы умнож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50920" y="5084640"/>
            <a:ext cx="482436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зентацию подготовил М.С. Наумк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5280" y="5516640"/>
            <a:ext cx="266400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ченик 7Б клас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4000" y="5877000"/>
            <a:ext cx="44989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уководитель: Поспелова Г.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6308640"/>
            <a:ext cx="4103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БОУ "СОШ №20" г. Новомосковс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835280" y="620640"/>
            <a:ext cx="52578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осибо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а внимание !!!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1" name="">
            <a:hlinkClick r:id="" action="ppaction://hlinkshowjump?jump=endshow"/>
          </p:cNvPr>
          <p:cNvSpPr/>
          <p:nvPr/>
        </p:nvSpPr>
        <p:spPr>
          <a:xfrm>
            <a:off x="7956720" y="6165720"/>
            <a:ext cx="647640" cy="692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92280"/>
              <a:gd name="textAreaBottom" fmla="*/ 650520 h 692280"/>
            </a:gdLst>
            <a:ahLst/>
            <a:rect l="textAreaLeft" t="textAreaTop" r="textAreaRight" b="textAreaBottom"/>
            <a:pathLst>
              <a:path w="21600" h="23088">
                <a:moveTo>
                  <a:pt x="0" y="0"/>
                </a:moveTo>
                <a:lnTo>
                  <a:pt x="21600" y="0"/>
                </a:lnTo>
                <a:lnTo>
                  <a:pt x="21600" y="23088"/>
                </a:lnTo>
                <a:lnTo>
                  <a:pt x="0" y="23088"/>
                </a:lnTo>
                <a:close/>
              </a:path>
              <a:path fill="lightenLess" w="21600" h="23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88">
                <a:moveTo>
                  <a:pt x="21600" y="0"/>
                </a:moveTo>
                <a:lnTo>
                  <a:pt x="21600" y="23088"/>
                </a:lnTo>
                <a:lnTo>
                  <a:pt x="20200" y="21688"/>
                </a:lnTo>
                <a:lnTo>
                  <a:pt x="20200" y="1400"/>
                </a:lnTo>
                <a:close/>
              </a:path>
              <a:path fill="darkenLess" w="21600" h="23088">
                <a:moveTo>
                  <a:pt x="21600" y="23088"/>
                </a:moveTo>
                <a:lnTo>
                  <a:pt x="0" y="23088"/>
                </a:lnTo>
                <a:lnTo>
                  <a:pt x="1400" y="21688"/>
                </a:lnTo>
                <a:lnTo>
                  <a:pt x="20200" y="21688"/>
                </a:lnTo>
                <a:close/>
              </a:path>
              <a:path fill="lighten" w="21600" h="23088">
                <a:moveTo>
                  <a:pt x="0" y="23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88"/>
                </a:lnTo>
                <a:close/>
              </a:path>
              <a:path fill="darken" w="21600" h="23088">
                <a:moveTo>
                  <a:pt x="10800" y="4581"/>
                </a:moveTo>
                <a:lnTo>
                  <a:pt x="13376" y="7192"/>
                </a:lnTo>
                <a:lnTo>
                  <a:pt x="13376" y="5451"/>
                </a:lnTo>
                <a:lnTo>
                  <a:pt x="15152" y="5451"/>
                </a:lnTo>
                <a:lnTo>
                  <a:pt x="15152" y="8968"/>
                </a:lnTo>
                <a:lnTo>
                  <a:pt x="17763" y="11544"/>
                </a:lnTo>
                <a:lnTo>
                  <a:pt x="16109" y="11544"/>
                </a:lnTo>
                <a:lnTo>
                  <a:pt x="16109" y="18733"/>
                </a:lnTo>
                <a:lnTo>
                  <a:pt x="5491" y="18733"/>
                </a:lnTo>
                <a:lnTo>
                  <a:pt x="5491" y="11544"/>
                </a:lnTo>
                <a:lnTo>
                  <a:pt x="3837" y="11544"/>
                </a:lnTo>
                <a:close/>
              </a:path>
              <a:path fill="darkenLess" w="21600" h="23088">
                <a:moveTo>
                  <a:pt x="13376" y="7192"/>
                </a:moveTo>
                <a:lnTo>
                  <a:pt x="13376" y="5451"/>
                </a:lnTo>
                <a:lnTo>
                  <a:pt x="15152" y="5451"/>
                </a:lnTo>
                <a:lnTo>
                  <a:pt x="15152" y="8968"/>
                </a:lnTo>
                <a:close/>
              </a:path>
              <a:path fill="darkenLess" w="21600" h="23088">
                <a:moveTo>
                  <a:pt x="9877" y="15043"/>
                </a:moveTo>
                <a:lnTo>
                  <a:pt x="11723" y="15043"/>
                </a:lnTo>
                <a:lnTo>
                  <a:pt x="11723" y="18733"/>
                </a:lnTo>
                <a:lnTo>
                  <a:pt x="16109" y="18733"/>
                </a:lnTo>
                <a:lnTo>
                  <a:pt x="16109" y="11544"/>
                </a:lnTo>
                <a:lnTo>
                  <a:pt x="5491" y="11544"/>
                </a:lnTo>
                <a:lnTo>
                  <a:pt x="5491" y="18733"/>
                </a:lnTo>
                <a:lnTo>
                  <a:pt x="9877" y="18733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124000" y="260280"/>
            <a:ext cx="51627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верьте свои знан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блицы умножения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332000" y="1557360"/>
            <a:ext cx="6886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бирайте правильный отв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з 4-х предложенны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63640" y="3284640"/>
            <a:ext cx="5904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авильный отв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таётся на слайде,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правильны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чеза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348000" y="260280"/>
            <a:ext cx="2438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 x 6 = ?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50920" y="206064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9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411280" y="335772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5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940360" y="342900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6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956720" y="220500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7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2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419640" y="404640"/>
            <a:ext cx="2438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 x 8 = ?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4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484360" y="335772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8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227640" y="342900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8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88508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3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5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419640" y="404640"/>
            <a:ext cx="2438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9 : 7 = ?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484360" y="335772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227640" y="342900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88508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7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419640" y="404640"/>
            <a:ext cx="2438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1 : 9 = ?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836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484360" y="335772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227640" y="342900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88508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  <p:set>
                                      <p:cBhvr>
                                        <p:cTn id="8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419640" y="404640"/>
            <a:ext cx="2438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4 : 9 = ?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836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411280" y="328464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227640" y="342900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88508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5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a500"/>
                                      </p:to>
                                    </p:animClr>
                                    <p:set>
                                      <p:cBhvr>
                                        <p:cTn id="13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419640" y="404640"/>
            <a:ext cx="24382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 х 6 = ?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836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2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484360" y="335772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4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227640" y="3429000"/>
            <a:ext cx="685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2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885080" y="2276640"/>
            <a:ext cx="68580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5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5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5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5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328840" y="388800"/>
            <a:ext cx="4619520" cy="7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чники информации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7667640" y="6165720"/>
            <a:ext cx="1476360" cy="692280"/>
          </a:xfrm>
          <a:custGeom>
            <a:avLst/>
            <a:gdLst>
              <a:gd name="textAreaLeft" fmla="*/ 44640 w 1476360"/>
              <a:gd name="textAreaRight" fmla="*/ 1431720 w 1476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6052" h="21600">
                <a:moveTo>
                  <a:pt x="0" y="0"/>
                </a:moveTo>
                <a:lnTo>
                  <a:pt x="46052" y="0"/>
                </a:lnTo>
                <a:lnTo>
                  <a:pt x="46052" y="21600"/>
                </a:lnTo>
                <a:lnTo>
                  <a:pt x="0" y="21600"/>
                </a:lnTo>
                <a:close/>
              </a:path>
              <a:path fill="lightenLess" w="46052" h="21600">
                <a:moveTo>
                  <a:pt x="0" y="0"/>
                </a:moveTo>
                <a:lnTo>
                  <a:pt x="46052" y="0"/>
                </a:lnTo>
                <a:lnTo>
                  <a:pt x="44652" y="1400"/>
                </a:lnTo>
                <a:lnTo>
                  <a:pt x="1400" y="1400"/>
                </a:lnTo>
                <a:close/>
              </a:path>
              <a:path fill="darken" w="46052" h="21600">
                <a:moveTo>
                  <a:pt x="46052" y="0"/>
                </a:moveTo>
                <a:lnTo>
                  <a:pt x="46052" y="21600"/>
                </a:lnTo>
                <a:lnTo>
                  <a:pt x="44652" y="20200"/>
                </a:lnTo>
                <a:lnTo>
                  <a:pt x="44652" y="1400"/>
                </a:lnTo>
                <a:close/>
              </a:path>
              <a:path fill="darkenLess" w="46052" h="21600">
                <a:moveTo>
                  <a:pt x="4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52" y="20200"/>
                </a:lnTo>
                <a:close/>
              </a:path>
              <a:path fill="lighten" w="4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52" h="21600">
                <a:moveTo>
                  <a:pt x="16019" y="3794"/>
                </a:moveTo>
                <a:lnTo>
                  <a:pt x="30032" y="10800"/>
                </a:lnTo>
                <a:lnTo>
                  <a:pt x="1601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119700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 сайта «http://nashol.com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nashol.com/2013091473519/uchim-tablicu-umnojeniya-aleksandrova-o-v-2012.html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21T11:33:19Z</dcterms:created>
  <dc:creator>ученик</dc:creator>
  <dc:description/>
  <dc:language>en-US</dc:language>
  <cp:lastModifiedBy>Галина</cp:lastModifiedBy>
  <dcterms:modified xsi:type="dcterms:W3CDTF">2018-10-28T12:50:46Z</dcterms:modified>
  <cp:revision>9</cp:revision>
  <dc:subject/>
  <dc:title>Слайд 1</dc:title>
</cp:coreProperties>
</file>