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7DC-2121-47F5-A8B5-BC56C023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FDA-0684-4BA6-A544-EF862DF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744-ADF5-4715-BB60-D3606305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089-1C54-4FD9-B121-9BE466D4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AAA2-996C-41B7-86DA-B5B85E40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8B8B-805A-428E-BF23-8D2492F6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99A4-A4AE-4212-8C1B-55E3962D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767-D259-4450-B3E0-44A0D64A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5D3A-7D71-4969-A177-9A50F62A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A848-14A4-4A22-A853-6FB3B040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2B99-4CE7-432A-B419-E4C5D7E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B954-E167-4334-836F-1E5911A6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FDB1-E0F8-490D-854A-BB7F03D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311C-B0FF-44E9-8EF0-B767D8CA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A7AE-AC86-4420-B8BF-33692DD2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734E-2280-4709-B570-24CE1ECC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1519-0057-4FEA-99E7-1E394125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285-1966-445E-9769-FC9B60D0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A83-71ED-48EF-B9C8-AB2836DF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FB5-4A2E-40B4-AE29-69A90B8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028-37E8-4A59-9952-5CF28882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4F6-3468-4695-A441-22640E4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EAFC-913F-4B5D-9F55-2944EB0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428-8ED3-48F6-8788-36C91F4F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5882-38B8-4CFD-8BB1-36D857E230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53B7-EA6D-40F1-8D5C-900C426268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920" y="549360"/>
            <a:ext cx="77425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Тест 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Verdana"/>
              </a:rPr>
              <a:t>"Безопасность в сети Интернет"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529240"/>
            <a:ext cx="74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аботу выполнил: Чистяков Илья, ученик 7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Руководитель: Поспелова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МБОУ «СОШ №20» г. Новомоск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Verdana"/>
              </a:rPr>
              <a:t>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2411280" y="3500280"/>
            <a:ext cx="5185080" cy="1081080"/>
          </a:xfrm>
          <a:custGeom>
            <a:avLst/>
            <a:gdLst>
              <a:gd name="textAreaLeft" fmla="*/ 69840 w 5185080"/>
              <a:gd name="textAreaRight" fmla="*/ 5115240 w 51850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103571" h="21600">
                <a:moveTo>
                  <a:pt x="0" y="0"/>
                </a:moveTo>
                <a:lnTo>
                  <a:pt x="103571" y="0"/>
                </a:lnTo>
                <a:lnTo>
                  <a:pt x="103571" y="21600"/>
                </a:lnTo>
                <a:lnTo>
                  <a:pt x="0" y="21600"/>
                </a:lnTo>
                <a:close/>
              </a:path>
              <a:path fill="lightenLess" w="103571" h="21600">
                <a:moveTo>
                  <a:pt x="0" y="0"/>
                </a:moveTo>
                <a:lnTo>
                  <a:pt x="103571" y="0"/>
                </a:lnTo>
                <a:lnTo>
                  <a:pt x="102171" y="1400"/>
                </a:lnTo>
                <a:lnTo>
                  <a:pt x="1400" y="1400"/>
                </a:lnTo>
                <a:close/>
              </a:path>
              <a:path fill="darken" w="103571" h="21600">
                <a:moveTo>
                  <a:pt x="103571" y="0"/>
                </a:moveTo>
                <a:lnTo>
                  <a:pt x="103571" y="21600"/>
                </a:lnTo>
                <a:lnTo>
                  <a:pt x="102171" y="20200"/>
                </a:lnTo>
                <a:lnTo>
                  <a:pt x="102171" y="1400"/>
                </a:lnTo>
                <a:close/>
              </a:path>
              <a:path fill="darkenLess" w="103571" h="21600">
                <a:moveTo>
                  <a:pt x="103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71" y="20200"/>
                </a:lnTo>
                <a:close/>
              </a:path>
              <a:path fill="lighten" w="103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3571" h="21600">
                <a:moveTo>
                  <a:pt x="44779" y="3794"/>
                </a:moveTo>
                <a:lnTo>
                  <a:pt x="58792" y="10800"/>
                </a:lnTo>
                <a:lnTo>
                  <a:pt x="44779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332000" y="260280"/>
            <a:ext cx="69120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Инструк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1914120"/>
            <a:ext cx="460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 слайде будет вопрос и несколько ответов. Один из них правильный, а все остальные неправильные. При нажатии на неправильный - ответ он исчезает, а при нажатии на правильный – остается на слай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4360" y="549360"/>
            <a:ext cx="813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Какие данные относятся к персональным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42100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421000"/>
            <a:ext cx="83534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крови,     отпечатки   пальцев,     медицинские диагноз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8920" y="3429000"/>
            <a:ext cx="6480000" cy="79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дения   об   образовании,     фотогра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50920" y="4437000"/>
            <a:ext cx="5315040" cy="709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    вышеперечисленно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Можешь ли ты контролировать размещение своих фотографий в сети Интернет,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если выкладываешь их в социальные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2924280"/>
            <a:ext cx="2448000" cy="187164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3640" y="2997360"/>
            <a:ext cx="3279960" cy="172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4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76536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Друг устраивает вечеринку в выходные, и все ваши друзья приглашены. Правильно ли будет разместить дату, время и место на сайте, потому что тогда у каждого будут детали этой вст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6000" y="2924280"/>
            <a:ext cx="216072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80000" y="2924280"/>
            <a:ext cx="2305080" cy="1512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1640" y="4017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Может ли твой друг заходить в твой аккаунт и отправлять от твоего имени со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26920" y="1844640"/>
            <a:ext cx="7810560" cy="13683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а,  потому  что  он  мой  друг,  и  я  ему  доверяю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95640" y="3789360"/>
            <a:ext cx="1500120" cy="10033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9fe0e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2090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При заполнении онлайн–формы для ввода данных, которые будут опубликованы, какие данные не стоит указывать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2492280"/>
            <a:ext cx="583380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нейм  или  псевдоним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948360" y="2637000"/>
            <a:ext cx="1582920" cy="1153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0" y="4508640"/>
            <a:ext cx="4038480" cy="7729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учишьс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3933720"/>
            <a:ext cx="4448160" cy="8748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дрес,  где ты живе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58920" y="1844640"/>
            <a:ext cx="6551640" cy="46087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Verdana"/>
              </a:rPr>
              <a:t>Всё)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7164360" y="5877000"/>
            <a:ext cx="1693800" cy="647640"/>
          </a:xfrm>
          <a:custGeom>
            <a:avLst/>
            <a:gdLst>
              <a:gd name="textAreaLeft" fmla="*/ 41760 w 1693800"/>
              <a:gd name="textAreaRight" fmla="*/ 1652040 w 16938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6472" h="21600">
                <a:moveTo>
                  <a:pt x="0" y="0"/>
                </a:moveTo>
                <a:lnTo>
                  <a:pt x="56472" y="0"/>
                </a:lnTo>
                <a:lnTo>
                  <a:pt x="56472" y="21600"/>
                </a:lnTo>
                <a:lnTo>
                  <a:pt x="0" y="21600"/>
                </a:lnTo>
                <a:close/>
              </a:path>
              <a:path fill="lightenLess" w="56472" h="21600">
                <a:moveTo>
                  <a:pt x="0" y="0"/>
                </a:moveTo>
                <a:lnTo>
                  <a:pt x="56472" y="0"/>
                </a:lnTo>
                <a:lnTo>
                  <a:pt x="55072" y="1400"/>
                </a:lnTo>
                <a:lnTo>
                  <a:pt x="1400" y="1400"/>
                </a:lnTo>
                <a:close/>
              </a:path>
              <a:path fill="darken" w="56472" h="21600">
                <a:moveTo>
                  <a:pt x="56472" y="0"/>
                </a:moveTo>
                <a:lnTo>
                  <a:pt x="56472" y="21600"/>
                </a:lnTo>
                <a:lnTo>
                  <a:pt x="55072" y="20200"/>
                </a:lnTo>
                <a:lnTo>
                  <a:pt x="55072" y="1400"/>
                </a:lnTo>
                <a:close/>
              </a:path>
              <a:path fill="darkenLess" w="56472" h="21600">
                <a:moveTo>
                  <a:pt x="56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72" y="20200"/>
                </a:lnTo>
                <a:close/>
              </a:path>
              <a:path fill="lighten" w="56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72" h="21600">
                <a:moveTo>
                  <a:pt x="21230" y="3794"/>
                </a:moveTo>
                <a:lnTo>
                  <a:pt x="35242" y="10800"/>
                </a:lnTo>
                <a:lnTo>
                  <a:pt x="21230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189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46924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алы сайта «Лига безопасного Интернета» - http://www.ligainternet.ru/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endshow"/>
          </p:cNvPr>
          <p:cNvSpPr/>
          <p:nvPr/>
        </p:nvSpPr>
        <p:spPr>
          <a:xfrm>
            <a:off x="7740720" y="5805360"/>
            <a:ext cx="934920" cy="790560"/>
          </a:xfrm>
          <a:custGeom>
            <a:avLst/>
            <a:gdLst>
              <a:gd name="textAreaLeft" fmla="*/ 51120 w 934920"/>
              <a:gd name="textAreaRight" fmla="*/ 883800 w 9349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42" h="21600">
                <a:moveTo>
                  <a:pt x="0" y="0"/>
                </a:moveTo>
                <a:lnTo>
                  <a:pt x="25542" y="0"/>
                </a:lnTo>
                <a:lnTo>
                  <a:pt x="25542" y="21600"/>
                </a:lnTo>
                <a:lnTo>
                  <a:pt x="0" y="21600"/>
                </a:lnTo>
                <a:close/>
              </a:path>
              <a:path fill="lightenLess" w="25542" h="21600">
                <a:moveTo>
                  <a:pt x="0" y="0"/>
                </a:moveTo>
                <a:lnTo>
                  <a:pt x="25542" y="0"/>
                </a:lnTo>
                <a:lnTo>
                  <a:pt x="24142" y="1400"/>
                </a:lnTo>
                <a:lnTo>
                  <a:pt x="1400" y="1400"/>
                </a:lnTo>
                <a:close/>
              </a:path>
              <a:path fill="darken" w="25542" h="21600">
                <a:moveTo>
                  <a:pt x="25542" y="0"/>
                </a:moveTo>
                <a:lnTo>
                  <a:pt x="25542" y="21600"/>
                </a:lnTo>
                <a:lnTo>
                  <a:pt x="24142" y="20200"/>
                </a:lnTo>
                <a:lnTo>
                  <a:pt x="24142" y="1400"/>
                </a:lnTo>
                <a:close/>
              </a:path>
              <a:path fill="darkenLess" w="25542" h="21600">
                <a:moveTo>
                  <a:pt x="25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2" y="20200"/>
                </a:lnTo>
                <a:close/>
              </a:path>
              <a:path fill="lighten" w="25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2" h="21600">
                <a:moveTo>
                  <a:pt x="12771" y="3837"/>
                </a:moveTo>
                <a:lnTo>
                  <a:pt x="15348" y="6448"/>
                </a:ln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lnTo>
                  <a:pt x="19734" y="10800"/>
                </a:lnTo>
                <a:lnTo>
                  <a:pt x="18080" y="10800"/>
                </a:lnTo>
                <a:lnTo>
                  <a:pt x="18080" y="17989"/>
                </a:lnTo>
                <a:lnTo>
                  <a:pt x="7462" y="17989"/>
                </a:lnTo>
                <a:lnTo>
                  <a:pt x="7462" y="10800"/>
                </a:lnTo>
                <a:lnTo>
                  <a:pt x="5808" y="10800"/>
                </a:lnTo>
                <a:close/>
              </a:path>
              <a:path fill="darkenLess" w="25542" h="21600">
                <a:moveTo>
                  <a:pt x="15348" y="6448"/>
                </a:moveTo>
                <a:lnTo>
                  <a:pt x="15348" y="4707"/>
                </a:lnTo>
                <a:lnTo>
                  <a:pt x="17123" y="4707"/>
                </a:lnTo>
                <a:lnTo>
                  <a:pt x="17123" y="8224"/>
                </a:lnTo>
                <a:close/>
              </a:path>
              <a:path fill="darkenLess" w="25542" h="21600">
                <a:moveTo>
                  <a:pt x="11849" y="14299"/>
                </a:moveTo>
                <a:lnTo>
                  <a:pt x="13694" y="14299"/>
                </a:lnTo>
                <a:lnTo>
                  <a:pt x="13694" y="17989"/>
                </a:lnTo>
                <a:lnTo>
                  <a:pt x="18080" y="17989"/>
                </a:lnTo>
                <a:lnTo>
                  <a:pt x="18080" y="10800"/>
                </a:lnTo>
                <a:lnTo>
                  <a:pt x="7462" y="10800"/>
                </a:lnTo>
                <a:lnTo>
                  <a:pt x="7462" y="17989"/>
                </a:lnTo>
                <a:lnTo>
                  <a:pt x="11849" y="17989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10:43:19Z</dcterms:created>
  <dc:creator>Ученик</dc:creator>
  <dc:description/>
  <dc:language>en-US</dc:language>
  <cp:lastModifiedBy>Галина</cp:lastModifiedBy>
  <dcterms:modified xsi:type="dcterms:W3CDTF">2018-10-28T12:38:24Z</dcterms:modified>
  <cp:revision>20</cp:revision>
  <dc:subject/>
  <dc:title>Слайд 1</dc:title>
</cp:coreProperties>
</file>