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45F-930E-4A02-99A3-5D38ED1A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AFE-7E7A-4EEF-BF41-5758259B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2FE-5C53-4365-99EF-024C9B3C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540-1AAA-45BB-88C8-EBBA73D8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5D0D-CF80-43EC-8674-2DEA87AF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C7D3-23C4-4517-8C9C-5F6A3B66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33F6-104E-4958-88EC-356291AC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B698-717D-4D59-841B-31295022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37F8-C36B-429B-B605-382F4127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AD4A-4472-44E8-B2ED-13F1800C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399D-E47E-4F65-8107-9437B1A0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CBA-8F8B-4C84-AF91-2D349896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5FC9-A978-4E62-85FC-D635C1F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8768-B083-4C3C-AE89-ABCA62E1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CC17-CBD6-4E84-BAC2-D9165A5A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E74A-8123-4378-A17C-EE457580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A820-FD9A-4BBA-B254-33D3D037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61C55-7778-4F3F-AF56-E0FDBDE6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9287-CB83-4B68-A16E-C40E6BA7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9771-E6AE-4B7E-B0AE-D4AAA723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0B17-815A-4F17-923B-6FED23A0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DEBE-56AE-4978-9382-851EF588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410-EBD0-4119-AFEB-0A4150CE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C0C7-5014-4009-A6E8-ECC21388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B1D3-6842-46CA-BFCA-4D0D96BA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74D2-78DB-41F3-B8D5-2A095BB7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49B6-7787-47CD-9368-5D49B924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E3FC-922D-4A65-AA8A-0A8A7CE7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0160-543D-4ED5-A29E-1A004275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6A53-E768-4244-9E82-8D310CFF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ED195-8F99-4EF9-88B4-130D9006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0516F-7900-4392-A7CA-838F23DA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4135-C33E-418F-A4D9-1C7F12E4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8ED-4852-401A-8C83-9EDC1961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E4D4-9CA8-4771-B16B-29084D92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512D-06C4-407C-9DF8-E357CCF6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20102-9B99-4E8B-B0B5-B5D25E0A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A356D-8055-4E2A-9285-57AD2326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C3800-BD77-4A5F-98C0-AD558AA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0A99-B917-4251-A1C8-1001B5F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874EB-5FC3-4182-A654-528EFF20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44530-5B94-4B84-B321-0FE59FEB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E37F4-24BD-4532-9D40-CACD6322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62D19-4DD7-4D33-90DD-3D055377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719-AC1C-4CAE-803D-0BE9054B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45295-73A3-4427-9F55-6C31ECF1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3306A-FD43-4465-BB19-CB0E8B12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D674E-5C5E-40F3-B6A5-A1D430C7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D813E-90C1-4434-B890-4A77E883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CA861-1E40-42C7-8FBA-3A68EFB4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6788E-C111-4E8E-A074-9BD33DC5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4248B-18F5-47E6-97DF-7955143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9B5E-90C5-45E5-B51D-525C5D3D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603A-2D29-4C2C-9D2C-8E1936C5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41F76-C5D6-4649-9575-3CA43978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680-D672-4271-B255-BC0D36D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F7213-21EC-4DAC-BDE5-CB2F1962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5D3-052F-4973-944C-638DF7FC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11E-7FA9-41B1-A4FB-9035E3F6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A66-8E8B-4954-A97A-E8BC2074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7DE6-C7C3-412F-AFBF-F7C23EEC462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164E-3B9B-4DD6-8400-519522644E00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6891-831C-4608-BD74-C92BEBC0140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76F2-81F3-4B93-BBFF-B27A5474B636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31E0-97EB-48B9-81D6-3A4339F8489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109440"/>
            <a:ext cx="479736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5" descr=""/>
          <p:cNvPicPr/>
          <p:nvPr/>
        </p:nvPicPr>
        <p:blipFill>
          <a:blip r:embed="rId3"/>
          <a:stretch/>
        </p:blipFill>
        <p:spPr>
          <a:xfrm>
            <a:off x="1403280" y="1341360"/>
            <a:ext cx="5533920" cy="11397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2"/>
          <p:cNvSpPr/>
          <p:nvPr/>
        </p:nvSpPr>
        <p:spPr>
          <a:xfrm>
            <a:off x="395280" y="5013360"/>
            <a:ext cx="496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Работу выполнил: Александр Поп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ченик 7Б клас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Руководитель: Поспелова Г.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МБОУ «СОШ №20» г. Новомосковс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817236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-3095280" y="3429000"/>
            <a:ext cx="652464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2268360" y="26028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яснение  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24000" y="2565360"/>
            <a:ext cx="756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иант ответа, который вы выбрали поменял цвет на крас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ыскочил, то он ошиб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иант ответа поменял цвет на зелёный, то он в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>
            <a:hlinkClick r:id="" action="ppaction://hlinkshowjump?jump=nextslide"/>
          </p:cNvPr>
          <p:cNvSpPr/>
          <p:nvPr/>
        </p:nvSpPr>
        <p:spPr>
          <a:xfrm>
            <a:off x="6804000" y="5734080"/>
            <a:ext cx="1370160" cy="1123920"/>
          </a:xfrm>
          <a:custGeom>
            <a:avLst/>
            <a:gdLst>
              <a:gd name="textAreaLeft" fmla="*/ 72720 w 1370160"/>
              <a:gd name="textAreaRight" fmla="*/ 1297440 w 13701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331" h="21600">
                <a:moveTo>
                  <a:pt x="0" y="0"/>
                </a:moveTo>
                <a:lnTo>
                  <a:pt x="26331" y="0"/>
                </a:lnTo>
                <a:lnTo>
                  <a:pt x="26331" y="21600"/>
                </a:lnTo>
                <a:lnTo>
                  <a:pt x="0" y="21600"/>
                </a:lnTo>
                <a:close/>
              </a:path>
              <a:path fill="lightenLess" w="26331" h="21600">
                <a:moveTo>
                  <a:pt x="0" y="0"/>
                </a:moveTo>
                <a:lnTo>
                  <a:pt x="26331" y="0"/>
                </a:lnTo>
                <a:lnTo>
                  <a:pt x="24931" y="1400"/>
                </a:lnTo>
                <a:lnTo>
                  <a:pt x="1400" y="1400"/>
                </a:lnTo>
                <a:close/>
              </a:path>
              <a:path fill="darken" w="26331" h="21600">
                <a:moveTo>
                  <a:pt x="26331" y="0"/>
                </a:moveTo>
                <a:lnTo>
                  <a:pt x="26331" y="21600"/>
                </a:lnTo>
                <a:lnTo>
                  <a:pt x="24931" y="20200"/>
                </a:lnTo>
                <a:lnTo>
                  <a:pt x="24931" y="1400"/>
                </a:lnTo>
                <a:close/>
              </a:path>
              <a:path fill="darkenLess" w="26331" h="21600">
                <a:moveTo>
                  <a:pt x="26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1" y="20200"/>
                </a:lnTo>
                <a:close/>
              </a:path>
              <a:path fill="lighten" w="26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31" h="21600">
                <a:moveTo>
                  <a:pt x="6159" y="3794"/>
                </a:moveTo>
                <a:lnTo>
                  <a:pt x="20172" y="10800"/>
                </a:lnTo>
                <a:lnTo>
                  <a:pt x="6159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1547640" y="189000"/>
            <a:ext cx="554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лько   будет   5  x  12 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684360" y="2852640"/>
            <a:ext cx="51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5</a:t>
            </a:r>
            <a:endParaRPr b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268360" y="41497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9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3851280" y="2781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0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084720" y="3860640"/>
            <a:ext cx="771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b13f9a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5</a:t>
            </a:r>
            <a:endParaRPr b="1" i="1" lang="en-US" sz="1800" spc="1" strike="noStrike">
              <a:ln w="9360">
                <a:solidFill>
                  <a:srgbClr val="b13f9a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AutoShape 9">
            <a:hlinkClick r:id="" action="ppaction://hlinkshowjump?jump=nextslide"/>
          </p:cNvPr>
          <p:cNvSpPr/>
          <p:nvPr/>
        </p:nvSpPr>
        <p:spPr>
          <a:xfrm>
            <a:off x="6804000" y="5805360"/>
            <a:ext cx="1366920" cy="1052640"/>
          </a:xfrm>
          <a:custGeom>
            <a:avLst/>
            <a:gdLst>
              <a:gd name="textAreaLeft" fmla="*/ 68040 w 1366920"/>
              <a:gd name="textAreaRight" fmla="*/ 1298880 w 13669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047" h="21600">
                <a:moveTo>
                  <a:pt x="0" y="0"/>
                </a:moveTo>
                <a:lnTo>
                  <a:pt x="28047" y="0"/>
                </a:lnTo>
                <a:lnTo>
                  <a:pt x="28047" y="21600"/>
                </a:lnTo>
                <a:lnTo>
                  <a:pt x="0" y="21600"/>
                </a:lnTo>
                <a:close/>
              </a:path>
              <a:path fill="lightenLess" w="28047" h="21600">
                <a:moveTo>
                  <a:pt x="0" y="0"/>
                </a:moveTo>
                <a:lnTo>
                  <a:pt x="28047" y="0"/>
                </a:lnTo>
                <a:lnTo>
                  <a:pt x="26647" y="1400"/>
                </a:lnTo>
                <a:lnTo>
                  <a:pt x="1400" y="1400"/>
                </a:lnTo>
                <a:close/>
              </a:path>
              <a:path fill="darken" w="28047" h="21600">
                <a:moveTo>
                  <a:pt x="28047" y="0"/>
                </a:moveTo>
                <a:lnTo>
                  <a:pt x="28047" y="21600"/>
                </a:lnTo>
                <a:lnTo>
                  <a:pt x="26647" y="20200"/>
                </a:lnTo>
                <a:lnTo>
                  <a:pt x="26647" y="1400"/>
                </a:lnTo>
                <a:close/>
              </a:path>
              <a:path fill="darkenLess" w="28047" h="21600">
                <a:moveTo>
                  <a:pt x="28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7" y="20200"/>
                </a:lnTo>
                <a:close/>
              </a:path>
              <a:path fill="lighten" w="28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47" h="21600">
                <a:moveTo>
                  <a:pt x="7017" y="3794"/>
                </a:moveTo>
                <a:lnTo>
                  <a:pt x="21030" y="10800"/>
                </a:lnTo>
                <a:lnTo>
                  <a:pt x="701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12"/>
          <p:cNvSpPr txBox="1"/>
          <p:nvPr/>
        </p:nvSpPr>
        <p:spPr>
          <a:xfrm>
            <a:off x="1619280" y="0"/>
            <a:ext cx="547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йдите   НОК   2 - х    чисел  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  и  12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1116000" y="2708280"/>
            <a:ext cx="934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6300720" y="2421000"/>
            <a:ext cx="79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9"/>
          <p:cNvSpPr txBox="1"/>
          <p:nvPr/>
        </p:nvSpPr>
        <p:spPr>
          <a:xfrm>
            <a:off x="3780000" y="4149720"/>
            <a:ext cx="86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9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AutoShape 9">
            <a:hlinkClick r:id="" action="ppaction://hlinkshowjump?jump=nextslide"/>
          </p:cNvPr>
          <p:cNvSpPr/>
          <p:nvPr/>
        </p:nvSpPr>
        <p:spPr>
          <a:xfrm>
            <a:off x="6804000" y="5805360"/>
            <a:ext cx="1366920" cy="1052640"/>
          </a:xfrm>
          <a:custGeom>
            <a:avLst/>
            <a:gdLst>
              <a:gd name="textAreaLeft" fmla="*/ 68040 w 1366920"/>
              <a:gd name="textAreaRight" fmla="*/ 1298880 w 13669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047" h="21600">
                <a:moveTo>
                  <a:pt x="0" y="0"/>
                </a:moveTo>
                <a:lnTo>
                  <a:pt x="28047" y="0"/>
                </a:lnTo>
                <a:lnTo>
                  <a:pt x="28047" y="21600"/>
                </a:lnTo>
                <a:lnTo>
                  <a:pt x="0" y="21600"/>
                </a:lnTo>
                <a:close/>
              </a:path>
              <a:path fill="lightenLess" w="28047" h="21600">
                <a:moveTo>
                  <a:pt x="0" y="0"/>
                </a:moveTo>
                <a:lnTo>
                  <a:pt x="28047" y="0"/>
                </a:lnTo>
                <a:lnTo>
                  <a:pt x="26647" y="1400"/>
                </a:lnTo>
                <a:lnTo>
                  <a:pt x="1400" y="1400"/>
                </a:lnTo>
                <a:close/>
              </a:path>
              <a:path fill="darken" w="28047" h="21600">
                <a:moveTo>
                  <a:pt x="28047" y="0"/>
                </a:moveTo>
                <a:lnTo>
                  <a:pt x="28047" y="21600"/>
                </a:lnTo>
                <a:lnTo>
                  <a:pt x="26647" y="20200"/>
                </a:lnTo>
                <a:lnTo>
                  <a:pt x="26647" y="1400"/>
                </a:lnTo>
                <a:close/>
              </a:path>
              <a:path fill="darkenLess" w="28047" h="21600">
                <a:moveTo>
                  <a:pt x="28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47" y="20200"/>
                </a:lnTo>
                <a:close/>
              </a:path>
              <a:path fill="lighten" w="28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47" h="21600">
                <a:moveTo>
                  <a:pt x="7017" y="3794"/>
                </a:moveTo>
                <a:lnTo>
                  <a:pt x="21030" y="10800"/>
                </a:lnTo>
                <a:lnTo>
                  <a:pt x="7017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>
            <a:off x="1258920" y="333360"/>
            <a:ext cx="5905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  бывают   дроби  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900000" y="2421000"/>
            <a:ext cx="38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тые   и   сложные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3708360" y="3429000"/>
            <a:ext cx="316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олько   лёгк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971640" y="4581360"/>
            <a:ext cx="5100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тые   и   десятич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6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755640" y="333360"/>
            <a:ext cx="6972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83d68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   невыполнимый   вопрос!</a:t>
            </a:r>
            <a:endParaRPr b="0" lang="en-US" sz="1800" spc="1" strike="noStrike">
              <a:ln w="9360">
                <a:solidFill>
                  <a:srgbClr val="b83d68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3"/>
          <p:cNvSpPr txBox="1"/>
          <p:nvPr/>
        </p:nvSpPr>
        <p:spPr>
          <a:xfrm>
            <a:off x="179280" y="5373720"/>
            <a:ext cx="782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83d68"/>
                  </a:solidFill>
                  <a:miter/>
                </a:ln>
                <a:solidFill>
                  <a:srgbClr val="ff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бы   перейти   к   вопросу   нажмите   на   кнопку</a:t>
            </a:r>
            <a:endParaRPr b="0" lang="en-US" sz="1800" spc="1" strike="noStrike">
              <a:ln w="9360">
                <a:solidFill>
                  <a:srgbClr val="b83d68"/>
                </a:solidFill>
                <a:miter/>
              </a:ln>
              <a:solidFill>
                <a:srgbClr val="ff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4">
            <a:hlinkClick r:id="" action="ppaction://hlinkshowjump?jump=nextslide"/>
          </p:cNvPr>
          <p:cNvSpPr/>
          <p:nvPr/>
        </p:nvSpPr>
        <p:spPr>
          <a:xfrm>
            <a:off x="539640" y="1557360"/>
            <a:ext cx="7056720" cy="3527280"/>
          </a:xfrm>
          <a:custGeom>
            <a:avLst/>
            <a:gdLst>
              <a:gd name="textAreaLeft" fmla="*/ 228600 w 7056720"/>
              <a:gd name="textAreaRight" fmla="*/ 6828120 w 7056720"/>
              <a:gd name="textAreaTop" fmla="*/ 228600 h 3527280"/>
              <a:gd name="textAreaBottom" fmla="*/ 3298680 h 3527280"/>
            </a:gdLst>
            <a:ahLst/>
            <a:rect l="textAreaLeft" t="textAreaTop" r="textAreaRight" b="textAreaBottom"/>
            <a:pathLst>
              <a:path w="43211" h="21600">
                <a:moveTo>
                  <a:pt x="0" y="0"/>
                </a:moveTo>
                <a:lnTo>
                  <a:pt x="43211" y="0"/>
                </a:lnTo>
                <a:lnTo>
                  <a:pt x="43211" y="21600"/>
                </a:lnTo>
                <a:lnTo>
                  <a:pt x="0" y="21600"/>
                </a:lnTo>
                <a:close/>
              </a:path>
              <a:path fill="lightenLess" w="43211" h="21600">
                <a:moveTo>
                  <a:pt x="0" y="0"/>
                </a:moveTo>
                <a:lnTo>
                  <a:pt x="43211" y="0"/>
                </a:lnTo>
                <a:lnTo>
                  <a:pt x="41811" y="1400"/>
                </a:lnTo>
                <a:lnTo>
                  <a:pt x="1400" y="1400"/>
                </a:lnTo>
                <a:close/>
              </a:path>
              <a:path fill="darken" w="43211" h="21600">
                <a:moveTo>
                  <a:pt x="43211" y="0"/>
                </a:moveTo>
                <a:lnTo>
                  <a:pt x="43211" y="21600"/>
                </a:lnTo>
                <a:lnTo>
                  <a:pt x="41811" y="20200"/>
                </a:lnTo>
                <a:lnTo>
                  <a:pt x="41811" y="1400"/>
                </a:lnTo>
                <a:close/>
              </a:path>
              <a:path fill="darkenLess" w="43211" h="21600">
                <a:moveTo>
                  <a:pt x="432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1" y="20200"/>
                </a:lnTo>
                <a:close/>
              </a:path>
              <a:path fill="lighten" w="432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1" h="21600">
                <a:moveTo>
                  <a:pt x="14599" y="3794"/>
                </a:moveTo>
                <a:lnTo>
                  <a:pt x="28612" y="10800"/>
                </a:lnTo>
                <a:lnTo>
                  <a:pt x="14599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6"/>
          <p:cNvSpPr txBox="1"/>
          <p:nvPr/>
        </p:nvSpPr>
        <p:spPr>
          <a:xfrm>
            <a:off x="1116000" y="260280"/>
            <a:ext cx="612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олько   будет   3201 +  633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1042920" y="2708280"/>
            <a:ext cx="18003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66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WordArt 8"/>
          <p:cNvSpPr txBox="1"/>
          <p:nvPr/>
        </p:nvSpPr>
        <p:spPr>
          <a:xfrm>
            <a:off x="2484360" y="4508640"/>
            <a:ext cx="2232000" cy="92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36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WordArt 9"/>
          <p:cNvSpPr txBox="1"/>
          <p:nvPr/>
        </p:nvSpPr>
        <p:spPr>
          <a:xfrm>
            <a:off x="5148360" y="2708280"/>
            <a:ext cx="201600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53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AutoShape 5">
            <a:hlinkClick r:id="" action="ppaction://hlinkshowjump?jump=nextslide"/>
          </p:cNvPr>
          <p:cNvSpPr/>
          <p:nvPr/>
        </p:nvSpPr>
        <p:spPr>
          <a:xfrm>
            <a:off x="6804000" y="5734080"/>
            <a:ext cx="1368360" cy="1123920"/>
          </a:xfrm>
          <a:custGeom>
            <a:avLst/>
            <a:gdLst>
              <a:gd name="textAreaLeft" fmla="*/ 72720 w 1368360"/>
              <a:gd name="textAreaRight" fmla="*/ 1295640 w 1368360"/>
              <a:gd name="textAreaTop" fmla="*/ 72720 h 1123920"/>
              <a:gd name="textAreaBottom" fmla="*/ 1051200 h 112392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2" y="3794"/>
                </a:moveTo>
                <a:lnTo>
                  <a:pt x="20155" y="10800"/>
                </a:lnTo>
                <a:lnTo>
                  <a:pt x="6142" y="17806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2323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3ff28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5"/>
          <p:cNvSpPr txBox="1"/>
          <p:nvPr/>
        </p:nvSpPr>
        <p:spPr>
          <a:xfrm>
            <a:off x="755640" y="2143080"/>
            <a:ext cx="71294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 за   внимание !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">
            <a:hlinkClick r:id="" action="ppaction://hlinkshowjump?jump=endshow"/>
          </p:cNvPr>
          <p:cNvSpPr/>
          <p:nvPr/>
        </p:nvSpPr>
        <p:spPr>
          <a:xfrm>
            <a:off x="6804000" y="6021360"/>
            <a:ext cx="1368360" cy="836640"/>
          </a:xfrm>
          <a:custGeom>
            <a:avLst/>
            <a:gdLst>
              <a:gd name="textAreaLeft" fmla="*/ 54000 w 1368360"/>
              <a:gd name="textAreaRight" fmla="*/ 1314360 w 136836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5322" h="21600">
                <a:moveTo>
                  <a:pt x="0" y="0"/>
                </a:moveTo>
                <a:lnTo>
                  <a:pt x="35322" y="0"/>
                </a:lnTo>
                <a:lnTo>
                  <a:pt x="35322" y="21600"/>
                </a:lnTo>
                <a:lnTo>
                  <a:pt x="0" y="21600"/>
                </a:lnTo>
                <a:close/>
              </a:path>
              <a:path fill="lightenLess" w="35322" h="21600">
                <a:moveTo>
                  <a:pt x="0" y="0"/>
                </a:moveTo>
                <a:lnTo>
                  <a:pt x="35322" y="0"/>
                </a:lnTo>
                <a:lnTo>
                  <a:pt x="33922" y="1400"/>
                </a:lnTo>
                <a:lnTo>
                  <a:pt x="1400" y="1400"/>
                </a:lnTo>
                <a:close/>
              </a:path>
              <a:path fill="darken" w="35322" h="21600">
                <a:moveTo>
                  <a:pt x="35322" y="0"/>
                </a:moveTo>
                <a:lnTo>
                  <a:pt x="35322" y="21600"/>
                </a:lnTo>
                <a:lnTo>
                  <a:pt x="33922" y="20200"/>
                </a:lnTo>
                <a:lnTo>
                  <a:pt x="33922" y="1400"/>
                </a:lnTo>
                <a:close/>
              </a:path>
              <a:path fill="darkenLess" w="35322" h="21600">
                <a:moveTo>
                  <a:pt x="35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2" y="20200"/>
                </a:lnTo>
                <a:close/>
              </a:path>
              <a:path fill="lighten" w="35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2" h="21600">
                <a:moveTo>
                  <a:pt x="17661" y="3837"/>
                </a:moveTo>
                <a:lnTo>
                  <a:pt x="20237" y="6448"/>
                </a:lnTo>
                <a:lnTo>
                  <a:pt x="20237" y="4707"/>
                </a:lnTo>
                <a:lnTo>
                  <a:pt x="22013" y="4707"/>
                </a:lnTo>
                <a:lnTo>
                  <a:pt x="22013" y="8224"/>
                </a:lnTo>
                <a:lnTo>
                  <a:pt x="24624" y="10800"/>
                </a:lnTo>
                <a:lnTo>
                  <a:pt x="22970" y="10800"/>
                </a:lnTo>
                <a:lnTo>
                  <a:pt x="22970" y="17989"/>
                </a:lnTo>
                <a:lnTo>
                  <a:pt x="12352" y="17989"/>
                </a:lnTo>
                <a:lnTo>
                  <a:pt x="12352" y="10800"/>
                </a:lnTo>
                <a:lnTo>
                  <a:pt x="10698" y="10800"/>
                </a:lnTo>
                <a:close/>
              </a:path>
              <a:path fill="darkenLess" w="35322" h="21600">
                <a:moveTo>
                  <a:pt x="20237" y="6448"/>
                </a:moveTo>
                <a:lnTo>
                  <a:pt x="20237" y="4707"/>
                </a:lnTo>
                <a:lnTo>
                  <a:pt x="22013" y="4707"/>
                </a:lnTo>
                <a:lnTo>
                  <a:pt x="22013" y="8224"/>
                </a:lnTo>
                <a:close/>
              </a:path>
              <a:path fill="darkenLess" w="35322" h="21600">
                <a:moveTo>
                  <a:pt x="16738" y="14299"/>
                </a:moveTo>
                <a:lnTo>
                  <a:pt x="18583" y="14299"/>
                </a:lnTo>
                <a:lnTo>
                  <a:pt x="18583" y="17989"/>
                </a:lnTo>
                <a:lnTo>
                  <a:pt x="22970" y="17989"/>
                </a:lnTo>
                <a:lnTo>
                  <a:pt x="22970" y="10800"/>
                </a:lnTo>
                <a:lnTo>
                  <a:pt x="12352" y="10800"/>
                </a:lnTo>
                <a:lnTo>
                  <a:pt x="12352" y="17989"/>
                </a:lnTo>
                <a:lnTo>
                  <a:pt x="16738" y="17989"/>
                </a:ln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11:40:50Z</dcterms:created>
  <dc:creator>ученик</dc:creator>
  <dc:description/>
  <dc:language>en-US</dc:language>
  <cp:lastModifiedBy>Галина</cp:lastModifiedBy>
  <dcterms:modified xsi:type="dcterms:W3CDTF">2018-10-28T12:45:55Z</dcterms:modified>
  <cp:revision>18</cp:revision>
  <dc:subject/>
  <dc:title>Слайд 1</dc:title>
</cp:coreProperties>
</file>